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07E-6524-45F3-B3FA-4648AF81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358-4001-4860-B15F-7FB8C3F3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2EC-ED98-43AD-BBEF-87EAB7C0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AF4-80DF-43C7-B7EA-BD6AEF2D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4E43-4E0C-4484-9FDB-EE04D784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05C1-4FDD-4BDD-BC18-FDD7623A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B3D1-31B0-4195-809B-D4074D98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5762-7EC0-4369-80BA-C708D0AD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93FA-8D21-469C-8FC1-A9B3F098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2AAC-9296-448A-8E0E-8EA093BE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A9E0-E98F-46ED-BBE0-EDA57FAF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796-93C5-49D5-94BA-270BF501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6B13-9748-4868-B504-3F8033CE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5C80-30BB-40EF-8301-9D4F7296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5D1B-F460-4BDE-AA8A-CAB3AF1B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AF52-CA99-49EC-B389-7ECD9930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6DEA-5043-4E2C-B0AD-F5EFDFE4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2D5-2FC9-4B24-B188-D7C0C84E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426-5CBC-40EE-B1D7-176E5933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E8B-2055-4FB9-B541-F74F8FBC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2A0-F830-43FC-B6AA-4D6A6991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B9A-97D1-42AF-BB8D-E21A0E59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861-51A1-4F67-9361-67F4F91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830-8F1C-4F26-8794-86FB3EAC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AD87-C09C-46D7-BDB6-B0CD7D3619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F5E5-7CA0-40E1-9FE8-29C6F335E7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boratorio 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dades relativas de Litoso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47628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stratificación cru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1843200"/>
            <a:ext cx="7488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5078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47628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stratificación cru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88360" cy="4959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47628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stratificación grad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103640" cy="2835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Impacto de gotas de lluvia (Desierto Atacama / Qda. Paipote)"/>
          <p:cNvPicPr/>
          <p:nvPr/>
        </p:nvPicPr>
        <p:blipFill>
          <a:blip r:embed="rId2"/>
          <a:stretch/>
        </p:blipFill>
        <p:spPr>
          <a:xfrm>
            <a:off x="4211640" y="3645000"/>
            <a:ext cx="4546440" cy="29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47628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otas de lluv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rietas de sec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774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alcos de car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7564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2360" y="692280"/>
            <a:ext cx="849636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uellas de organis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51134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91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4170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o de métodos para determinar las edades relativas de las rocas que se observan en un aflora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ados en los principios o hipótesis de trabajo (revisadas en el laboratorio anteri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6327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76108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umen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uperposi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Horizontalidad Origin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Continuidad lateral origin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Uniformitarianism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ucesión Fauníst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Catastrofism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dades relativ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00360" y="1916280"/>
            <a:ext cx="50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84720" y="249228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788000" y="5516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umen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perposición: Estratos más antiguos en la base y más nuevos hacia el t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Horizontabilidad Original: Sedimentos se depositan en capas subhorizont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dades Relativas: se infieren observando las relaciones de contacto entre estratos y las relaciones de cor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iterios de Polaridad Verti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 usan para determinar el techo y base de los estra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uede ser positiva o nega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 determinan en base a distintos criterios (sedimentológicos, estructurales, etc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464000" cy="224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524480" cy="2274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aridad Verti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7715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ados en la forma de litosomas (estratos con base o techo erosivos, lentes, arrecifes,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ados en estructuras sedimentaria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rdenamiento interno (ondulitas, estratificación gradada e inversa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uperficies de estratificación (gotas de lluvia, grietas de secamiento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formación de estratos (calcos de carga, almohadilla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ados en huellas de organis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ados en estructuras tectón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iterios de Polaridad Vert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34052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nt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438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ahoma"/>
              </a:rPr>
              <a:t>Ondulit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9930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20:14:12Z</dcterms:created>
  <dc:creator>Gonzalo Huerta Vásquez</dc:creator>
  <dc:description/>
  <dc:language>en-US</dc:language>
  <cp:lastModifiedBy>Gonzalo Huerta Vásquez</cp:lastModifiedBy>
  <dcterms:modified xsi:type="dcterms:W3CDTF">2007-08-06T04:03:56Z</dcterms:modified>
  <cp:revision>8</cp:revision>
  <dc:subject/>
  <dc:title>Laboratorio II: Edades relativas de Litosomas</dc:title>
</cp:coreProperties>
</file>