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152-549E-4316-9B0A-B1AEDCB8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F8D-A0A4-4702-BDFA-4C8B2375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947-E87A-4765-ACB6-3F78A46F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06D-279C-4398-BFD2-321D2F87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57C8-B7BE-41F5-BAC7-562F5ACE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CE95-0C7D-4761-8A74-AE4D5843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3E1C-C6B8-478B-957E-201B2EEC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FF44-F61E-4D43-9D96-84C0166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6807-E65A-4F2C-8A73-FC8A7B59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4C6B-2079-4CA2-B7B5-49045464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F165-9249-4269-98DF-4D0C2874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CF6-E9C9-4D13-BEE6-6F4E931A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D4CE-EB43-4A6E-B888-8C14D55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CFC5-41D2-4F95-9246-C16485B6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DE77-22A5-4F05-9D04-5E14265C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0E38-7A3B-4A62-AE06-3BC1FD5A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1BAA-60D3-4006-BEB6-460A6BEB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8FC-A635-4D29-9FD4-207CAC6B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6FD-B180-47B8-96FF-39562B1B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53B-7078-424E-BF61-2F733866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654-DDD0-42E9-94E1-9ED49325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82B-4D65-4431-A669-61FDB846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24F-654B-409C-9651-6F3FCB77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655-7AE6-4D85-800B-E3BE0566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5B9-92E2-4A87-A450-57EDFC6711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AF8-0BAB-4A49-AFC5-281E2D744F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dades relativas de Litoso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47628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stratificación cru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1843200"/>
            <a:ext cx="7488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5078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47628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stratificación cru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88360" cy="4959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47628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stratificación grad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103640" cy="2835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Impacto de gotas de lluvia (Desierto Atacama / Qda. Paipote)"/>
          <p:cNvPicPr/>
          <p:nvPr/>
        </p:nvPicPr>
        <p:blipFill>
          <a:blip r:embed="rId2"/>
          <a:stretch/>
        </p:blipFill>
        <p:spPr>
          <a:xfrm>
            <a:off x="4211640" y="3645000"/>
            <a:ext cx="454644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47628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otas de lluv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rietas de sec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774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lcos de car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7564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2360" y="692280"/>
            <a:ext cx="849636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uellas de organis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1134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1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4170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o de métodos para determinar las edades relativas de las rocas que se observan en un aflora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ados en los principios o hipótesis de trabajo (revisadas en el laboratorio anteri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6327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76108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me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uperposi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Horizontalidad Origi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Continuidad lateral origi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Uniformitarianism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ucesión Fauníst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Catastrofism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dades relativ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00360" y="1916280"/>
            <a:ext cx="50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84720" y="24922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88000" y="5516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me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perposición: Estratos más antiguos en la base y más nuevos hacia el t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orizontabilidad Original: Sedimentos se depositan en capas subhorizont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dades Relativas: se infieren observando las relaciones de contacto entre estratos y las relaciones de cor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iterios de Polaridad Verti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 usan para determinar el techo y base de los estra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uede ser positiva o neg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 determinan en base a distintos criterios (sedimentológicos, estructurales, etc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464000" cy="224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524480" cy="2274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aridad Verti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7715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ados en la forma de litosomas (estratos con base o techo erosivos, lentes, arrecifes,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ados en estructuras sedimentaria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denamiento interno (ondulitas, estratificación gradada e inversa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uperficies de estratificación (gotas de lluvia, grietas de secamiento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formación de estratos (calcos de carga, almohadilla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ados en huellas de organis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ados en estructuras tectón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iterios de Polaridad Vert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34052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nt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438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ahoma"/>
              </a:rPr>
              <a:t>Ondulit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930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20:14:12Z</dcterms:created>
  <dc:creator>Gonzalo Huerta Vásquez</dc:creator>
  <dc:description/>
  <dc:language>en-US</dc:language>
  <cp:lastModifiedBy>Gonzalo Huerta Vásquez</cp:lastModifiedBy>
  <dcterms:modified xsi:type="dcterms:W3CDTF">2007-08-06T04:03:56Z</dcterms:modified>
  <cp:revision>8</cp:revision>
  <dc:subject/>
  <dc:title>Laboratorio II: Edades relativas de Litosomas</dc:title>
</cp:coreProperties>
</file>