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545-CA34-41E0-BAD5-BBCE6E71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9B6-740E-428A-87AF-94E88C8B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7B5-5C18-4455-A695-70F4EA44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2BC-30F5-495C-A53D-8F7C2713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ABA-C9E3-4477-B1A2-7661FFE9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4CB-EE06-4EAF-AD96-7BB9EC85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13D-1358-44A1-B6EB-3860F2F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299-B18B-456A-BD6C-7DC5CE2F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1A1-FE78-4022-90E5-BAFDE60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D3A-37E6-4FAD-B4F8-93DA782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4B1-39F5-4BA3-8BFE-0DDE2E41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B2F-0DC1-448F-9704-7C306875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499E-F995-45C4-B4C1-45027818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o I: Columnas Estratigrá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41E – Estratigrafía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. Continuidad lateral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estratos se extienden en todas direcciones de manera finita, pudiendo éstos truncarse, acuñarse, interdigitarse o grad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3949920" cy="232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3317760"/>
            <a:ext cx="61927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9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iformitarianismo (Hutton, 17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esente es la llave del pasado”, esto es, los procesos que son observados hoy, son también observados en el pasado ge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cesión Biológica o Faunística (Smith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vida (y por ende los fósiles) en los diferentes períodos de la historia de la Tierra difieren entre sí, por lo que depósitos contemporáneos pueden correlacionarse y reconstruir una secuencia cronológica del registro estrati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8748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astrofismo (Cuvier y Brongniart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 estratos son separados comúnmente por cambios abruptos en el registro fósil, indicando grandes catástrofes en diferentes tiempos de la historia de la Tierra. (Gaps en el registro fós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9218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ades relativas (Lyell, 18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edades relativas de los estratos pueden inferirse viendo las relaciones de contacto entre ellos (concordantes, discordantes, gaps) y las relaciones de corte (intrusivos, fal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7058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0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i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a de la Geología que se ocupa del estudio (identificación, descripción, clasificación, subdivisión) e interpretación de las unidades de rocas agrupadas por características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1280"/>
            <a:ext cx="88934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0360" y="765000"/>
            <a:ext cx="838836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Estrati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sor de la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eza rel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n estar representadas las relaciones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siles y estructuras sedimen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n o no estar representados los intr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os de los estratos NO  se toman e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ótesi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erposición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una secuencia de estratos no deformada, aquellos más antiguos se ubican en la base y los más nuevos hacia el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936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16360" y="90792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os de p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57480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4448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05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izontalidad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positación de material sedimentario es en capas horizontales a subhorizontales, paralelo a la superficie de deposición (estratos inclinados indican una deformación post-deposi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471680"/>
            <a:ext cx="8353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1:02:33Z</dcterms:created>
  <dc:creator>Gonzalo Huerta Vásquez</dc:creator>
  <dc:description/>
  <dc:language>en-US</dc:language>
  <cp:lastModifiedBy>Gonzalo Huerta Vásquez</cp:lastModifiedBy>
  <dcterms:modified xsi:type="dcterms:W3CDTF">2007-07-30T03:35:41Z</dcterms:modified>
  <cp:revision>8</cp:revision>
  <dc:subject/>
  <dc:title>Laboratorio I: Columnas Estratigráficas</dc:title>
</cp:coreProperties>
</file>