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B30-CD69-44E5-A926-EADB22D1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C55-47BD-40D4-AC14-5419FA0E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3CF-DFE6-44C1-AA3F-1D678ED2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CEA-9659-41E2-B0FE-26F4D86B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1E5-0CAB-4074-A15A-26F75B46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D09-6215-4E45-8DD6-055DD74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46C-860A-4845-B6D2-CEEA3ECE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A97-3403-4F9C-AF55-B87EEAC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F48-6715-4AD6-B2C6-CF25CE23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47AF-3F97-407B-AD8A-D3BAD9F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A80-6E95-4EFD-8024-55059115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046-4BC5-4F18-9466-729B671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3ED-9144-4C5A-A1DC-3575D20B5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o I: Columnas Estratigráf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41E – Estratigrafía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0920" y="11250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. Continuidad lateral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estratos se extienden en todas direcciones de manera finita, pudiendo éstos truncarse, acuñarse, interdigitarse o grad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3949920" cy="2323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3317760"/>
            <a:ext cx="6192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826560" y="1341360"/>
            <a:ext cx="79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formitarianismo (Hutton, 17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presente es la llave del pasado”, esto es, los procesos que son observados hoy, son también observados en el pasado ge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cesión Biológica o Faunística (Smith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vida (y por ende los fósiles) en los diferentes períodos de la historia de la Tierra difieren entre sí, por lo que depósitos contemporáneos pueden correlacionarse y reconstruir una secuencia cronológica del registro estratig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942840"/>
            <a:ext cx="8748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tastrofismo (Cuvier y Brongniart, 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upos de estratos son separados comúnmente por cambios abruptos en el registro fósil, indicando grandes catástrofes en diferentes tiempos de la historia de la Tierra. (Gaps en el registro fós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9218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dades relativas (Lyell, 18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edades relativas de los estratos pueden inferirse viendo las relaciones de contacto entre ellos (concordantes, discordantes, gaps) y las relaciones de corte (intrusivos, fall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705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040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i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a de la Geología que se ocupa del estudio (identificación, descripción, clasificación, subdivisión) e interpretación de las unidades de rocas agrupadas por características simi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1280"/>
            <a:ext cx="88934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0360" y="765000"/>
            <a:ext cx="838836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umna Estratigrá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sor de la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eza rel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b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n estar representadas las relaciones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siles y estructuras sedimen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n o no estar representados los intru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os de los estratos NO  se toman e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pótesi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erposición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una secuencia de estratos no deformada, aquellos más antiguos se ubican en la base y los más nuevos hacia el t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92936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16360" y="90792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erios de pola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574800" cy="180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344484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056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izontalidad Original (Steensen, 16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positación de material sedimentario es en capas horizontales a subhorizontales, paralelo a la superficie de deposición (estratos inclinados indican una deformación post-deposi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7854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471680"/>
            <a:ext cx="83534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1:02:33Z</dcterms:created>
  <dc:creator>Gonzalo Huerta Vásquez</dc:creator>
  <dc:description/>
  <dc:language>en-US</dc:language>
  <cp:lastModifiedBy>Gonzalo Huerta Vásquez</cp:lastModifiedBy>
  <dcterms:modified xsi:type="dcterms:W3CDTF">2007-07-30T03:35:41Z</dcterms:modified>
  <cp:revision>8</cp:revision>
  <dc:subject/>
  <dc:title>Laboratorio I: Columnas Estratigráficas</dc:title>
</cp:coreProperties>
</file>