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635-1D0C-45AA-B95F-1D7073DC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E89-3074-441A-9907-187709B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D16-ECA9-4EB8-B9D8-3052A464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831-F6F8-40F5-B28D-EE10AB1B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0F5-BFCD-4541-8D08-2C5F20F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999-B918-49FD-BD35-7D71E62D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A88-CD30-45B8-935D-6B776206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904-F1FA-48ED-85DA-08A9B046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922-2DA0-4031-BE16-30412725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7CC-057B-44C6-AA89-E094392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1DF-D3C8-4423-A0B9-6F82261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087-56C2-4D40-9BAD-69DDAD4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994-D7EB-4E2C-B5BF-2B838FE3C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o I: Columnas Estrati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41E – Estratigrafía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. Continuidad lateral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estratos se extienden en todas direcciones de manera finita, pudiendo éstos truncarse, acuñarse, interdigitarse o grad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3949920" cy="23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3317760"/>
            <a:ext cx="6192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formitarianismo (Hutton, 17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esente es la llave del pasado”, esto es, los procesos que son observados hoy, son también observados en el pasado ge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cesión Biológica o Faunística (Smith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ida (y por ende los fósiles) en los diferentes períodos de la historia de la Tierra difieren entre sí, por lo que depósitos contemporáneos pueden correlacionarse y reconstruir una secuencia cronológica del registro estrati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748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astrofismo (Cuvier y Brongniart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 estratos son separados comúnmente por cambios abruptos en el registro fósil, indicando grandes catástrofes en diferentes tiempos de la historia de la Tierra. (Gaps en el registro fós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9218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ades relativas (Lyell, 18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dades relativas de los estratos pueden inferirse viendo las relaciones de contacto entre ellos (concordantes, discordantes, gaps) y las relaciones de corte (intrusivos, f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05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i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a de la Geología que se ocupa del estudio (identificación, descripción, clasificación, subdivisión) e interpretación de las unidades de rocas agrupadas por característica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1280"/>
            <a:ext cx="8893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38836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Estrati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sor de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e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n estar representadas las relaciones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siles y estructuras sedimen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o no estar representados los intr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os de los estratos NO  se toman e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ótesi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erposición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una secuencia de estratos no deformada, aquellos más antiguos se ubican en la base y los más nuevos hacia el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936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16360" y="90792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p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57480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444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05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izontalidad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positación de material sedimentario es en capas horizontales a subhorizontales, paralelo a la superficie de deposición (estratos inclinados indican una deformación post-deposi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3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02:33Z</dcterms:created>
  <dc:creator>Gonzalo Huerta Vásquez</dc:creator>
  <dc:description/>
  <dc:language>en-US</dc:language>
  <cp:lastModifiedBy>Gonzalo Huerta Vásquez</cp:lastModifiedBy>
  <dcterms:modified xsi:type="dcterms:W3CDTF">2007-07-30T03:35:41Z</dcterms:modified>
  <cp:revision>8</cp:revision>
  <dc:subject/>
  <dc:title>Laboratorio I: Columnas Estratigráficas</dc:title>
</cp:coreProperties>
</file>