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907-84D8-4E57-A58F-90E05D79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A4A-E369-4EF7-9760-DAF3D77F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FF7-4842-4A78-BBC7-15EFBDD5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64F-D79D-4306-8774-DF93B7CE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5584-AF88-49B0-B8AC-22A3C4F5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5B83-4BA5-4A51-9BAA-AD8F70AB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7F54-77F6-46A8-8F34-EB7EEE40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3D83-D4B9-4956-9383-677AC334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620A-22D1-4261-A271-97F52548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D194-3A5C-4866-AD56-1891D7AA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0AD0-0021-47B6-B340-DF891FAF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D62-EA39-4871-9A02-4C64AEBB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1FC4-0081-4F88-BD89-956B0041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C2F8-AE08-453B-86EF-5AB8A178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B275-E15E-45D3-B5ED-A52D5B08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3D2-3E9A-4C56-93C0-F32B34EC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49EF-1849-4364-85E5-F60FFA2C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5C8-C9AF-4B23-AF46-DFB65A6D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18E-3255-49C1-8661-17D31E31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97F-CEE6-4BEE-8AD4-A02D7F56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1CC-12F3-48A1-A67F-257716B4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D29-81D0-45A4-831D-119A60F5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F31-0350-4647-A7F1-33C378C0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5EA-A233-46EE-A30E-512FB7E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C256-B9C3-44C8-9FD5-A9F7DD3DBD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FE2A-2F38-43F6-9725-21016A0766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Metamorfismo de contacto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KAR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damentos de Petrolog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. Carolina So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onación Espacio-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Razón Granate / Piroxeno </a:t>
            </a:r>
            <a:r>
              <a:rPr b="1" lang="es-ES" sz="3600" spc="-1" strike="noStrike">
                <a:solidFill>
                  <a:srgbClr val="008000"/>
                </a:solidFill>
                <a:latin typeface="Arial Black"/>
              </a:rPr>
              <a:t>(alta razón indica proximidad al contacto con el cuerpo intrusivo</a:t>
            </a:r>
            <a:r>
              <a:rPr b="1" lang="es-ES" sz="2400" spc="-1" strike="noStrike">
                <a:solidFill>
                  <a:srgbClr val="008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granate + composición 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Gte Ca-Fe (andradita) próximos v/s Ca-Al (grossulari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piroxeno + composición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Px Ca-Mg (diópsido)próximos v/s Ca-Fe (hedenbergit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ida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oca granular consistente en silicatos de Ca (ej. Granate, piroxeno, anfíbola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uede tener mineralización: depósitos tipo Ska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ormados durante metamorfismo de contacto o regional, por procesos metasomáticos involucrando fluidos magmáticos, metamórficos, meteóricos y/o mari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encuentran en zonas cercanas a una intrusión, a lo largo de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n formarse también en ausencia de calizas, en rocas como areniscas, limonitas, granito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stados: PRÓGRADOS, RETRÓG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eracción magma-roca de ca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entamiento de roca de caja y sus fluid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gradiente T alrededor de la intru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Volatilización de componentes de la roca de caja (mayormente CO2, también H2O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teracción y reacción de fluidos magmáticos exsueltos con la roca de caja y sus fluidos, así como con fluidos meteóricos infiltr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40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ineralogía Típ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467280" y="1700280"/>
            <a:ext cx="315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e en la may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os Sk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x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fí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5080" y="1844640"/>
            <a:ext cx="213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1844640"/>
            <a:ext cx="162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565360"/>
            <a:ext cx="83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Estado P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xsolución de fluidos desde un magma en enfr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cción del fluido magmático, usualmente rico en Si y Fe, con carbona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aO(s) + FeO(aq) + 2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FeSi2O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3CaO(s) + Fe2O3(aq) + 3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3Fe2(SiO4)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ormación de silicatos-Ca anhidros (en su mayoría granate y piroxen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Zonación mineral en estado prógrad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494880" y="1916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 ska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2240" y="3352680"/>
            <a:ext cx="7881840" cy="870840"/>
            <a:chOff x="912240" y="3352680"/>
            <a:chExt cx="7881840" cy="870840"/>
          </a:xfrm>
        </p:grpSpPr>
        <p:sp>
          <p:nvSpPr>
            <p:cNvPr id="110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12480" y="376380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erde-amar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115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stado Ret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lacionado con enfriamiento, interacción con fluidos meteóricos, oxid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nerales anhidros prógrados sustituidos por silicatos hidratados (Ej. Clorita, epidota, anfíbola), óxidos de Fe (magnetita, hematita), calcita, cuarz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5CaFeSi2O6 + H2O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Ca2Fe5Si8O22(OH)2 + 3CaCO3 + 2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       actinol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3CaFeSi2O6 + 1/2O2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3O4 + 3CaCO3 + 6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magne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Ca3Fe2(SiO4)3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2O3 + 3CaCO3 + 3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hema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0:46:58Z</dcterms:created>
  <dc:creator>Secretaria</dc:creator>
  <dc:description/>
  <dc:language>en-US</dc:language>
  <cp:lastModifiedBy>AcerDos</cp:lastModifiedBy>
  <dcterms:modified xsi:type="dcterms:W3CDTF">2007-10-26T14:23:44Z</dcterms:modified>
  <cp:revision>3</cp:revision>
  <dc:subject/>
  <dc:title>Metamorfismo de contacto SKARNS</dc:title>
</cp:coreProperties>
</file>