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C2A0-1332-4DC6-8222-29A268799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4531-E3C4-43F8-8ED4-749D5A53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F14D-6001-4117-A411-72C2850E2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A941-BF3C-4A79-A91A-9F431EAE4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D6B5-7866-4B6B-835C-A85CBFDD5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1562-A682-4DA0-81AA-42DD135AD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8441-4A17-4007-8268-F69B0B3C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0519-DE9A-4A59-A0A6-750BCDE6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64BE-29A7-4FA4-9A8B-B58F0F19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8B93-7CA6-4EA4-B6D0-FF164A9A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7DCB-CC44-4AC9-A6E2-757B05BA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A77E-BAFA-4451-BEB4-56A5A10B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B860F-A95D-42D0-9A7F-D17B329A82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Hematite-1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660066"/>
                </a:solidFill>
                <a:latin typeface="Bradley Hand ITC"/>
              </a:rPr>
              <a:t>Óxidos, carbonatos y sulfat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Fundamentos de Petr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ScholHudson-Regular"/>
              </a:rPr>
              <a:t>Primavera 200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ragonito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95640" y="1844280"/>
            <a:ext cx="446256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olimorfo de alta presión de la calc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ortorrómb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piramidal acicular, tabular y en maclas pseudohexagon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ncoloro, blanquecino, amarill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 (mayor que la calc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se distingue de la calcita por su dureza y falta de exfoliación romboédr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menos estable que la calcita, se forma a baja temperatura, en depósitos superficiales. También en fuente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image45.jpg (48931 bytes)"/>
          <p:cNvPicPr/>
          <p:nvPr/>
        </p:nvPicPr>
        <p:blipFill>
          <a:blip r:embed="rId1"/>
          <a:stretch/>
        </p:blipFill>
        <p:spPr>
          <a:xfrm>
            <a:off x="826920" y="2133720"/>
            <a:ext cx="264024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Dolomita- CaMg(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140000" y="2133360"/>
            <a:ext cx="46083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cxs romboédricos, masas exfoliables granuladas finas o grues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rosa, incoloro, blanquecino, grisáceo, verdoso, pardo o negruz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3 ½ a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fervesce con HCl caliente, en polvo soluble en ácido fr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n masas rocosas formando calizas dolomíticas. De origen secundario formado a partir de sustitución de Ca por Mg en calizas ordinarias. También puede tener un origen hidrote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2276640"/>
            <a:ext cx="3454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Sulf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 su composición tienen el grupo iónico (S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32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Los sulfatos anhidros más importantes son el  grupo de la baritina y la anhidri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Entre los sulfatos hidratados, el yeso es el más importante y abunda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Baritina- B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467820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gralmente tabulares, a veces en forma de rombo, en láminas gruesas, granulares o terros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vítr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tonos pálidos azulados, amarillentos o rojiz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a 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exfoliación perfecta, alto peso específ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de origen hidrotermal o en rocas sedimentar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1654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nhidrita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67280" y="1773000"/>
            <a:ext cx="475272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ortorrómb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raros, cuando existen son tabulares gruesos. Gralmente en masas cristalinas, fibroso, granular o mac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 a azulado o violet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3 ½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res exfoliaciones en ángulos rectos. Se distingue de la calcita por su mayor peso específico, y del yeso por su mayor durez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asociada a yeso, en rocas sedimentarias, depósitos de sal (evaporitas), cavidades amigdaloid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454560" cy="25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Yeso- Ca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· 2H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  <a:ea typeface="Times New Roman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  <a:ea typeface="Times New Roman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360" y="1844280"/>
            <a:ext cx="453384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monoclí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</a:t>
            </a: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tabulares, rómbicos, maclas frecuentes (cola de golondrina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, perlado, sed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incoloro, blanco, gris, amarillo, rojo por impurez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recuente en rocas sedimentarias, en depósitos de sal, vetas, en regiones volcánicas por acción de vapores sulfuros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95280" y="2492280"/>
            <a:ext cx="3309840" cy="24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Alunita- KAl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S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(OH)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735280" cy="2199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284360" y="1916280"/>
            <a:ext cx="439092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hex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cxs piramidales, tabulares, en masa o disemin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vítreo a perlado en cxs. Terroso en me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blanco, gris o rojiz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4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 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formada generalmente por soluciones de ácido sulfúrico que actúan sobre rocas ricas en feldespato, origen hidrotermal, en ambiente de alta sulfuració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Alunita con pirofilita contaminada con azufre. Comerio PR"/>
          <p:cNvPicPr/>
          <p:nvPr/>
        </p:nvPicPr>
        <p:blipFill>
          <a:blip r:embed="rId2"/>
          <a:stretch/>
        </p:blipFill>
        <p:spPr>
          <a:xfrm>
            <a:off x="900000" y="4437000"/>
            <a:ext cx="27482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Óx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Compuestos en los que el oxígeno aparece combinado con uno o más me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simples: compuestos por un metal y oxígen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, XO,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Óxidos múltiples: tienen dos posiciones con átomos metálicos no equivalentes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3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hematit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Corindón 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Hema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Ilmenita Fe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Y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 la espinela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Espinela MgAl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,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Magnetita Fe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3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Cromita FeCr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4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Tipo XO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000000"/>
                </a:solidFill>
                <a:latin typeface="Garamond"/>
              </a:rPr>
              <a:t>: Grupo del rutilo 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(Rutilo Ti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Pirolusita Mn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, Uraninita UO</a:t>
            </a:r>
            <a:r>
              <a:rPr b="0" lang="es-MX" sz="3200" spc="-1" strike="noStrike" baseline="-25000">
                <a:solidFill>
                  <a:srgbClr val="660066"/>
                </a:solidFill>
                <a:latin typeface="Garamond"/>
              </a:rPr>
              <a:t>2</a:t>
            </a:r>
            <a:r>
              <a:rPr b="0" lang="es-MX" sz="3200" spc="-1" strike="noStrike">
                <a:solidFill>
                  <a:srgbClr val="660066"/>
                </a:solidFill>
                <a:latin typeface="Garamond"/>
              </a:rPr>
              <a:t>)</a:t>
            </a:r>
            <a:r>
              <a:rPr b="0" lang="es-MX" sz="32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Hematita-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Hematita roj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989000"/>
            <a:ext cx="2592720" cy="1940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989000"/>
            <a:ext cx="475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tabulares gruesos o delgados, terroso, en masas botroidales, micáceo y hojoso (especular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 en cxs. y mate en variedades terros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astaño rojizo a neg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rojo claro a oscu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5 ½ a 6 ½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producto de actividad volcánica, en depósitos metamórficos de contacto y como mx accesorio de rocas ígneas félsicas. También como oxidación de limonitas y magneti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26920" y="4253040"/>
            <a:ext cx="2592720" cy="21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Magnetita- Fe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2613240" cy="19814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isomé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xs. octaédricos, macizo, granular o en grano fi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6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agnetism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x accesorio de rocas ígneas. En algunos casos forma grandes masas de mineral. También asociado a rocas metamórficas cristali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258920" y="4232160"/>
            <a:ext cx="2665440" cy="22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Rutilo- Ti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387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xs. aciculares delgados o macizos compacto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adamantino a submetálic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rojo, castaño rojizo a negr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castaño pálid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6 a 6 ½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200" spc="-1" strike="noStrike">
                <a:solidFill>
                  <a:srgbClr val="000000"/>
                </a:solidFill>
                <a:latin typeface="Garamond"/>
              </a:rPr>
              <a:t> en granitos, pegmatitas graníticas, gneis, esquistos micáceos, calizas metamórficas. Como mx accesorio en rocas de cuarzo. Asociado a ilmenita, magnetita y circó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Pirolusita- Mn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270080" y="1981080"/>
            <a:ext cx="264168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1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tetr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en fibras o columnas radiales, macizo, granuloso y formas dendrít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tá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Ray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negro de hier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1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n en pequeñas cantidades en la mayor parte de las rocas cristalinas, cuando se disuelve vuelve a depositarse especialmente como pirolusita. En arcillas residu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268280" y="4114800"/>
            <a:ext cx="26449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660066"/>
                </a:solidFill>
                <a:latin typeface="Bradley Hand ITC"/>
              </a:rPr>
              <a:t>Carbonat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su composición contienen los complejos aniónicos (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)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En presencia del ión hidrógeno, el radical carbonato se vuelve inestable y se descompone según la reacció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2H</a:t>
            </a:r>
            <a:r>
              <a:rPr b="0" lang="es-MX" sz="2800" spc="-1" strike="noStrike" baseline="30000">
                <a:solidFill>
                  <a:srgbClr val="000000"/>
                </a:solidFill>
                <a:latin typeface="Garamond"/>
              </a:rPr>
              <a:t>+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3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H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 + CO</a:t>
            </a:r>
            <a:r>
              <a:rPr b="0" lang="es-MX" sz="2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Los carbonatos anhidros más importantes pertenecen a tres grupos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el grupo de la calcita, el del aragonito y el grupo de la dolom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Otros carbonatos de importancia: </a:t>
            </a:r>
            <a:r>
              <a:rPr b="1" lang="es-MX" sz="2800" spc="-1" strike="noStrike">
                <a:solidFill>
                  <a:srgbClr val="000000"/>
                </a:solidFill>
                <a:latin typeface="Garamond"/>
              </a:rPr>
              <a:t>azurita y malaquita</a:t>
            </a:r>
            <a:r>
              <a:rPr b="0" lang="es-MX" sz="2800" spc="-1" strike="noStrike">
                <a:solidFill>
                  <a:srgbClr val="000000"/>
                </a:solidFill>
                <a:latin typeface="Garamond"/>
              </a:rPr>
              <a:t> (carbonatos de Cob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598c9"/>
            </a:gs>
            <a:gs pos="50000">
              <a:srgbClr val="6d84bf"/>
            </a:gs>
            <a:gs pos="100000">
              <a:srgbClr val="8598c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660066"/>
                </a:solidFill>
                <a:latin typeface="Bradley Hand ITC"/>
              </a:rPr>
              <a:t>Calcita- CaCO</a:t>
            </a:r>
            <a:r>
              <a:rPr b="0" lang="es-MX" sz="4400" spc="-1" strike="noStrike" baseline="-25000">
                <a:solidFill>
                  <a:srgbClr val="660066"/>
                </a:solidFill>
                <a:latin typeface="Bradley Hand ITC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211640" y="1699920"/>
            <a:ext cx="46814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Sistema cristalográfic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hexag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Hábit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muy variado (más de 300 formas distintas). Más importantes: prismáticos, romboédricos, escalenoédr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Brillo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vítreo terros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Color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blanco a incoloro. Puede tener tonos grisáceos, rojizo, verdoso, azulado. Si es impura, de pardo a neg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Exfoliación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perfec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urez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3 en la cara de exfoli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Diagnóstico: 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efervesce en H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Garamond"/>
              </a:rPr>
              <a:t>Ocurrencia:</a:t>
            </a:r>
            <a:r>
              <a:rPr b="0" lang="es-MX" sz="2000" spc="-1" strike="noStrike">
                <a:solidFill>
                  <a:srgbClr val="000000"/>
                </a:solidFill>
                <a:latin typeface="Garamond"/>
              </a:rPr>
              <a:t> como mineral formador de roca, en rocas sedimentarias, calizas, calizas metamórficas (mármol). Como mineral primario en algunas rocas ígneas, rellenando cavidades y sistemas hidroterm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3525840" cy="34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8T02:49:26Z</dcterms:created>
  <dc:creator>Odin the Great</dc:creator>
  <dc:description/>
  <dc:language>en-US</dc:language>
  <cp:lastModifiedBy>PREGRADO10</cp:lastModifiedBy>
  <dcterms:modified xsi:type="dcterms:W3CDTF">2007-08-09T17:01:42Z</dcterms:modified>
  <cp:revision>9</cp:revision>
  <dc:subject/>
  <dc:title>Óxidos, carbonatos y sulfatos</dc:title>
</cp:coreProperties>
</file>