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E04-BEBB-4277-A7FA-F739F580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BC5-AD87-4F59-90F4-D8429CB2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7C3-88EF-4DDB-B963-CAADF523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5E7-0C5B-4562-A137-C392E510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B763-1F5B-4716-97F9-BA1CA740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3776-3466-4074-BDFE-A00DCD5D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6F8E-8D4A-4A0F-91FD-84A7C7B7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BD6C-FCDD-4014-AAE6-3159DF1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8727-D5A2-4C33-B037-22F5EA57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EE42-E55B-4628-B977-EDC95B6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900F-D714-4ADA-9818-3992C512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9F4-C99C-48E2-AA52-4BA6105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6211-E1B6-4E86-98E0-8EDAFBA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5488-DC24-4236-B83F-CF21382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C0D1-85B2-4FE8-B22B-C7E14C99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A17-7F6C-4708-86EC-2871B0E8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8435-2FE0-4A77-8FF7-D697DD3E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DF0-E391-4243-BBD0-C3A3B367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441-402F-4F61-8DD6-F54DFD8B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E0E-1700-4987-A233-9077589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EF7-2EBF-4F45-995F-732F092A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A7E-525D-4213-AAA0-9B3300C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176-9530-49A2-9830-A00DB4B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F77-6447-4E8A-AA68-DF0DC7E3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A9E2-C30B-4A03-A3B3-85726E9732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0BEB-D028-483E-ACCD-FCC9257EC9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0033"/>
                </a:solidFill>
                <a:latin typeface="Times New Roman"/>
              </a:rPr>
              <a:t>Auxiliar Fundamentos de Petrología GL41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4653000"/>
            <a:ext cx="25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anuel Muño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. Carolina Sot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Paula Castillo G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ulari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blanco, verde, amarillo, pardo, canela, rojo pá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43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din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Rojo osc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76680" cy="280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222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op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Mg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rojo intenso a casi neg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810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otas y regla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es (4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1 (50%): Rocas volcánicas, piroclást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plut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2 (50%): Rocas metamórf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sedi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scripciones (3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o más a la seman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 Lectur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are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      C*0,4+D*0,3+L*0,15+T*0,15 &lt; 3,7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Reprob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7&gt; C*0,4+D*0,3+L*0,15+T*0,15 &lt; 4,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tivo 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Todo debe ser aprobado por s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Asistencia OBLIG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rogr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628640"/>
          <a:ext cx="7772400" cy="4703760"/>
        </p:xfrm>
        <a:graphic>
          <a:graphicData uri="http://schemas.openxmlformats.org/drawingml/2006/table">
            <a:tbl>
              <a:tblPr/>
              <a:tblGrid>
                <a:gridCol w="390600"/>
                <a:gridCol w="1478160"/>
                <a:gridCol w="5903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/07 - 03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silic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08 - 10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óxidos, carbonatos, sulf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08 - 17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Volcá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08 - 24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iroclást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08 - 31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ultrabásicas y bás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09 - 07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intermedias y ácidas y rocas filonian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09 - 14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1: Minerales, rocas volcánicas, piroclásticas y plutó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09 - 21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ACIO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09 - 28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uras de rocas metamórficas y tipos de metamorf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10 - 05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pelí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0 - 1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OLIMP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10 - 19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bás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/10 - 26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carboná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10 - 02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clásticas: ambientes de formación y clasificac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1 - 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químicas: ambientes de formación y clasifi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1 - 16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2: rocas metamórficas y sedimentari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es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traedros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án unidos entre si con enlaces iónicos por medio de cationes interst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livi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uminosilicatos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urol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Fe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O,OH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ranat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olimorfos Al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SiO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mpos de estabilidad determinados experimentalmente para los polimorfos del Al2Si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3648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s casi cuad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jo de carne, castaño rojizo, verde ol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reolas de contacto de intrusiones igneas en rocas arcillosas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 casi cuadrado, dureza. La variedad Quiastolita contiene finas inclusiones carbonosas o arcillosas de color oscuro en forma de cru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9600" cy="211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244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2133720"/>
          <a:ext cx="7848720" cy="4174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i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tabulares alargados, rara vez terminados. En agregados hoj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eralmente azul, con tonalidades más oscuras hacia dentro del cri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ariable. 6,7 a lo largo del prisma y 4,5 a 5 perpendicu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amorfismo regional de rocas pelíticas (alta presió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hojosos, buena exfoliación, color azul y diferentes durezas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7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largos y delgados sin terminaciones claras, aciculares fib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do, verde pálido, blan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cas arcillosas metamórficas de alta temperatura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delgados, con solo una dirección de exfoli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24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uro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o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prismáticos, maclas cruciformes de dos tipos (90° y 60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castaño rojizo a negro castañ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7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 accesorio de las rocas ricas en aluminio y de los esquistos cristalinos y de algunos gne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y maclas característicos. De la andalucita se distingue por los prismas obtu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781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0:29:27Z</dcterms:created>
  <dc:creator>Paula Castillo</dc:creator>
  <dc:description/>
  <dc:language>en-US</dc:language>
  <cp:lastModifiedBy>Paula Castillo</cp:lastModifiedBy>
  <dcterms:modified xsi:type="dcterms:W3CDTF">2007-08-08T05:20:50Z</dcterms:modified>
  <cp:revision>9</cp:revision>
  <dc:subject/>
  <dc:title>Auxiliar Fundamentos de Petrología GL41C</dc:title>
</cp:coreProperties>
</file>