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F113-39D0-4851-9FB9-BFC671C2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F19B-5E27-45D0-8717-A6B333F5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F69-E626-4E55-AFC5-093C341E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F289-E4EA-463F-A851-7FF9931C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E7AD-C152-4CF1-89AD-9933E00A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2160-B46E-495A-8EC0-9D46663A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D850-E3FB-42C0-AEE9-6D9B82EB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58EA-77BF-429E-994D-A339955F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95EA-C4C9-4681-BD10-24BD56D2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E322-5323-48F5-BD77-E08C53A2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2AE7-DABD-4058-9280-D31D68F0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206-3D1A-4731-B27A-A032DF0E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2A13-CA55-4956-9A4F-BD48414E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EB06-DF0C-4B5C-9A15-FFEF2E2E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610B-24E1-40B5-9C67-2A2DEAC7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2C09-42AB-4F1D-88D7-95CFFC7A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6B10-8D57-4358-A6EB-942E9E15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1470-7FE4-47F2-8D72-EA28FD13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CF87-65F5-4B35-8286-1A35C6BB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9F26-7106-4296-8E92-33D59AC1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F5A3-A663-41BF-B7DC-A39EE8C0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2417-C2C3-4961-A2C6-7541DFBE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4757-7A7E-4515-AABD-20FDA0BF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5773-CF3C-4EF1-A5CA-4F26C556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9C5E-DDE6-43D1-B9A1-4009D14FFCC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B9DA-DEE8-4763-898D-C9196852292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Metamorfismo de contacto</a:t>
            </a:r>
            <a:br>
              <a:rPr sz="5200"/>
            </a:b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SKARNS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ndamentos de Petrologí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. Carolina So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Zonación Espacio-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Black"/>
              </a:rPr>
              <a:t>Razón Granate / Piroxeno </a:t>
            </a:r>
            <a:r>
              <a:rPr b="1" lang="es-ES" sz="3600" spc="-1" strike="noStrike">
                <a:solidFill>
                  <a:srgbClr val="008000"/>
                </a:solidFill>
                <a:latin typeface="Arial Black"/>
              </a:rPr>
              <a:t>(alta razón indica proximidad al contacto con el cuerpo intrusivo</a:t>
            </a:r>
            <a:r>
              <a:rPr b="1" lang="es-ES" sz="2400" spc="-1" strike="noStrike">
                <a:solidFill>
                  <a:srgbClr val="00800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lor del granate + composición               </a:t>
            </a:r>
            <a:r>
              <a:rPr b="1" lang="es-ES" sz="2400" spc="-1" strike="noStrike">
                <a:solidFill>
                  <a:srgbClr val="008000"/>
                </a:solidFill>
                <a:latin typeface="Verdana"/>
              </a:rPr>
              <a:t>(Gte Ca-Fe (andradita) próximos v/s Ca-Al (grossularia) dist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lor del piroxeno + composición              </a:t>
            </a:r>
            <a:r>
              <a:rPr b="1" lang="es-ES" sz="2400" spc="-1" strike="noStrike">
                <a:solidFill>
                  <a:srgbClr val="008000"/>
                </a:solidFill>
                <a:latin typeface="Verdana"/>
              </a:rPr>
              <a:t>(Px Ca-Mg (diópsido)próximos v/s Ca-Fe (hedenbergita) dist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58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eneralidad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Roca granular consistente en silicatos de Ca (ej. Granate, piroxeno, anfíbola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uede tener mineralización: depósitos tipo Skar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ormados durante metamorfismo de contacto o regional, por procesos metasomáticos involucrando fluidos magmáticos, metamórficos, meteóricos y/o marin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encuentran en zonas cercanas a una intrusión, a lo largo de fallas y zonas de cizalle, en sistemas geotermales superficiales, en el fondo de océan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ocidos mayormente asociados a caliz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eden formarse también en ausencia de calizas, en rocas como areniscas, limonitas, granito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Estados: PRÓGRADOS, RETRÓGR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teracción magma-roca de caj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alentamiento de roca de caja y sus fluid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gradiente T alrededor de la intrus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Volatilización de componentes de la roca de caja (mayormente CO2, también H2O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Interacción y reacción de fluidos magmáticos exsueltos con la roca de caja y sus fluidos, así como con fluidos meteóricos infiltr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34400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ineralogía Típ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"/>
          <p:cNvSpPr/>
          <p:nvPr/>
        </p:nvSpPr>
        <p:spPr>
          <a:xfrm>
            <a:off x="467280" y="1700280"/>
            <a:ext cx="3155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e en la mayo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los Sk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rox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fíb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ar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5080" y="1844640"/>
            <a:ext cx="2139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ros comu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iv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llasto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id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nolita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20000" y="1844640"/>
            <a:ext cx="1622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po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eo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gioc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2565360"/>
            <a:ext cx="835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Estado Prógr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Exsolución de fluidos desde un magma en enfri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acción del fluido magmático, usualmente rico en Si y Fe, con carbona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CaO(s) + FeO(aq) + 2SiO2(aq) </a:t>
            </a:r>
            <a:r>
              <a:rPr b="1" lang="fr-FR" sz="24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CaFeSi2O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                                                  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hedenberg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3CaO(s) + Fe2O3(aq) + 3SiO2(aq) </a:t>
            </a:r>
            <a:r>
              <a:rPr b="1" lang="fr-FR" sz="24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Ca3Fe2(SiO4)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andrad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ormación de silicatos-Ca anhidros (en su mayoría granate y piroxeno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Zonación mineral en estado prógrado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3494880" y="1916280"/>
            <a:ext cx="19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u skar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1600" y="23623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rox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87320" y="23623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i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2240" y="3352680"/>
            <a:ext cx="7881840" cy="870840"/>
            <a:chOff x="912240" y="3352680"/>
            <a:chExt cx="7881840" cy="870840"/>
          </a:xfrm>
        </p:grpSpPr>
        <p:sp>
          <p:nvSpPr>
            <p:cNvPr id="110" name=""/>
            <p:cNvSpPr/>
            <p:nvPr/>
          </p:nvSpPr>
          <p:spPr>
            <a:xfrm>
              <a:off x="1562040" y="33526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03680" y="3763800"/>
              <a:ext cx="14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AR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2240" y="37638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c6136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12480" y="3763800"/>
              <a:ext cx="21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Verde-amaril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69240" y="5181480"/>
            <a:ext cx="7637400" cy="1046160"/>
            <a:chOff x="669240" y="5181480"/>
            <a:chExt cx="7637400" cy="1046160"/>
          </a:xfrm>
        </p:grpSpPr>
        <p:sp>
          <p:nvSpPr>
            <p:cNvPr id="115" name=""/>
            <p:cNvSpPr/>
            <p:nvPr/>
          </p:nvSpPr>
          <p:spPr>
            <a:xfrm>
              <a:off x="1562040" y="51814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09280" y="5584680"/>
              <a:ext cx="188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YROX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9240" y="540216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ght co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high-M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61880" y="5402160"/>
              <a:ext cx="154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7777"/>
                  </a:solidFill>
                  <a:latin typeface="Times New Roman"/>
                </a:rPr>
                <a:t>dark co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7777"/>
                  </a:solidFill>
                  <a:latin typeface="Times New Roman"/>
                </a:rPr>
                <a:t>(high-F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stado Retrógr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lacionado con enfriamiento, interacción con fluidos meteóricos, oxid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Minerales anhidros prógrados sustituidos por silicatos hidratados (Ej. Clorita, epidota, anfíbola), óxidos de Fe (magnetita, hematita), calcita, cuarz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5CaFeSi2O6 + H2O + 3CO2 </a:t>
            </a:r>
            <a:r>
              <a:rPr b="1" lang="fr-FR" sz="20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Ca2Fe5Si8O22(OH)2 + 3CaCO3 + 2SiO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hedenbergite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                               actinol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3CaFeSi2O6 + 1/2O2 + 3CO2 </a:t>
            </a:r>
            <a:r>
              <a:rPr b="1" lang="fr-FR" sz="20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Fe3O4 + 3CaCO3 + 6SiO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hedenbergite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                        magnet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Ca3Fe2(SiO4)3 + 3CO2 </a:t>
            </a:r>
            <a:r>
              <a:rPr b="1" lang="fr-FR" sz="20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Fe2O3 + 3CaCO3 + 3SiO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andradite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                 hemat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0:46:58Z</dcterms:created>
  <dc:creator>Secretaria</dc:creator>
  <dc:description/>
  <dc:language>en-US</dc:language>
  <cp:lastModifiedBy>AcerDos</cp:lastModifiedBy>
  <dcterms:modified xsi:type="dcterms:W3CDTF">2007-10-26T14:23:44Z</dcterms:modified>
  <cp:revision>3</cp:revision>
  <dc:subject/>
  <dc:title>Metamorfismo de contacto SKARNS</dc:title>
</cp:coreProperties>
</file>