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F05-F0FC-4EBB-84A3-1A23E6B1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EA4-77E1-4539-B540-7EEE8676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E5D-C6DC-4082-9F47-E7CBAAC3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E7F4-D64D-4905-B29D-0CD6B6BD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1D9C-A608-4CF3-AAA1-4B2314EB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E854-A680-4B3D-8481-6763C661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0D9E-D3AB-4D15-940A-2A7F28D8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F14A-D8A8-4950-84F9-E4306318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3039-8747-4BE3-8122-11629A7F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B8C6-39E7-4F0D-89AB-9BBA2728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8603-BA54-4DE5-B043-9372FB2E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529-4A40-4D5D-9A3E-B1093DD2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BDEF-E4B0-4122-BE37-72AA1A9F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4820-571A-46D8-929C-982CA357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0A40-716C-4A99-9754-75DECB36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76B8-A9A6-401E-B7AD-3D16CE04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9547-F974-4A23-93FA-8412D5BF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E0E-40DE-4FED-8ACB-C0B0018A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402-803C-4269-BF30-F386DE2A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184-59A3-4760-9BE9-7F0ADE31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0C8-AF68-494D-99FD-57441DDC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F63-9376-46FC-B151-E839DF99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DA1-B0CC-4C1E-9DC5-25180CA2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B5F-1A0D-47EB-AAB2-706940F2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3DBE-87C8-4E8C-8005-5E25B86DB0B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02B0-0A17-48B3-907B-EFCE5C79869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Metamorfismo de contacto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SKARNS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ndamentos de Petrolog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. Carolina So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Zonación Espacio-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Razón Granate / Piroxeno </a:t>
            </a:r>
            <a:r>
              <a:rPr b="1" lang="es-ES" sz="3600" spc="-1" strike="noStrike">
                <a:solidFill>
                  <a:srgbClr val="008000"/>
                </a:solidFill>
                <a:latin typeface="Arial Black"/>
              </a:rPr>
              <a:t>(alta razón indica proximidad al contacto con el cuerpo intrusivo</a:t>
            </a:r>
            <a:r>
              <a:rPr b="1" lang="es-ES" sz="2400" spc="-1" strike="noStrike">
                <a:solidFill>
                  <a:srgbClr val="008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lor del granate + composición              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(Gte Ca-Fe (andradita) próximos v/s Ca-Al (grossularia) dist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lor del piroxeno + composición             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(Px Ca-Mg (diópsido)próximos v/s Ca-Fe (hedenbergita) dist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eneralida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Roca granular consistente en silicatos de Ca (ej. Granate, piroxeno, anfíbola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uede tener mineralización: depósitos tipo Skar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ormados durante metamorfismo de contacto o regional, por procesos metasomáticos involucrando fluidos magmáticos, metamórficos, meteóricos y/o mari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encuentran en zonas cercanas a una intrusión, a lo largo de fallas y zonas de cizalle, en sistemas geotermales superficiales, en el fondo de océa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ocidos mayormente asociados a caliz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eden formarse también en ausencia de calizas, en rocas como areniscas, limonitas, granito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Estados: PRÓGRADOS, RETRÓGR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teracción magma-roca de caj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alentamiento de roca de caja y sus fluid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gradiente T alrededor de la intrus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Volatilización de componentes de la roca de caja (mayormente CO2, también H2O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Interacción y reacción de fluidos magmáticos exsueltos con la roca de caja y sus fluidos, así como con fluidos meteóricos infiltr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34400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ineralogía Típ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467280" y="1700280"/>
            <a:ext cx="3155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e en la mayo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os Sk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rox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fí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r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5080" y="1844640"/>
            <a:ext cx="213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ro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iv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llasto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id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nolita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20000" y="1844640"/>
            <a:ext cx="162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po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o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gioc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565360"/>
            <a:ext cx="835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Estado Prógr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xsolución de fluidos desde un magma en enfr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acción del fluido magmático, usualmente rico en Si y Fe, con carbona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aO(s) + FeO(aq) + 2SiO2(aq)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CaFeSi2O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3CaO(s) + Fe2O3(aq) + 3SiO2(aq)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Ca3Fe2(SiO4)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ormación de silicatos-Ca anhidros (en su mayoría granate y piroxeno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Zonación mineral en estado prógrado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3494880" y="191628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u skar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160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7320" y="2362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2240" y="3352680"/>
            <a:ext cx="7881840" cy="870840"/>
            <a:chOff x="912240" y="3352680"/>
            <a:chExt cx="7881840" cy="870840"/>
          </a:xfrm>
        </p:grpSpPr>
        <p:sp>
          <p:nvSpPr>
            <p:cNvPr id="110" name=""/>
            <p:cNvSpPr/>
            <p:nvPr/>
          </p:nvSpPr>
          <p:spPr>
            <a:xfrm>
              <a:off x="1562040" y="33526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03680" y="376380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2240" y="37638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c6136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12480" y="376380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erde-amaril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69240" y="5181480"/>
            <a:ext cx="7637400" cy="1046160"/>
            <a:chOff x="669240" y="5181480"/>
            <a:chExt cx="7637400" cy="1046160"/>
          </a:xfrm>
        </p:grpSpPr>
        <p:sp>
          <p:nvSpPr>
            <p:cNvPr id="115" name=""/>
            <p:cNvSpPr/>
            <p:nvPr/>
          </p:nvSpPr>
          <p:spPr>
            <a:xfrm>
              <a:off x="1562040" y="51814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09280" y="558468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YROX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9240" y="540216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ght co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high-M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61880" y="5402160"/>
              <a:ext cx="154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dark co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(high-F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stado Retrógr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lacionado con enfriamiento, interacción con fluidos meteóricos, oxid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inerales anhidros prógrados sustituidos por silicatos hidratados (Ej. Clorita, epidota, anfíbola), óxidos de Fe (magnetita, hematita), calcita, cuarz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5CaFeSi2O6 + H2O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Ca2Fe5Si8O22(OH)2 + 3CaCO3 + 2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              actinol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3CaFeSi2O6 + 1/2O2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Fe3O4 + 3CaCO3 + 6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       magnet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Ca3Fe2(SiO4)3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Fe2O3 + 3CaCO3 + 3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andrad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hemat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0:46:58Z</dcterms:created>
  <dc:creator>Secretaria</dc:creator>
  <dc:description/>
  <dc:language>en-US</dc:language>
  <cp:lastModifiedBy>AcerDos</cp:lastModifiedBy>
  <dcterms:modified xsi:type="dcterms:W3CDTF">2007-10-26T14:23:44Z</dcterms:modified>
  <cp:revision>3</cp:revision>
  <dc:subject/>
  <dc:title>Metamorfismo de contacto SKARNS</dc:title>
</cp:coreProperties>
</file>