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D05-A269-44AC-805E-EF6D1B0C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1FD-6635-4692-9DFD-23B406DA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BF4-F631-412C-A3CD-B8FAEE11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379-A97D-4695-9ED8-A600AC57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3F7C-90D6-4A35-ADA2-B4C01AAC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F7AA-606F-42D9-963D-9186CB83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27CE-06E1-4500-9445-63C970A3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A789-78B6-4E78-B32A-AB0523A2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128A-0FA1-44AA-81F2-6AC51B20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8290-A613-4FAA-8D3C-6BB2EB14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04C5-1642-48FD-95C0-DCCA3D8F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EF6-5ED6-4425-B98C-934DD2F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2C8F-E512-4954-A9EE-828FEA3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5B47-5D52-435E-B59D-0C4ED8A6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EB2-4503-46BF-BEA9-11E2BAAB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CDBA-184B-4F35-A5E5-19DE1935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0FFB-B43B-4768-8B1D-C8CA4A3F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8B5-17DB-4B9F-AB95-302D6978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633-7D35-4C86-B3E6-BF82B24D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B6F-0E28-479B-9F5C-5210D60C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F12-83BF-4C62-8778-0C758916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ED9-8263-4D92-8B6A-03E5AB8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742-3092-476E-9439-C9197C3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F4B-07F3-41C3-AD15-97E59FD0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5B5E-71E6-4DA0-A2C4-F6BE45739C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71E6-C827-4AEE-817E-63DE582F77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Metamorfismo de contacto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KAR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damentos de Petrolog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. Carolina So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onación Espacio-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Razón Granate / Piroxeno </a:t>
            </a:r>
            <a:r>
              <a:rPr b="1" lang="es-ES" sz="3600" spc="-1" strike="noStrike">
                <a:solidFill>
                  <a:srgbClr val="008000"/>
                </a:solidFill>
                <a:latin typeface="Arial Black"/>
              </a:rPr>
              <a:t>(alta razón indica proximidad al contacto con el cuerpo intrusivo</a:t>
            </a:r>
            <a:r>
              <a:rPr b="1" lang="es-ES" sz="2400" spc="-1" strike="noStrike">
                <a:solidFill>
                  <a:srgbClr val="008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granate + composición 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Gte Ca-Fe (andradita) próximos v/s Ca-Al (grossulari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piroxeno + composición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Px Ca-Mg (diópsido)próximos v/s Ca-Fe (hedenbergit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ida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oca granular consistente en silicatos de Ca (ej. Granate, piroxeno, anfíbola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uede tener mineralización: depósitos tipo Ska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ormados durante metamorfismo de contacto o regional, por procesos metasomáticos involucrando fluidos magmáticos, metamórficos, meteóricos y/o mari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encuentran en zonas cercanas a una intrusión, a lo largo de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n formarse también en ausencia de calizas, en rocas como areniscas, limonitas, granito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stados: PRÓGRADOS, RETRÓG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eracción magma-roca de ca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entamiento de roca de caja y sus fluid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gradiente T alrededor de la intru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Volatilización de componentes de la roca de caja (mayormente CO2, también H2O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teracción y reacción de fluidos magmáticos exsueltos con la roca de caja y sus fluidos, así como con fluidos meteóricos infiltr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40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ineralogía Típ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467280" y="1700280"/>
            <a:ext cx="315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e en la may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os Sk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x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fí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5080" y="1844640"/>
            <a:ext cx="213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1844640"/>
            <a:ext cx="162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565360"/>
            <a:ext cx="83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Estado P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xsolución de fluidos desde un magma en enfr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cción del fluido magmático, usualmente rico en Si y Fe, con carbona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aO(s) + FeO(aq) + 2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FeSi2O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3CaO(s) + Fe2O3(aq) + 3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3Fe2(SiO4)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ormación de silicatos-Ca anhidros (en su mayoría granate y piroxen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Zonación mineral en estado prógrad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494880" y="1916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 ska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2240" y="3352680"/>
            <a:ext cx="7881840" cy="870840"/>
            <a:chOff x="912240" y="3352680"/>
            <a:chExt cx="7881840" cy="870840"/>
          </a:xfrm>
        </p:grpSpPr>
        <p:sp>
          <p:nvSpPr>
            <p:cNvPr id="110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12480" y="376380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erde-amar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115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stado Ret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lacionado con enfriamiento, interacción con fluidos meteóricos, oxid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nerales anhidros prógrados sustituidos por silicatos hidratados (Ej. Clorita, epidota, anfíbola), óxidos de Fe (magnetita, hematita), calcita, cuarz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5CaFeSi2O6 + H2O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Ca2Fe5Si8O22(OH)2 + 3CaCO3 + 2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       actinol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3CaFeSi2O6 + 1/2O2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3O4 + 3CaCO3 + 6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magne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Ca3Fe2(SiO4)3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2O3 + 3CaCO3 + 3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hema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0:46:58Z</dcterms:created>
  <dc:creator>Secretaria</dc:creator>
  <dc:description/>
  <dc:language>en-US</dc:language>
  <cp:lastModifiedBy>AcerDos</cp:lastModifiedBy>
  <dcterms:modified xsi:type="dcterms:W3CDTF">2007-10-26T14:23:44Z</dcterms:modified>
  <cp:revision>3</cp:revision>
  <dc:subject/>
  <dc:title>Metamorfismo de contacto SKARNS</dc:title>
</cp:coreProperties>
</file>