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512F-8AF2-485A-A633-9F01D46A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E086-50D6-4FD3-8F4A-F98A59C2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C850-FB77-45CB-87A7-A24CD80E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DF49-2D9D-4EEB-A417-84377110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F000-FCCB-4821-90C4-147C18EC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719A-FBD9-4AE7-84F3-AE3E53F1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7AA3-F955-40F7-99AD-ACB61B88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FBD0-263F-4EE8-B0D6-5FF60641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3C16-8FAB-4BCB-94A9-C05D48FD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1AAE-4780-429A-AB24-242EAC77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F837-BBA9-4515-8491-9B3A244D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4C9E-89EC-40C6-B3B2-077A0333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EE6C-B1D7-4954-A7F0-C07BBB13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CD89-6556-4954-99CB-AFC8121B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333E-099E-4D2C-9993-6F957EC3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D44C-B2E8-4420-98E5-1A85633B7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8A42-6886-49E7-9AA3-7575113C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DE7C-FDA9-4125-8706-C222E1BF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E493-953E-41AC-BACF-7EAD1757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BE6C-05B9-46BA-9A06-AF38B131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436E-71FD-4342-AA3A-7B83088E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6D2F-7BED-42C6-A888-FF2F0B22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E787-557F-4E48-B7B4-91A4C7B6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FCD7-14D4-46A6-B75B-DF0DD715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C58C-E5B2-4311-AEA0-61367E42015E}" type="slidenum">
              <a:rPr b="0" lang="es-MX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0EDB-C74C-4404-89F8-C064B626BFC7}" type="slidenum">
              <a:rPr b="0" lang="es-MX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06633"/>
                </a:solidFill>
                <a:latin typeface="Garamond"/>
              </a:rPr>
              <a:t>Rocas Plutónicas: Ultrabásicas y Básica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uxiliar Fundamentos de Petr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imavera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. Carolina So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201600"/>
            <a:ext cx="8424720" cy="66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La clasificación de rocas ígneas se basa esencialmente en la textura y el contenido mineral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textura depende de las condiciones físicas del magma al momento de enfriarse, y la tasa de enfriamiento que experimen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l contenido mineral depende del origen y evolución química del mag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News Gothic MT"/>
                <a:ea typeface="Times New Roman"/>
              </a:rPr>
              <a:t>Textura: </a:t>
            </a:r>
            <a:r>
              <a:rPr b="0" i="1" lang="es-ES_tradnl" sz="3400" spc="-1" strike="noStrike">
                <a:solidFill>
                  <a:srgbClr val="006633"/>
                </a:solidFill>
                <a:latin typeface="News Gothic MT"/>
                <a:ea typeface="Times New Roman"/>
              </a:rPr>
              <a:t>Tamaño, forma y arreglo de minera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Grado de cristalinidad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ción de cristales y vidrio en la ro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Holocristalin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: compuesta totalmente por cristales (&gt;90% en vol. de crista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Hipocristalin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: compuesta por vidrio y crist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Holohialin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: compuesta totalmente por vidrio (&gt;90% en vol. de vidri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64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Tamaño relativo de cristale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1900" spc="-1" strike="noStrike" u="sng">
                <a:solidFill>
                  <a:srgbClr val="000000"/>
                </a:solidFill>
                <a:uFillTx/>
                <a:latin typeface="News Gothic MT"/>
                <a:ea typeface="Times New Roman"/>
              </a:rPr>
              <a:t>Equigranular</a:t>
            </a: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: todos los cxs. de tamaño simila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1900" spc="-1" strike="noStrike" u="sng">
                <a:solidFill>
                  <a:srgbClr val="000000"/>
                </a:solidFill>
                <a:uFillTx/>
                <a:latin typeface="News Gothic MT"/>
                <a:ea typeface="Times New Roman"/>
              </a:rPr>
              <a:t>Inequigranular</a:t>
            </a: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: tamaño de los cxs. varí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Tamaño absoluto de cristales (granularidad)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anerítica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 cxs. visibles a simple vist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fanítica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 cxs. no visibles a simple vista; puede ser micro o criptocristalina dependiendo si pueden o no ser reconocidos con microscopi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Seriada: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textura inequigranular en la cual se reconoce una continuidad en el tamaño de los cx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orfírica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 fenocristales en matriz o masa fundamental cristalin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Vitrofírica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 fenocristales en matriz o masa fundamental vítre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fírica</a:t>
            </a: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textura con masa fundamental de grano fino a vítrea, sin fenocristal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Tamaño del gran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Grano muy grueso:     &gt;30 m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Grano grueso: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5-30 m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Grano medio: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2-5 m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Grano fino: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   &lt;2 mm (reconocible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Forma de los cristal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anidiomórfica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: todos los cristales presentan caras propias (euhedrale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Hipidiomórfica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:  los cxs. presentan algunas caras propias    (subhedrale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lotromórfica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:   todos los cxs. no presentan caras propias   (anhedrale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News Gothic MT"/>
                <a:ea typeface="Times New Roman"/>
              </a:rPr>
              <a:t>Estructura: </a:t>
            </a:r>
            <a:r>
              <a:rPr b="0" i="1" lang="es-ES_tradnl" sz="3400" spc="-1" strike="noStrike">
                <a:solidFill>
                  <a:srgbClr val="006633"/>
                </a:solidFill>
                <a:latin typeface="News Gothic MT"/>
                <a:ea typeface="Times New Roman"/>
              </a:rPr>
              <a:t>Distribución y orden de los cristales dentro de la roca.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Ej. Homogéna, masiva, bandeada, nodulosa, etc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Morfologías especiales</a:t>
            </a: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 u="sng">
                <a:solidFill>
                  <a:srgbClr val="000000"/>
                </a:solidFill>
                <a:uFillTx/>
                <a:latin typeface="News Gothic MT"/>
                <a:ea typeface="Times New Roman"/>
              </a:rPr>
              <a:t>Vesículas</a:t>
            </a: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: cavidades irregular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 u="sng">
                <a:solidFill>
                  <a:srgbClr val="000000"/>
                </a:solidFill>
                <a:uFillTx/>
                <a:latin typeface="News Gothic MT"/>
                <a:ea typeface="Times New Roman"/>
              </a:rPr>
              <a:t>Amígdalas</a:t>
            </a: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: cavidades rellenas con uno o más mineral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 u="sng">
                <a:solidFill>
                  <a:srgbClr val="000000"/>
                </a:solidFill>
                <a:uFillTx/>
                <a:latin typeface="News Gothic MT"/>
                <a:ea typeface="Times New Roman"/>
              </a:rPr>
              <a:t>Inclusiones o enclaves</a:t>
            </a: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: elementos que se distinguen de la roca albergante por su mineralogía, forma, color, etc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Fábrica:</a:t>
            </a: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 </a:t>
            </a:r>
            <a:r>
              <a:rPr b="0" i="1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Orientación espacial de los cristales o agregados policristalinos dentro de una roc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Ej. Linear, planar, isótropa, etc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10920" y="260280"/>
            <a:ext cx="749916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Índice de color:</a:t>
            </a:r>
            <a:r>
              <a:rPr b="0" lang="es-ES_tradnl" sz="26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 </a:t>
            </a:r>
            <a:r>
              <a:rPr b="0" i="1" lang="es-ES_tradnl" sz="26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% de minerales máficos. (rocas plutónica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Leucocrático:       0-3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Melanocrático:   65-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Mesocrático:      35-65%</a:t>
            </a:r>
            <a:r>
              <a:rPr b="0" lang="es-ES_tradnl" sz="20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Ultramáfico:         &gt;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26920" y="2852640"/>
            <a:ext cx="77058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79280" y="1957320"/>
          <a:ext cx="8748720" cy="49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57320"/>
                    <a:ext cx="8748720" cy="49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755640" y="260280"/>
            <a:ext cx="784872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880" y="544680"/>
            <a:ext cx="8382240" cy="57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609480" y="457200"/>
            <a:ext cx="3886200" cy="3276720"/>
            <a:chOff x="609480" y="457200"/>
            <a:chExt cx="3886200" cy="3276720"/>
          </a:xfrm>
        </p:grpSpPr>
        <p:sp>
          <p:nvSpPr>
            <p:cNvPr id="123" name=""/>
            <p:cNvSpPr/>
            <p:nvPr/>
          </p:nvSpPr>
          <p:spPr>
            <a:xfrm>
              <a:off x="609480" y="457200"/>
              <a:ext cx="3886200" cy="327672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52560" y="812880"/>
              <a:ext cx="3200400" cy="2743200"/>
            </a:xfrm>
            <a:prstGeom prst="triangle">
              <a:avLst>
                <a:gd name="adj" fmla="val 500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62320" y="800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3556080"/>
              <a:ext cx="373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295280" y="1144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lagioc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379404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yrox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379404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liv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24382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i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8069600">
            <a:off x="1039680" y="207180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b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3550800">
            <a:off x="2813400" y="204264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octo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46716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gioclase-bearing ultramafic r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3189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Anortho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27640" y="2708280"/>
            <a:ext cx="3886200" cy="3276720"/>
          </a:xfrm>
          <a:prstGeom prst="triangle">
            <a:avLst>
              <a:gd name="adj" fmla="val 50000"/>
            </a:avLst>
          </a:prstGeom>
          <a:solidFill>
            <a:srgbClr val="ccffcc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62440" y="3060720"/>
            <a:ext cx="3200400" cy="2743200"/>
          </a:xfrm>
          <a:prstGeom prst="triangle">
            <a:avLst>
              <a:gd name="adj" fmla="val 500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7220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286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liv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60800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rthopyrox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0" y="608004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inopyrox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41292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herzo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8069600">
            <a:off x="4865400" y="3796920"/>
            <a:ext cx="16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zburg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3550800">
            <a:off x="6441120" y="392076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hr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57150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ste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62920" y="2514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Du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4952880"/>
            <a:ext cx="2666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56080" y="502920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ine Webste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469280" y="365760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Perido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79240" y="510552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Pyroxen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8229600" y="2666880"/>
            <a:ext cx="0" cy="99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29600" y="4038480"/>
            <a:ext cx="0" cy="838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553080" y="2743200"/>
            <a:ext cx="60984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743200" y="533520"/>
            <a:ext cx="533520" cy="152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181480" y="4952880"/>
            <a:ext cx="0" cy="10670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4080" y="878040"/>
            <a:ext cx="167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bro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16765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cas Ultramáfica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&gt;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5613480"/>
            <a:ext cx="2286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7860960" y="5626080"/>
            <a:ext cx="2286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609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40560" y="28335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039160" y="5334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26640" y="435780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Olivine orthopyroxe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67080" y="4572000"/>
            <a:ext cx="60984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9400" y="548640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Orthopyroxe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5715000"/>
            <a:ext cx="10666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24240" y="541008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opyroxe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96080" y="563868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52880" y="3049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ificación de rocas ígneas faneríticas I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Rocas Ígne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oca Ígnea: Roca que se forma por el enfriamiento de un mag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gma: Fundido silicatado compuesto por una fase fundida, gases disueltos y crist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33"/>
                </a:solidFill>
                <a:latin typeface="Arial"/>
              </a:rPr>
              <a:t>Tipos de magm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Magmas Basálticos : 45-55% SiO2 , Tº:1000-1200 C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Magmas Graníticos : 65-75% SiO2, Tº: 650- 800 C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Magmas Intermedios : 55-65% SiO2, Tº: 800- 1000 C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629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796000" y="2997360"/>
            <a:ext cx="3168720" cy="122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03280" y="692280"/>
            <a:ext cx="6048360" cy="35337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908000" y="33336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33"/>
                </a:solidFill>
                <a:latin typeface="Arial"/>
              </a:rPr>
              <a:t>GAB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4210200"/>
            <a:ext cx="813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oca ígnea básica de grano grueso compuesta por plagioclasa rica en calcio (Ca), ortopiroxeno y clinopirox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orita: composición de la plagioclasa es de An&lt;50 (oligoclasa-andesina), mientras que en el gabro es de An50 (labradorita-bitownita-anortit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01520" y="2023920"/>
            <a:ext cx="6451560" cy="4757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3276720" cy="29732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09480" y="54936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Arial"/>
              </a:rPr>
              <a:t>Gab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6566040" cy="4995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3276720" cy="29131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95280" y="54936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Arial"/>
              </a:rPr>
              <a:t>Dolerita = gabro o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6633"/>
                </a:solidFill>
                <a:latin typeface="Arial"/>
              </a:rPr>
              <a:t>dior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5235480" cy="39560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24000" y="1844640"/>
            <a:ext cx="2808000" cy="37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oca ígnea ultrabásica de grano grue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mpuesta por olivino rico en magnes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(Mg), acompañado en menor cantidad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r otros ferromagnesianos co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ortopiroxeno o el clinopiroxe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Peridotita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sualmente serpentinizada: 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el olivino es un mineral muy inestable en las condiciones de la superficie del planeta, tendiendo a transformarse en serpentina. Esto transforma a estas rocas, en mayor o menor grado, en serpentinit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33717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1969920"/>
            <a:ext cx="6489720" cy="4888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09480" y="54936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Arial"/>
              </a:rPr>
              <a:t>Peridot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Dunita: formada por sólo olivino como mineral esencial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2205000"/>
            <a:ext cx="5162400" cy="32385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716360" y="981000"/>
            <a:ext cx="4038840" cy="2637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4716360" y="3500280"/>
            <a:ext cx="4038840" cy="25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mbientes de generación de magm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89308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Generación de </a:t>
            </a:r>
            <a:br>
              <a:rPr sz="3800"/>
            </a:b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magma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 u="sng">
                <a:solidFill>
                  <a:srgbClr val="006633"/>
                </a:solidFill>
                <a:uFillTx/>
                <a:latin typeface="Arial"/>
              </a:rPr>
              <a:t>Corteza Oceán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Delgada: 10 k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Secuencia ofiolít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Sedi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Basaltos almohadillados (”pillow lavas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Enjambre de d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Gabros mas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Rocas ultramáficas (peridotit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211640" y="549360"/>
            <a:ext cx="4105440" cy="2995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140360" y="4076640"/>
            <a:ext cx="500364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 u="sng">
                <a:solidFill>
                  <a:srgbClr val="006633"/>
                </a:solidFill>
                <a:uFillTx/>
                <a:latin typeface="Arial"/>
              </a:rPr>
              <a:t>Corteza Continen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-Más gruesa: 20-90 km, prom. ~35 k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-Composición y estratigrafía altamente vari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-Composición promedio ~ granodiori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067280" y="0"/>
            <a:ext cx="507672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20728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El manto se funde bajo ciertas condiciones generando magmas en zonas de expans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Magmas Basáltic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38988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sultan de la fusión parcial del man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diante convección en el manto, se puede traer el calor necesario para la fus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Fusión parcial de peridotitas, piroxenitas y eclogitas (Gte, Cpx) puede originar magmas basált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00720" y="1773360"/>
            <a:ext cx="417672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95280" y="549360"/>
          <a:ext cx="8458200" cy="55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9360"/>
                    <a:ext cx="845820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Rocas Ultramáfic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ristalizadas directamente de un magma ultramáfico (komatitas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→rara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Formadas por acumulación de cristales en cámaras magmát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Acreción de litosfera oceánica en corteza continental (ofiolita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Diapiros del manto emplazados tectónicam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0:57:05Z</dcterms:created>
  <dc:creator>.</dc:creator>
  <dc:description/>
  <dc:language>en-US</dc:language>
  <cp:lastModifiedBy>.</cp:lastModifiedBy>
  <dcterms:modified xsi:type="dcterms:W3CDTF">2007-08-30T05:53:25Z</dcterms:modified>
  <cp:revision>4</cp:revision>
  <dc:subject/>
  <dc:title>Rocas Ígneas Intrusivas</dc:title>
</cp:coreProperties>
</file>