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AE4-03FE-4C80-99A0-7E41E1BC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ABE-3E87-42E8-92E1-0949BC28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B06-67A6-4E91-ADAC-7C7DDA49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A57-26AF-4C96-B854-21FB6621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655B-96B6-4157-834D-68B2489F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37EB-5BD1-4ECA-9372-EA4E1458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6FF1-5888-4684-AA8D-21EAC062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CCA7-4E90-4D46-AB2E-815D9DB7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D3AE-D606-416E-9A1A-34E44EDE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B1B8-C496-4CB2-8FA3-FC6CDDEF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B108-4CA3-4A84-B18B-1228E10A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067-6965-4E66-83B8-FDCEA6D4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235E-3A64-410C-8AFC-DF16669C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54C9-01B1-4D0E-B177-40581C26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2004-D6DD-4679-B6CD-C17EB689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09E4-AA22-42C0-8A0B-6150D38D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57B1-3041-4A95-885D-84388820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8D8-5364-43B0-9A39-D9E22155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1B4-4BD9-4CF0-A361-EA4DE47E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B52-9527-47FE-BDD6-103375F0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B97-BB6F-4756-8517-B6B22A43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859-9D53-4A87-B477-426C863C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077-2D2A-426B-9701-4CC7FF5A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9AE-A989-4A5D-9BC1-CECA2641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E277-E30F-4A1D-86BC-0A4432ECB874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B437-3F11-45C0-B78A-971CC20397E4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6633"/>
                </a:solidFill>
                <a:latin typeface="Garamond"/>
              </a:rPr>
              <a:t>Rocas Plutónicas: Ultrabásicas y Básica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xiliar Fundamentos de Petr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avera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. Carolina S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01600"/>
            <a:ext cx="84247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La clasificación de rocas ígneas se basa esencialmente en la textura y el contenido mineral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textura depende de las condiciones físicas del magma al momento de enfriarse, y la tasa de enfriamiento que experime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 contenido mineral depende del origen y evolución química del mag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Textura: </a:t>
            </a:r>
            <a:r>
              <a:rPr b="0" i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Tamaño, forma y arreglo de minera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ado de cristalinidad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ón de cristales y vidrio en la ro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ocrist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totalmente por cristales (&gt;90% en vol. de crist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ipocrist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por vidrio y cris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ohi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totalmente por vidrio (&gt;90% en vol. de vid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Tamaño relativo de crista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Equigranular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todos los cxs. de tamaño simil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Inequigranular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tamaño de los cxs. varí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amaño absoluto de cristales (granularidad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nerít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cxs. visibles a simple vist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fanít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cxs. no visibles a simple vista; puede ser micro o criptocristalina dependiendo si pueden o no ser reconocidos con microscop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eriada: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extura inequigranular en la cual se reconoce una continuidad en el tamaño de los cx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rfír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fenocristales en matriz o masa fundamental cristali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itrofír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fenocristales en matriz o masa fundamental vítr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fírica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extura con masa fundamental de grano fino a vítrea, sin fenocrist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Tamaño del gran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muy grueso:     &gt;30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grues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5-30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medi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2-5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fin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  &lt;2 mm (reconocib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Forma de los crista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nidi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todos los cristales presentan caras propias (eu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ipidi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 los cxs. presentan algunas caras propias    (sub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otr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  todos los cxs. no presentan caras propias   (an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Estructura: </a:t>
            </a:r>
            <a:r>
              <a:rPr b="0" i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Distribución y orden de los cristales dentro de la roca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Ej. Homogéna, masiva, bandeada, nodulos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orfologías especiale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Vesícula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cavidades irregular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Amígdala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cavidades rellenas con uno o más miner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Inclusiones o enclave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elementos que se distinguen de la roca albergante por su mineralogía, forma, color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Fábrica: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</a:t>
            </a:r>
            <a:r>
              <a:rPr b="0" i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Orientación espacial de los cristales o agregados policristalinos dentro de una ro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Ej. Linear, planar, isótrop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74991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Índice de color:</a:t>
            </a:r>
            <a:r>
              <a:rPr b="0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% de minerales máficos. (rocas plutónic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Leucocrático:       0-3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elanocrático:   65-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esocrático:      35-65%</a:t>
            </a: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Ultramáfico:         &gt;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7058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9280" y="1957320"/>
          <a:ext cx="874872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57320"/>
                    <a:ext cx="874872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55640" y="260280"/>
            <a:ext cx="784872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544680"/>
            <a:ext cx="8382240" cy="57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09480" y="457200"/>
            <a:ext cx="3886200" cy="3276720"/>
            <a:chOff x="609480" y="457200"/>
            <a:chExt cx="3886200" cy="3276720"/>
          </a:xfrm>
        </p:grpSpPr>
        <p:sp>
          <p:nvSpPr>
            <p:cNvPr id="123" name=""/>
            <p:cNvSpPr/>
            <p:nvPr/>
          </p:nvSpPr>
          <p:spPr>
            <a:xfrm>
              <a:off x="609480" y="457200"/>
              <a:ext cx="3886200" cy="327672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52560" y="812880"/>
              <a:ext cx="3200400" cy="2743200"/>
            </a:xfrm>
            <a:prstGeom prst="triangle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800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55608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95280" y="1144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gio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7940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7940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438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8069600">
            <a:off x="1039680" y="207180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550800">
            <a:off x="2813400" y="20426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ct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4671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gioclase-bearing ultramafic r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318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Anorth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2708280"/>
            <a:ext cx="3886200" cy="327672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2440" y="3060720"/>
            <a:ext cx="3200400" cy="274320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6080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tho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60800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no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41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herz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069600">
            <a:off x="4865400" y="379692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zburg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550800">
            <a:off x="6441120" y="39207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hr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5715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D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495288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56080" y="50292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ne Webs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69280" y="3657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Perido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9240" y="51055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Pyroxen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229600" y="266688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038480"/>
            <a:ext cx="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553080" y="2743200"/>
            <a:ext cx="6098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43200" y="533520"/>
            <a:ext cx="53352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181480" y="4952880"/>
            <a:ext cx="0" cy="10670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080" y="8780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bro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1676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as Ultramáfic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&gt;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61348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860960" y="562608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609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0560" y="28335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3916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6640" y="43578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livine orth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4572000"/>
            <a:ext cx="6098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9400" y="54864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rth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7150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24240" y="541008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563868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ificación de rocas ígneas faneríticas I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Rocas Ígne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ca Ígnea: Roca que se forma por el enfriamiento de un mag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gma: Fundido silicatado compuesto por una fase fundida, gases disueltos y cris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33"/>
                </a:solidFill>
                <a:latin typeface="Arial"/>
              </a:rPr>
              <a:t>Tipos de mag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Basálticos : 45-55% SiO2 , Tº:1000-12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Graníticos : 65-75% SiO2, Tº: 650- 8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Intermedios : 55-65% SiO2, Tº: 800- 10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96000" y="2997360"/>
            <a:ext cx="316872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048360" cy="353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08000" y="3333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33"/>
                </a:solidFill>
                <a:latin typeface="Arial"/>
              </a:rPr>
              <a:t>GA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21020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ca ígnea básica de grano grueso compuesta por plagioclasa rica en calcio (Ca), ortopiroxeno y clinopirox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orita: composición de la plagioclasa es de An&lt;50 (oligoclasa-andesina), mientras que en el gabro es de An50 (labradorita-bitownita-anorti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1520" y="2023920"/>
            <a:ext cx="6451560" cy="4757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73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Ga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66040" cy="4995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1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52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Dolerita = gabro 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dio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5235480" cy="3956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4000" y="1844640"/>
            <a:ext cx="2808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ca ígnea ultrabásica de grano gru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uesta por olivino rico en magne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Mg), acompañado en menor cantidad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otros ferromagnesianos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ortopiroxeno o el clinopirox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eridotita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sualmente serpentinizada: 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l olivino es un mineral muy inestable en las condiciones de la superficie del planeta, tendiendo a transformarse en serpentina. Esto transforma a estas rocas, en mayor o menor grado, en serpentinit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71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1969920"/>
            <a:ext cx="6489720" cy="488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94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Peridot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unita: formada por sólo olivino como mineral esencial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5162400" cy="3238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4038840" cy="2637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403884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bientes de generación de mag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Generación de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magm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6633"/>
                </a:solidFill>
                <a:uFillTx/>
                <a:latin typeface="Arial"/>
              </a:rPr>
              <a:t>Corteza Oceá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elgada: 10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cuencia ofiolít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Sed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Basaltos almohadillados (”pillow lava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Enjambre de 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Gabros m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Rocas ultramáficas (peridoti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105440" cy="2995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40360" y="4076640"/>
            <a:ext cx="500364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6633"/>
                </a:solidFill>
                <a:uFillTx/>
                <a:latin typeface="Arial"/>
              </a:rPr>
              <a:t>Corteza Contin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Más gruesa: 20-90 km, prom. ~35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Composición y estratigrafía altamente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Composición promedio ~ granodior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anto se funde bajo ciertas condiciones generando magmas en zonas de expans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agmas Basált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3898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ltan de la fusión parcial del ma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diante convección en el manto, se puede traer el calor necesario para la fu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sión parcial de peridotitas, piroxenitas y eclogitas (Gte, Cpx) puede originar magmas basál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1767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95280" y="549360"/>
          <a:ext cx="845820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582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Rocas Ultramáfic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istalizadas directamente de un magma ultramáfico (komatita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→rar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Formadas por acumulación de cristales en cámaras magmát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Acreción de litosfera oceánica en corteza continental (ofiolit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Diapiros del manto emplazados tectónic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0:57:05Z</dcterms:created>
  <dc:creator>.</dc:creator>
  <dc:description/>
  <dc:language>en-US</dc:language>
  <cp:lastModifiedBy>.</cp:lastModifiedBy>
  <dcterms:modified xsi:type="dcterms:W3CDTF">2007-08-30T05:53:25Z</dcterms:modified>
  <cp:revision>4</cp:revision>
  <dc:subject/>
  <dc:title>Rocas Ígneas Intrusivas</dc:title>
</cp:coreProperties>
</file>