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438-438E-46E9-92D4-4DA9F608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308-AB69-422A-9B8C-29B4397A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F780-6C6C-4138-82F1-4CA8D689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6FD-720D-4624-A142-A97B8459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7E89-7EAD-4956-A024-9DDEEF54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81D4-4FE9-4B79-B12D-D3F6D424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28E0-0A1C-46E8-A0A9-231EC207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1AD3-B97A-4DC7-871A-C2F2D8F2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FF74-2D59-4B0C-A090-DAE58D9C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C321-46EB-48C5-BFBA-64698B4E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3EDF-F6AC-45B7-AC51-B26A6A55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2ECB-D701-433B-BBBE-AC2B882E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2C87-F509-46BA-A9D3-6C2C1724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216A-6209-48C8-824E-56081FD7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0585-D532-4F1F-A8D2-DB1D6465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7B3F-86F6-4E12-8472-F193C900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C2A0-4088-44F6-B2CC-EEF5025C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D50A-DCA1-4DEB-9C3F-6A8986B6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AF4-F12D-4EC0-845A-FED7243B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F4D-F665-43D6-BB52-EEFD03B6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DC9A-EA63-48B9-BCE9-A19452A5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C2CA-E37D-4555-9E39-A2D5F142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6565-1A1C-41DF-B134-EDDA454F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1D9-0C50-4EE8-AF66-C093BC01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A107-7BFF-4192-8F53-201C054F1135}" type="slidenum">
              <a:rPr b="0" lang="es-MX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3253-5BCB-433E-8F0D-98139F9B936B}" type="slidenum">
              <a:rPr b="0" lang="es-MX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6633"/>
                </a:solidFill>
                <a:latin typeface="Garamond"/>
              </a:rPr>
              <a:t>Rocas Plutónicas: Ultrabásicas y Básica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xiliar Fundamentos de Petr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avera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. Carolina S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201600"/>
            <a:ext cx="842472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La clasificación de rocas ígneas se basa esencialmente en la textura y el contenido mineral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textura depende de las condiciones físicas del magma al momento de enfriarse, y la tasa de enfriamiento que experime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 contenido mineral depende del origen y evolución química del mag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Textura: </a:t>
            </a:r>
            <a:r>
              <a:rPr b="0" i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Tamaño, forma y arreglo de minera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ado de cristalinidad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ción de cristales y vidrio en la ro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olocristalin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compuesta totalmente por cristales (&gt;90% en vol. de crista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ipocristalin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compuesta por vidrio y crist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olohialin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compuesta totalmente por vidrio (&gt;90% en vol. de vid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Tamaño relativo de cristal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Equigranular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todos los cxs. de tamaño simil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Inequigranular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tamaño de los cxs. varí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Tamaño absoluto de cristales (granularidad)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nerít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cxs. visibles a simple vist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fanít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cxs. no visibles a simple vista; puede ser micro o criptocristalina dependiendo si pueden o no ser reconocidos con microscop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Seriada: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textura inequigranular en la cual se reconoce una continuidad en el tamaño de los cx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orfír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fenocristales en matriz o masa fundamental cristalin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itrofír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fenocristales en matriz o masa fundamental vítr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fírica</a:t>
            </a: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textura con masa fundamental de grano fino a vítrea, sin fenocrist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Tamaño del gran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muy grueso:     &gt;30 m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grueso: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5-30 m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medio: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2-5 m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fino: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   &lt;2 mm (reconocibl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Forma de los cristal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anidiomórf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todos los cristales presentan caras propias (euhedral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ipidiomórf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 los cxs. presentan algunas caras propias    (subhedral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lotromórf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  todos los cxs. no presentan caras propias   (anhedral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Estructura: </a:t>
            </a:r>
            <a:r>
              <a:rPr b="0" i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Distribución y orden de los cristales dentro de la roca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Ej. Homogéna, masiva, bandeada, nodulosa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Morfologías especiale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Vesícula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cavidades irregular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Amígdala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cavidades rellenas con uno o más miner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Inclusiones o enclave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elementos que se distinguen de la roca albergante por su mineralogía, forma, color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Fábrica: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 </a:t>
            </a:r>
            <a:r>
              <a:rPr b="0" i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Orientación espacial de los cristales o agregados policristalinos dentro de una roc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Ej. Linear, planar, isótropa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749916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Índice de color:</a:t>
            </a:r>
            <a:r>
              <a:rPr b="0" lang="es-ES_tradnl" sz="26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 </a:t>
            </a:r>
            <a:r>
              <a:rPr b="0" i="1" lang="es-ES_tradnl" sz="26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% de minerales máficos. (rocas plutónic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Leucocrático:       0-3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Melanocrático:   65-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Mesocrático:      35-65%</a:t>
            </a: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Ultramáfico:         &gt;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77058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79280" y="1957320"/>
          <a:ext cx="874872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57320"/>
                    <a:ext cx="874872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55640" y="260280"/>
            <a:ext cx="784872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544680"/>
            <a:ext cx="8382240" cy="57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609480" y="457200"/>
            <a:ext cx="3886200" cy="3276720"/>
            <a:chOff x="609480" y="457200"/>
            <a:chExt cx="3886200" cy="3276720"/>
          </a:xfrm>
        </p:grpSpPr>
        <p:sp>
          <p:nvSpPr>
            <p:cNvPr id="123" name=""/>
            <p:cNvSpPr/>
            <p:nvPr/>
          </p:nvSpPr>
          <p:spPr>
            <a:xfrm>
              <a:off x="609480" y="457200"/>
              <a:ext cx="3886200" cy="327672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52560" y="812880"/>
              <a:ext cx="3200400" cy="2743200"/>
            </a:xfrm>
            <a:prstGeom prst="triangle">
              <a:avLst>
                <a:gd name="adj" fmla="val 50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2320" y="800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3556080"/>
              <a:ext cx="37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295280" y="1144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gio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7940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yrox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37940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l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2438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8069600">
            <a:off x="1039680" y="207180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b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3550800">
            <a:off x="2813400" y="204264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cto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46716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gioclase-bearing ultramafic r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318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Anorth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2708280"/>
            <a:ext cx="3886200" cy="327672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62440" y="3060720"/>
            <a:ext cx="3200400" cy="2743200"/>
          </a:xfrm>
          <a:prstGeom prst="triangle">
            <a:avLst>
              <a:gd name="adj" fmla="val 500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l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60800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rthopyrox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60800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nopyrox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41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herzo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8069600">
            <a:off x="4865400" y="379692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zburg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3550800">
            <a:off x="6441120" y="39207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hr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5715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ste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2514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D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4952880"/>
            <a:ext cx="2666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56080" y="502920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ine Webste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69280" y="36576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Perido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9240" y="510552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Pyroxen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8229600" y="2666880"/>
            <a:ext cx="0" cy="99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29600" y="4038480"/>
            <a:ext cx="0" cy="838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553080" y="2743200"/>
            <a:ext cx="60984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743200" y="533520"/>
            <a:ext cx="53352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181480" y="4952880"/>
            <a:ext cx="0" cy="10670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080" y="87804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bro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16765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cas Ultramáfic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&gt;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5613480"/>
            <a:ext cx="2286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860960" y="5626080"/>
            <a:ext cx="2286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609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40560" y="28335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3916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26640" y="43578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Olivine orthopyrox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4572000"/>
            <a:ext cx="6098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9400" y="54864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Orthopyrox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5715000"/>
            <a:ext cx="10666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24240" y="541008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opyrox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563868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304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ificación de rocas ígneas faneríticas I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Rocas Ígne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ca Ígnea: Roca que se forma por el enfriamiento de un mag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gma: Fundido silicatado compuesto por una fase fundida, gases disueltos y crist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33"/>
                </a:solidFill>
                <a:latin typeface="Arial"/>
              </a:rPr>
              <a:t>Tipos de mag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Magmas Basálticos : 45-55% SiO2 , Tº:1000-1200 C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Magmas Graníticos : 65-75% SiO2, Tº: 650- 800 C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Magmas Intermedios : 55-65% SiO2, Tº: 800- 1000 C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629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796000" y="2997360"/>
            <a:ext cx="3168720" cy="12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048360" cy="3533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908000" y="33336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33"/>
                </a:solidFill>
                <a:latin typeface="Arial"/>
              </a:rPr>
              <a:t>GA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210200"/>
            <a:ext cx="813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oca ígnea básica de grano grueso compuesta por plagioclasa rica en calcio (Ca), ortopiroxeno y clinopirox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orita: composición de la plagioclasa es de An&lt;50 (oligoclasa-andesina), mientras que en el gabro es de An50 (labradorita-bitownita-anortit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1520" y="2023920"/>
            <a:ext cx="6451560" cy="4757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973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5493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Ga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66040" cy="4995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913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5280" y="5493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Dolerita = gabro o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dior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5235480" cy="3956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24000" y="1844640"/>
            <a:ext cx="28080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oca ígnea ultrabásica de grano gru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uesta por olivino rico en magne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Mg), acompañado en menor cantidad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r otros ferromagnesianos co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ortopiroxeno o el clinopirox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eridotita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sualmente serpentinizada: 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l olivino es un mineral muy inestable en las condiciones de la superficie del planeta, tendiendo a transformarse en serpentina. Esto transforma a estas rocas, en mayor o menor grado, en serpentinit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371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1969920"/>
            <a:ext cx="6489720" cy="4888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09480" y="5493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Peridot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unita: formada por sólo olivino como mineral esencial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5162400" cy="3238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716360" y="981000"/>
            <a:ext cx="4038840" cy="2637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716360" y="3500280"/>
            <a:ext cx="4038840" cy="25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bientes de generación de mag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8930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Generación de </a:t>
            </a:r>
            <a:br>
              <a:rPr sz="3800"/>
            </a:b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magm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6633"/>
                </a:solidFill>
                <a:uFillTx/>
                <a:latin typeface="Arial"/>
              </a:rPr>
              <a:t>Corteza Oceá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elgada: 10 k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ecuencia ofiolít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Sed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Basaltos almohadillados (”pillow lava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Enjambre de 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Gabros ma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Rocas ultramáficas (peridotit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211640" y="549360"/>
            <a:ext cx="4105440" cy="2995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140360" y="4076640"/>
            <a:ext cx="500364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6633"/>
                </a:solidFill>
                <a:uFillTx/>
                <a:latin typeface="Arial"/>
              </a:rPr>
              <a:t>Corteza Continen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-Más gruesa: 20-90 km, prom. ~35 k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-Composición y estratigrafía altamente vari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-Composición promedio ~ granodior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El manto se funde bajo ciertas condiciones generando magmas en zonas de expans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Magmas Basált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3898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ultan de la fusión parcial del ma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diante convección en el manto, se puede traer el calor necesario para la fu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usión parcial de peridotitas, piroxenitas y eclogitas (Gte, Cpx) puede originar magmas basál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17672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95280" y="549360"/>
          <a:ext cx="845820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45820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Rocas Ultramáfic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istalizadas directamente de un magma ultramáfico (komatita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→rar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Formadas por acumulación de cristales en cámaras magmát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Acreción de litosfera oceánica en corteza continental (ofiolit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Diapiros del manto emplazados tectónica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0:57:05Z</dcterms:created>
  <dc:creator>.</dc:creator>
  <dc:description/>
  <dc:language>en-US</dc:language>
  <cp:lastModifiedBy>.</cp:lastModifiedBy>
  <dcterms:modified xsi:type="dcterms:W3CDTF">2007-08-30T05:53:25Z</dcterms:modified>
  <cp:revision>4</cp:revision>
  <dc:subject/>
  <dc:title>Rocas Ígneas Intrusivas</dc:title>
</cp:coreProperties>
</file>