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8BE3-0F9D-4012-84C5-523C99CEC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3495-2DB7-4896-85DD-582B69D05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4B63-FDA8-483F-8EA2-408610397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02AF-D221-44E0-8EA3-00048251B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9196-A014-4077-9B97-60BD1244F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56B0-1ABF-4423-A054-0FB45D249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2CAD-CE6F-4BDB-A06D-9A65717D7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6010-1E72-47FA-AC9F-F991D77E7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3347-00EF-4C77-9A56-F271B1408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F615-10C2-49F2-A19C-818AA00C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9A6E-D7C8-46ED-AA47-60504439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6451-9892-4115-A0EA-FE20C009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98FB5-06BC-4188-A19F-49BD394949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s.wikipedia.org/wiki/Imagen:Hematite-1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660066"/>
                </a:solidFill>
                <a:latin typeface="Bradley Hand ITC"/>
              </a:rPr>
              <a:t>Óxidos, carbonatos y sulfat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ScholHudson-Regular"/>
              </a:rPr>
              <a:t>Fundamentos de Petrolog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ScholHudson-Regular"/>
              </a:rPr>
              <a:t>Primavera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Aragonito- CaCO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95640" y="1844280"/>
            <a:ext cx="446256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Polimorfo de alta presión de la calci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Sistema cristalográfic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ortorrómb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Hábito: 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piramidal acicular, tabular y en maclas pseudohexagon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Brill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vítr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Color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incoloro, blanquecino, amarill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Dureza: 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3 ½ a 4 (mayor que la calci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Diagnóstic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se distingue de la calcita por su dureza y falta de exfoliación romboéd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Ocurrencia: 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menos estable que la calcita, se forma a baja temperatura, en depósitos superficiales. También en fuentes hidroterm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image45.jpg (48931 bytes)"/>
          <p:cNvPicPr/>
          <p:nvPr/>
        </p:nvPicPr>
        <p:blipFill>
          <a:blip r:embed="rId1"/>
          <a:stretch/>
        </p:blipFill>
        <p:spPr>
          <a:xfrm>
            <a:off x="826920" y="2133720"/>
            <a:ext cx="264024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Dolomita- CaMg(CO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3</a:t>
            </a: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)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40000" y="2133360"/>
            <a:ext cx="46083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Sistema cristalográfico: 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hexag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Hábito: 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cxs romboédricos, masas exfoliables granuladas finas o grues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Brill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vítreo a perl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Color: 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rosa, incoloro, blanquecino, grisáceo, verdoso, pardo o negruz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Dureza: 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3 ½ a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Diagnóstico: 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efervesce con HCl caliente, en polvo soluble en ácido frí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Ocurrencia: 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en masas rocosas formando calizas dolomíticas. De origen secundario formado a partir de sustitución de Ca por Mg en calizas ordinarias. También puede tener un origen hidroterm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34542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660066"/>
                </a:solidFill>
                <a:latin typeface="Bradley Hand ITC"/>
              </a:rPr>
              <a:t>Sulfat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En su composición tienen el grupo iónico (SO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Garamond"/>
              </a:rPr>
              <a:t>4</a:t>
            </a: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)</a:t>
            </a:r>
            <a:r>
              <a:rPr b="0" lang="es-MX" sz="3200" spc="-1" strike="noStrike" baseline="30000">
                <a:solidFill>
                  <a:srgbClr val="000000"/>
                </a:solidFill>
                <a:latin typeface="Garamond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Los sulfatos anhidros más importantes son el  grupo de la baritina y la anhidri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Entre los sulfatos hidratados, el yeso es el más importante y abunda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Baritina- BaSO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779640" y="1916280"/>
            <a:ext cx="467820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Sistema cristalográfico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ortorrómb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Hábito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cxs gralmente tabulares, a veces en forma de rombo, en láminas gruesas, granulares o terros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Brillo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vítre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Color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incoloro, blanco, tonos pálidos azulados, amarillentos o rojiz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Dureza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3 a 3 ½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Diagnóstico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exfoliación perfecta, alto peso específ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Ocurrencia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de origen hidrotermal o en rocas sedimentari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5280" y="2492280"/>
            <a:ext cx="316548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Anhidrita- CaSO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067280" y="1773000"/>
            <a:ext cx="475272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Sistema cristalográfico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ortorrómb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Hábito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cxs raros, cuando existen son tabulares gruesos. Gralmente en masas cristalinas, fibroso, granular o maciz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Brillo: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 vítreo a perl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Color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incoloro a azulado o viole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Dureza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3 ½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Diagnóstico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 tres exfoliaciones en ángulos rectos. Se distingue de la calcita por su mayor peso específico, y del yeso por su mayor durez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Ocurrencia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asociada a yeso, en rocas sedimentarias, depósitos de sal (evaporitas), cavidades amigdaloidal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95280" y="2492280"/>
            <a:ext cx="345456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Yeso- CaSO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4</a:t>
            </a:r>
            <a:r>
              <a:rPr b="0" lang="es-MX" sz="4400" spc="-1" strike="noStrike">
                <a:solidFill>
                  <a:srgbClr val="660066"/>
                </a:solidFill>
                <a:latin typeface="Bradley Hand ITC"/>
                <a:ea typeface="Times New Roman"/>
              </a:rPr>
              <a:t>· 2H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  <a:ea typeface="Times New Roman"/>
              </a:rPr>
              <a:t>2</a:t>
            </a:r>
            <a:r>
              <a:rPr b="0" lang="es-MX" sz="4400" spc="-1" strike="noStrike">
                <a:solidFill>
                  <a:srgbClr val="660066"/>
                </a:solidFill>
                <a:latin typeface="Bradley Hand ITC"/>
                <a:ea typeface="Times New Roman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140360" y="1844280"/>
            <a:ext cx="453384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Sistema cristalográfico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monoclín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Hábito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cxs</a:t>
            </a: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tabulares, rómbicos, maclas frecuentes (cola de golondrin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Brillo: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 vítreo, perlado, sed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Color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incoloro, blanco, gris, amarillo, rojo por impurez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Dureza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Ocurrencia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frecuente en rocas sedimentarias, en depósitos de sal, vetas, en regiones volcánicas por acción de vapores sulfuros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95280" y="2492280"/>
            <a:ext cx="330984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Alunita- KAl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3</a:t>
            </a: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(SO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4</a:t>
            </a: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)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2</a:t>
            </a: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(OH)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2735280" cy="21999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284360" y="1916280"/>
            <a:ext cx="439092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Sistema cristalográfico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hexago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Hábito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cxs piramidales, tabulares, en masa o disemin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Brillo: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 vítreo a perlado en cxs. Terroso en me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Color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blanco, gris o rojiz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Dureza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Ocurrencia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formada generalmente por soluciones de ácido sulfúrico que actúan sobre rocas ricas en feldespato, origen hidrotermal, en ambiente de alta sulfuració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Alunita con pirofilita contaminada con azufre. Comerio PR"/>
          <p:cNvPicPr/>
          <p:nvPr/>
        </p:nvPicPr>
        <p:blipFill>
          <a:blip r:embed="rId2"/>
          <a:stretch/>
        </p:blipFill>
        <p:spPr>
          <a:xfrm>
            <a:off x="900000" y="4437000"/>
            <a:ext cx="27482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660066"/>
                </a:solidFill>
                <a:latin typeface="Bradley Hand ITC"/>
              </a:rPr>
              <a:t>Óxid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Compuestos en los que el oxígeno aparece combinado con uno o más met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Óxidos simples: compuestos por un metal y oxígeno X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O, XO, X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Garamond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Óxidos múltiples: tienen dos posiciones con átomos metálicos no equivalentes XY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Garamond"/>
              </a:rPr>
              <a:t>4</a:t>
            </a: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Tipo X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Garamond"/>
              </a:rPr>
              <a:t>3 </a:t>
            </a: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: Grupo de la hematita 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(Corindón Al</a:t>
            </a:r>
            <a:r>
              <a:rPr b="0" lang="es-MX" sz="3200" spc="-1" strike="noStrike" baseline="-25000">
                <a:solidFill>
                  <a:srgbClr val="660066"/>
                </a:solidFill>
                <a:latin typeface="Garamond"/>
              </a:rPr>
              <a:t>2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O</a:t>
            </a:r>
            <a:r>
              <a:rPr b="0" lang="es-MX" sz="3200" spc="-1" strike="noStrike" baseline="-25000">
                <a:solidFill>
                  <a:srgbClr val="660066"/>
                </a:solidFill>
                <a:latin typeface="Garamond"/>
              </a:rPr>
              <a:t>3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, Hematita Fe</a:t>
            </a:r>
            <a:r>
              <a:rPr b="0" lang="es-MX" sz="3200" spc="-1" strike="noStrike" baseline="-25000">
                <a:solidFill>
                  <a:srgbClr val="660066"/>
                </a:solidFill>
                <a:latin typeface="Garamond"/>
              </a:rPr>
              <a:t>2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O</a:t>
            </a:r>
            <a:r>
              <a:rPr b="0" lang="es-MX" sz="3200" spc="-1" strike="noStrike" baseline="-25000">
                <a:solidFill>
                  <a:srgbClr val="660066"/>
                </a:solidFill>
                <a:latin typeface="Garamond"/>
              </a:rPr>
              <a:t>3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, Ilmenita FeTiO</a:t>
            </a:r>
            <a:r>
              <a:rPr b="0" lang="es-MX" sz="3200" spc="-1" strike="noStrike" baseline="-25000">
                <a:solidFill>
                  <a:srgbClr val="660066"/>
                </a:solidFill>
                <a:latin typeface="Garamond"/>
              </a:rPr>
              <a:t>3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Tipo XY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Garamond"/>
              </a:rPr>
              <a:t>4</a:t>
            </a: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: Grupo de la espinela 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(Espinela MgAl</a:t>
            </a:r>
            <a:r>
              <a:rPr b="0" lang="es-MX" sz="3200" spc="-1" strike="noStrike" baseline="-25000">
                <a:solidFill>
                  <a:srgbClr val="660066"/>
                </a:solidFill>
                <a:latin typeface="Garamond"/>
              </a:rPr>
              <a:t>2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O</a:t>
            </a:r>
            <a:r>
              <a:rPr b="0" lang="es-MX" sz="3200" spc="-1" strike="noStrike" baseline="-25000">
                <a:solidFill>
                  <a:srgbClr val="660066"/>
                </a:solidFill>
                <a:latin typeface="Garamond"/>
              </a:rPr>
              <a:t>4, 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Magnetita Fe</a:t>
            </a:r>
            <a:r>
              <a:rPr b="0" lang="es-MX" sz="3200" spc="-1" strike="noStrike" baseline="-25000">
                <a:solidFill>
                  <a:srgbClr val="660066"/>
                </a:solidFill>
                <a:latin typeface="Garamond"/>
              </a:rPr>
              <a:t>3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O</a:t>
            </a:r>
            <a:r>
              <a:rPr b="0" lang="es-MX" sz="3200" spc="-1" strike="noStrike" baseline="-25000">
                <a:solidFill>
                  <a:srgbClr val="660066"/>
                </a:solidFill>
                <a:latin typeface="Garamond"/>
              </a:rPr>
              <a:t>4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, Cromita FeCr</a:t>
            </a:r>
            <a:r>
              <a:rPr b="0" lang="es-MX" sz="3200" spc="-1" strike="noStrike" baseline="-25000">
                <a:solidFill>
                  <a:srgbClr val="660066"/>
                </a:solidFill>
                <a:latin typeface="Garamond"/>
              </a:rPr>
              <a:t>2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O</a:t>
            </a:r>
            <a:r>
              <a:rPr b="0" lang="es-MX" sz="3200" spc="-1" strike="noStrike" baseline="-25000">
                <a:solidFill>
                  <a:srgbClr val="660066"/>
                </a:solidFill>
                <a:latin typeface="Garamond"/>
              </a:rPr>
              <a:t>4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Tipo XO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: Grupo del rutilo 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(Rutilo TiO</a:t>
            </a:r>
            <a:r>
              <a:rPr b="0" lang="es-MX" sz="3200" spc="-1" strike="noStrike" baseline="-25000">
                <a:solidFill>
                  <a:srgbClr val="660066"/>
                </a:solidFill>
                <a:latin typeface="Garamond"/>
              </a:rPr>
              <a:t>2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, Pirolusita MnO</a:t>
            </a:r>
            <a:r>
              <a:rPr b="0" lang="es-MX" sz="3200" spc="-1" strike="noStrike" baseline="-25000">
                <a:solidFill>
                  <a:srgbClr val="660066"/>
                </a:solidFill>
                <a:latin typeface="Garamond"/>
              </a:rPr>
              <a:t>2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, Uraninita UO</a:t>
            </a:r>
            <a:r>
              <a:rPr b="0" lang="es-MX" sz="3200" spc="-1" strike="noStrike" baseline="-25000">
                <a:solidFill>
                  <a:srgbClr val="660066"/>
                </a:solidFill>
                <a:latin typeface="Garamond"/>
              </a:rPr>
              <a:t>2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)</a:t>
            </a:r>
            <a:r>
              <a:rPr b="0" lang="es-MX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Hematita-Fe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2</a:t>
            </a: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O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Hematita roj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989000"/>
            <a:ext cx="2592720" cy="1940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140360" y="1989000"/>
            <a:ext cx="475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Sistema cristalográfic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hexag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Hábit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cxs. tabulares gruesos o delgados, terroso, en masas botroidales, micáceo y hojoso (especulari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Brill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metálico en cxs. y mate en variedades terro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Color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castaño rojizo a neg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Raya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rojo claro a oscu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Dureza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5 ½ a 6 ½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Ocurrencia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como producto de actividad volcánica, en depósitos metamórficos de contacto y como mx accesorio de rocas ígneas félsicas. También como oxidación de limonitas y magneti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26920" y="4253040"/>
            <a:ext cx="259272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Magnetita- Fe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3</a:t>
            </a: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O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84120" y="1981080"/>
            <a:ext cx="2613240" cy="19814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Sistema cristalográfic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isométr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Hábit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cxs. octaédricos, macizo, granular o en grano fi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Brill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metál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Color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negro de hier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Raya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neg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Dureza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6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Diagnóstic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magnetis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Ocurrencia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como mx accesorio de rocas ígneas. En algunos casos forma grandes masas de mineral. También asociado a rocas metamórficas cristalin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258920" y="4232160"/>
            <a:ext cx="2665440" cy="22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Rutilo- TiO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387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Sistema cristalográfico: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 tetrago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Hábito: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 cxs. aciculares delgados o macizos compact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Brillo: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 adamantino a submetálic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Color: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 rojo, castaño rojizo a negr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Raya: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 castaño pálid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Dureza: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 6 a 6 ½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Ocurrencia: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 en granitos, pegmatitas graníticas, gneis, esquistos micáceos, calizas metamórficas. Como mx accesorio en rocas de cuarzo. Asociado a ilmenita, magnetita y circón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Pirolusita- MnO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70080" y="1981080"/>
            <a:ext cx="2641680" cy="19814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1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Sistema cristalográfic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tetrag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Hábit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en fibras o columnas radiales, macizo, granuloso y formas dendrític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Brill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metál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Color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megro de hier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Raya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negro de hier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Dureza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1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Ocurrencia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Mn en pequeñas cantidades en la mayor parte de las rocas cristalinas, cuando se disuelve vuelve a depositarse especialmente como pirolusita. En arcillas residu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268280" y="4114800"/>
            <a:ext cx="26449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660066"/>
                </a:solidFill>
                <a:latin typeface="Bradley Hand ITC"/>
              </a:rPr>
              <a:t>Carbonat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aramond"/>
              </a:rPr>
              <a:t>En su composición contienen los complejos aniónicos (CO</a:t>
            </a:r>
            <a:r>
              <a:rPr b="0" lang="es-MX" sz="2800" spc="-1" strike="noStrike" baseline="-25000">
                <a:solidFill>
                  <a:srgbClr val="000000"/>
                </a:solidFill>
                <a:latin typeface="Garamond"/>
              </a:rPr>
              <a:t>3</a:t>
            </a:r>
            <a:r>
              <a:rPr b="0" lang="es-MX" sz="2800" spc="-1" strike="noStrike">
                <a:solidFill>
                  <a:srgbClr val="000000"/>
                </a:solidFill>
                <a:latin typeface="Garamond"/>
              </a:rPr>
              <a:t>)</a:t>
            </a:r>
            <a:r>
              <a:rPr b="0" lang="es-MX" sz="2800" spc="-1" strike="noStrike" baseline="30000">
                <a:solidFill>
                  <a:srgbClr val="000000"/>
                </a:solidFill>
                <a:latin typeface="Garamond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aramond"/>
              </a:rPr>
              <a:t>En presencia del ión hidrógeno, el radical carbonato se vuelve inestable y se descompone según la reacció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Garamond"/>
              </a:rPr>
              <a:t>2H</a:t>
            </a:r>
            <a:r>
              <a:rPr b="0" lang="es-MX" sz="2800" spc="-1" strike="noStrike" baseline="30000">
                <a:solidFill>
                  <a:srgbClr val="000000"/>
                </a:solidFill>
                <a:latin typeface="Garamond"/>
              </a:rPr>
              <a:t>+</a:t>
            </a:r>
            <a:r>
              <a:rPr b="0" lang="es-MX" sz="2800" spc="-1" strike="noStrike">
                <a:solidFill>
                  <a:srgbClr val="000000"/>
                </a:solidFill>
                <a:latin typeface="Garamond"/>
              </a:rPr>
              <a:t> + CO</a:t>
            </a:r>
            <a:r>
              <a:rPr b="0" lang="es-MX" sz="2800" spc="-1" strike="noStrike" baseline="-25000">
                <a:solidFill>
                  <a:srgbClr val="000000"/>
                </a:solidFill>
                <a:latin typeface="Garamond"/>
              </a:rPr>
              <a:t>3</a:t>
            </a:r>
            <a:r>
              <a:rPr b="0" lang="es-MX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MX" sz="2800" spc="-1" strike="noStrike">
                <a:solidFill>
                  <a:srgbClr val="000000"/>
                </a:solidFill>
                <a:latin typeface="Garamond"/>
              </a:rPr>
              <a:t> H</a:t>
            </a:r>
            <a:r>
              <a:rPr b="0" lang="es-MX" sz="2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es-MX" sz="2800" spc="-1" strike="noStrike">
                <a:solidFill>
                  <a:srgbClr val="000000"/>
                </a:solidFill>
                <a:latin typeface="Garamond"/>
              </a:rPr>
              <a:t>O + CO</a:t>
            </a:r>
            <a:r>
              <a:rPr b="0" lang="es-MX" sz="2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aramond"/>
              </a:rPr>
              <a:t>Los carbonatos anhidros más importantes pertenecen a tres grupos: </a:t>
            </a:r>
            <a:r>
              <a:rPr b="1" lang="es-MX" sz="2800" spc="-1" strike="noStrike">
                <a:solidFill>
                  <a:srgbClr val="000000"/>
                </a:solidFill>
                <a:latin typeface="Garamond"/>
              </a:rPr>
              <a:t>el grupo de la calcita, el del aragonito y el grupo de la dolom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aramond"/>
              </a:rPr>
              <a:t>Otros carbonatos de importancia: </a:t>
            </a:r>
            <a:r>
              <a:rPr b="1" lang="es-MX" sz="2800" spc="-1" strike="noStrike">
                <a:solidFill>
                  <a:srgbClr val="000000"/>
                </a:solidFill>
                <a:latin typeface="Garamond"/>
              </a:rPr>
              <a:t>azurita y malaquita</a:t>
            </a:r>
            <a:r>
              <a:rPr b="0" lang="es-MX" sz="2800" spc="-1" strike="noStrike">
                <a:solidFill>
                  <a:srgbClr val="000000"/>
                </a:solidFill>
                <a:latin typeface="Garamond"/>
              </a:rPr>
              <a:t> (carbonatos de Cob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Calcita- CaCO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211640" y="1699920"/>
            <a:ext cx="468144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Sistema cristalográfic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hexag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Hábit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muy variado (más de 300 formas distintas). Más importantes: prismáticos, romboédricos, escalenoédr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Brill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vítreo terro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Color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blanco a incoloro. Puede tener tonos grisáceos, rojizo, verdoso, azulado. Si es impura, de pardo a neg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Exfoliación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perfec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Dureza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3 en la cara de exfoli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Diagnóstico: 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efervesce en H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Ocurrencia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como mineral formador de roca, en rocas sedimentarias, calizas, calizas metamórficas (mármol). Como mineral primario en algunas rocas ígneas, rellenando cavidades y sistemas hidroterm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68360" y="2492280"/>
            <a:ext cx="352584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8T02:49:26Z</dcterms:created>
  <dc:creator>Odin the Great</dc:creator>
  <dc:description/>
  <dc:language>en-US</dc:language>
  <cp:lastModifiedBy>PREGRADO10</cp:lastModifiedBy>
  <dcterms:modified xsi:type="dcterms:W3CDTF">2007-08-09T17:01:42Z</dcterms:modified>
  <cp:revision>9</cp:revision>
  <dc:subject/>
  <dc:title>Óxidos, carbonatos y sulfatos</dc:title>
</cp:coreProperties>
</file>