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6E6-EE86-4BDF-AB8E-8F9A9BE4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E70-EF7F-4448-B97B-7BC22148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F02-1ADD-4028-BA54-8710CF68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4F0-635C-4C4E-8AF7-0872C78F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1E23-C5E2-4D55-80AC-D00B6428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AABD-ADCD-4544-8F9F-99A0158A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5B01-B97A-4DC7-92D1-52ECBE1A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E349-0F2E-416D-8410-83C7B13E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5D30-F8A0-4837-ABCF-33017618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A45B-2DDE-425A-AF20-343D3213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1AC1-48AC-4676-AA77-7E0F1927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94B-E925-4372-993C-EB89DCCA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1D4D-1E31-4C41-97D8-5577E16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1F35-B466-4737-A6CB-56E18B9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D3FD-83FF-4D39-86CF-02CFDF9A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90C9-5EEE-4839-9CF3-33035EF1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F64C-A8E0-4357-BC21-E5C112E0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00A-A660-40A5-A067-A9903376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2DA-2B3C-4860-A895-9B06A65B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5AC-1735-4AD8-8D6C-28A9BE61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F1C-6465-466E-94E0-718DAB30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F41-F302-4981-90E7-67126F6B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132-E06F-460F-9658-DE0323B8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A25-3BDF-4F4E-9F44-2C76D13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AA7A-81E3-43EE-8955-F52A43EBE8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F2A6-9CF0-4975-A662-F4509BA783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330033"/>
                </a:solidFill>
                <a:latin typeface="Times New Roman"/>
              </a:rPr>
              <a:t>Auxiliar Fundamentos de Petrología GL41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4653000"/>
            <a:ext cx="251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anuel Muñoz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. Carolina Soto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Paula Castillo G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ulari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blanco, verde, amarillo, pardo, canela, rojo pá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743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din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Rojo oscu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76680" cy="280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2229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op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Mg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rojo intenso a casi neg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810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otas y regla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es (4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1 (50%): Rocas volcánicas, piroclást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plutó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2 (50%): Rocas metamórf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sedi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scripciones (3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 o más a la semana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 Lectur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are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      C*0,4+D*0,3+L*0,15+T*0,15 &lt; 3,7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Reprob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,7&gt; C*0,4+D*0,3+L*0,15+T*0,15 &lt; 4,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perativo 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Todo debe ser aprobado por sepa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Asistencia OBLIG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50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rogra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1628640"/>
          <a:ext cx="7772400" cy="4703760"/>
        </p:xfrm>
        <a:graphic>
          <a:graphicData uri="http://schemas.openxmlformats.org/drawingml/2006/table">
            <a:tbl>
              <a:tblPr/>
              <a:tblGrid>
                <a:gridCol w="390600"/>
                <a:gridCol w="1478160"/>
                <a:gridCol w="5903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/07 - 03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silic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08 - 10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óxidos, carbonatos, sulf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08 - 17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Volcá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08 - 24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iroclást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08 - 31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ultrabásicas y bás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09 - 07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intermedias y ácidas y rocas filonian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09 - 14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1: Minerales, rocas volcánicas, piroclásticas y plutó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09 - 21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CACIO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09 - 28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uras de rocas metamórficas y tipos de metamorf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10 - 05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pelí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/10 - 1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OLIMP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10 - 19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bás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/10 - 26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carboná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10 - 02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clásticas: ambientes de formación y clasificació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11 - 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químicas: ambientes de formación y clasifi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11 - 16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2: rocas metamórficas y sedimentari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es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traedros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án unidos entre si con enlaces iónicos por medio de cationes interst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livi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uminosilicatos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urol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Fe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O,OH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ranat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olimorfos Al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SiO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5084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mpos de estabilidad determinados experimentalmente para los polimorfos del Al2Si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3648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s casi cuad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jo de carne, castaño rojizo, verde oliv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ureolas de contacto de intrusiones igneas en rocas arcillosas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 casi cuadrado, dureza. La variedad Quiastolita contiene finas inclusiones carbonosas o arcillosas de color oscuro en forma de cruz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819600" cy="211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2448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55640" y="2133720"/>
          <a:ext cx="7848720" cy="4174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1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i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tabulares alargados, rara vez terminados. En agregados hoj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neralmente azul, con tonalidades más oscuras hacia dentro del cris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Variable. 6,7 a lo largo del prisma y 4,5 a 5 perpendicu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tamorfismo regional de rocas pelíticas (alta presión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hojosos, buena exfoliación, color azul y diferentes durezas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7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largos y delgados sin terminaciones claras, aciculares fibro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do, verde pálido, blan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cas arcillosas metamórficas de alta temperatura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delgados, con solo una dirección de exfoli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724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uro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no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prismáticos, maclas cruciformes de dos tipos (90° y 60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castaño rojizo a negro castañ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7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 accesorio de las rocas ricas en aluminio y de los esquistos cristalinos y de algunos gne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y maclas característicos. De la andalucita se distingue por los prismas obtu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781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0:29:27Z</dcterms:created>
  <dc:creator>Paula Castillo</dc:creator>
  <dc:description/>
  <dc:language>en-US</dc:language>
  <cp:lastModifiedBy>Paula Castillo</cp:lastModifiedBy>
  <dcterms:modified xsi:type="dcterms:W3CDTF">2007-08-08T05:20:50Z</dcterms:modified>
  <cp:revision>9</cp:revision>
  <dc:subject/>
  <dc:title>Auxiliar Fundamentos de Petrología GL41C</dc:title>
</cp:coreProperties>
</file>