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CB9-073F-4725-903D-C99B8B36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7F8-CF82-4543-B594-65D10A8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B62-337A-4EA4-A2CF-7232CDCA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F26-392E-4164-865F-51DD6F66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F7C0-1026-4DEF-A697-049A488B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D5C5-6A18-408A-A736-8E7FAE26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6911-00A1-464F-9E9B-9616D857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5A1A-6CF9-4BBA-B662-6DA19D58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0025-0B00-4076-943F-2E741745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CB1D-FC01-4D18-A4CE-DCA3E588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E298-17C4-4024-92F8-55266108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CE4-C038-49E5-A42E-516FDBC1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4631-3D20-4EE9-88CB-7A12E046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A9D5-8F8A-49AE-ABE2-3AE1F41C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AF61-4C2F-4DDF-ABF0-34EDBAD5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BBE4-5E0F-46E3-9007-2A09BD97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1F97-5088-4A3F-BF9C-43809806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11D-22D8-413F-B7F5-D7549659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51C-E0EB-4D01-BDB3-36954995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3BA-DC5B-4866-86E6-A2B2E75B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EB3-0ADD-4B50-A10E-B21CB99D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154-0651-4B76-898E-F59DEC9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38E-6FF0-4499-BD63-27ABF7FF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764-8A00-4C6B-B6CD-5B6DF1A5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3628-49DA-4334-9031-273822E980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8DD0-6812-4AD9-98C8-82B69F53FB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330033"/>
                </a:solidFill>
                <a:latin typeface="Times New Roman"/>
              </a:rPr>
              <a:t>Auxiliar Fundamentos de Petrología GL41C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4653000"/>
            <a:ext cx="2519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anuel Muñoz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M. Carolina Soto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0033"/>
                </a:solidFill>
                <a:latin typeface="Arial"/>
              </a:rPr>
              <a:t>Paula Castillo G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ulari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a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blanco, verde, amarillo, pardo, canela, rojo pá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743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din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e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Rojo oscu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676680" cy="280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2229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Grupo del Gran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1700280"/>
          <a:ext cx="7848720" cy="46083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omét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es, de forma: dodecaedro, trapezoedro, hexaquisoctaedro. Granos redond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gún composi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amentalmente metamórfico, aunque también puede tener origen magmát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dades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opo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Mg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s-C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color rojo intenso a casi neg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8102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otas y regla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troles (4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1 (50%): Rocas volcánicas, piroclást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plutó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 2 (50%): Rocas metamórficas y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sedime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scripciones (30%)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 o más a la semana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 Lectur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areas (1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      C*0,4+D*0,3+L*0,15+T*0,15 &lt; 3,7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Reprob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,7&gt; C*0,4+D*0,3+L*0,15+T*0,15 &lt; 4,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cuperativo 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Todo debe ser aprobado por sepa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  Asistencia OBLIG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50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rogram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1628640"/>
          <a:ext cx="7772400" cy="4703760"/>
        </p:xfrm>
        <a:graphic>
          <a:graphicData uri="http://schemas.openxmlformats.org/drawingml/2006/table">
            <a:tbl>
              <a:tblPr/>
              <a:tblGrid>
                <a:gridCol w="390600"/>
                <a:gridCol w="1478160"/>
                <a:gridCol w="5903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/07 - 03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silic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08 - 10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Mineralógica de óxidos, carbonatos, sulfa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08 - 17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Volcá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08 - 24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iroclást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08 - 31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ultrabásicas y bás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09 - 07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plutónicas intermedias y ácidas y rocas filonian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09 - 14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1: Minerales, rocas volcánicas, piroclásticas y plutón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09 - 21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CACIO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09 - 28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uras de rocas metamórficas y tipos de metamorfism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/10 - 05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pelí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/10 - 1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ANA OLIMP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/10 - 19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bás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/10 - 26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metamórficas de protolito carbonático de grano creci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10 - 02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clásticas: ambientes de formación y clasificació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/11 - 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as sedimentarias químicas: ambientes de formación y clasific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11 - 16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ONTROL 2: rocas metamórficas y sedimentari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Nes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traedros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án unidos entre si con enlaces iónicos por medio de cationes interst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livin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uminosilicatos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tauroli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FeAl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O,OH)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upo d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ranat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Polimorfos Al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SiO</a:t>
            </a:r>
            <a:r>
              <a:rPr b="0" lang="es-CL" sz="4200" spc="-1" strike="noStrike" baseline="-25000">
                <a:solidFill>
                  <a:srgbClr val="330033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508464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mpos de estabilidad determinados experimentalmente para los polimorfos del Al2Si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3648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alu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s casi cuadr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jo de carne, castaño rojizo, verde oliv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ureolas de contacto de intrusiones igneas en rocas arcillosas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sma casi cuadrado, dureza. La variedad Quiastolita contiene finas inclusiones carbonosas o arcillosas de color oscuro en forma de cruz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819600" cy="211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2448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55640" y="2133720"/>
          <a:ext cx="7848720" cy="4174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41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i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tabulares alargados, rara vez terminados. En agregados hojo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eneralmente azul, con tonalidades más oscuras hacia dentro del cris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Variable. 6,7 a lo largo del prisma y 4,5 a 5 perpendicu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tamorfismo regional de rocas pelíticas (alta presión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hojosos, buena exfoliación, color azul y diferentes durezas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791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lima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ómb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largos y delgados sin terminaciones claras, aciculares fibro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do, verde pálido, blan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6,5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cas arcillosas metamórficas de alta temperatura. Metamorfismo region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delgados, con solo una dirección de exfoli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724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330033"/>
                </a:solidFill>
                <a:latin typeface="Times New Roman"/>
              </a:rPr>
              <a:t>Aluminosilica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uro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2133720"/>
          <a:ext cx="7848360" cy="417456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1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cristalográfic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noclín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ristales prismáticos, maclas cruciformes de dos tipos (90° y 60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: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castaño rojizo a negro castañ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eza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7 a 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rrencia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 accesorio de las rocas ricas en aluminio y de los esquistos cristalinos y de algunos gne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: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ales y maclas característicos. De la andalucita se distingue por los prismas obtus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781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0:29:27Z</dcterms:created>
  <dc:creator>Paula Castillo</dc:creator>
  <dc:description/>
  <dc:language>en-US</dc:language>
  <cp:lastModifiedBy>Paula Castillo</cp:lastModifiedBy>
  <dcterms:modified xsi:type="dcterms:W3CDTF">2007-08-08T05:20:50Z</dcterms:modified>
  <cp:revision>9</cp:revision>
  <dc:subject/>
  <dc:title>Auxiliar Fundamentos de Petrología GL41C</dc:title>
</cp:coreProperties>
</file>