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577-DF5F-40DE-914E-4CD9D10E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777-A599-46B8-9FE3-76B5DA66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D2C-22FA-42DF-80BF-37D300A2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DAA-1200-485D-A7A1-B47E209E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25DE-000A-4DA8-8326-7E02F2ED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CEC3-6EE6-4944-924D-26BC794B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A380-1886-40A8-B579-A806996A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E60A-0B1C-42B3-9E00-B738877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97A6-0BC0-4609-844D-E9447352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A580-CA19-4F5B-941D-27056B79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F90F-BBD1-486A-A23E-9477C1E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708-E3B3-44F4-9749-B21CEA39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A25E-444B-4870-822E-A18C0F74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8EEC-B005-46D4-B45C-87625C27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F182-F192-48DA-B013-790568FB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2017-0EDF-4491-B1BF-AA25BF28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AB0D-FB8E-40FC-881D-8B25CC91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412-AC90-4C52-A6A2-C3465196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E9B-9D33-4CEA-A08C-A66BB14E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CDB-BE87-44EB-86C7-F00C8CF2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A6F-B966-4287-8D4C-BC91CEF1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EB7-6A9B-4A5A-BF9E-D1A9993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B1D-E8C7-45F5-87F2-9FBCC77A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B7B-1238-48C9-A130-770268BE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0E82-7F59-47AF-AC4C-50B0752693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5378-E6AC-4736-BE4E-3CFF7315EF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330033"/>
                </a:solidFill>
                <a:latin typeface="Times New Roman"/>
              </a:rPr>
              <a:t>Auxiliar Fundamentos de Petrología GL41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4653000"/>
            <a:ext cx="251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anuel Muñoz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. Carolina Soto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Paula Castillo G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ulari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blanco, verde, amarillo, pardo, canela, rojo pá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743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din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Rojo oscu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76680" cy="280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2229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op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Mg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rojo intenso a casi neg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810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otas y regla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es (4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1 (50%): Rocas volcánicas, piroclást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plutó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2 (50%): Rocas metamórf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sedi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scripciones (3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 o más a la semana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 Lectur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are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      C*0,4+D*0,3+L*0,15+T*0,15 &lt; 3,7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Reprob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,7&gt; C*0,4+D*0,3+L*0,15+T*0,15 &lt; 4,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perativo 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Todo debe ser aprobado por sepa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Asistencia OBLIG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50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rogra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1628640"/>
          <a:ext cx="7772400" cy="4703760"/>
        </p:xfrm>
        <a:graphic>
          <a:graphicData uri="http://schemas.openxmlformats.org/drawingml/2006/table">
            <a:tbl>
              <a:tblPr/>
              <a:tblGrid>
                <a:gridCol w="390600"/>
                <a:gridCol w="1478160"/>
                <a:gridCol w="5903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/07 - 03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silic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08 - 10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óxidos, carbonatos, sulf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08 - 17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Volcá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08 - 24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iroclást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08 - 31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ultrabásicas y bás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09 - 07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intermedias y ácidas y rocas filonian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09 - 14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1: Minerales, rocas volcánicas, piroclásticas y plutó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09 - 21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CACIO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09 - 28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uras de rocas metamórficas y tipos de metamorf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10 - 05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pelí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/10 - 1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OLIMP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10 - 19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bás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/10 - 26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carboná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10 - 02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clásticas: ambientes de formación y clasificació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11 - 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químicas: ambientes de formación y clasifi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11 - 16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2: rocas metamórficas y sedimentari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es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traedros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án unidos entre si con enlaces iónicos por medio de cationes interst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livi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uminosilicatos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urol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Fe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O,OH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ranat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olimorfos Al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SiO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5084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mpos de estabilidad determinados experimentalmente para los polimorfos del Al2Si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3648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s casi cuad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jo de carne, castaño rojizo, verde oliv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ureolas de contacto de intrusiones igneas en rocas arcillosas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 casi cuadrado, dureza. La variedad Quiastolita contiene finas inclusiones carbonosas o arcillosas de color oscuro en forma de cruz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819600" cy="211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2448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55640" y="2133720"/>
          <a:ext cx="7848720" cy="4174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1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i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tabulares alargados, rara vez terminados. En agregados hoj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neralmente azul, con tonalidades más oscuras hacia dentro del cris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Variable. 6,7 a lo largo del prisma y 4,5 a 5 perpendicu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tamorfismo regional de rocas pelíticas (alta presión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hojosos, buena exfoliación, color azul y diferentes durezas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7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largos y delgados sin terminaciones claras, aciculares fibro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do, verde pálido, blan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cas arcillosas metamórficas de alta temperatura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delgados, con solo una dirección de exfoli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724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uro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no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prismáticos, maclas cruciformes de dos tipos (90° y 60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castaño rojizo a negro castañ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7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 accesorio de las rocas ricas en aluminio y de los esquistos cristalinos y de algunos gne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y maclas característicos. De la andalucita se distingue por los prismas obtu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781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0:29:27Z</dcterms:created>
  <dc:creator>Paula Castillo</dc:creator>
  <dc:description/>
  <dc:language>en-US</dc:language>
  <cp:lastModifiedBy>Paula Castillo</cp:lastModifiedBy>
  <dcterms:modified xsi:type="dcterms:W3CDTF">2007-08-08T05:20:50Z</dcterms:modified>
  <cp:revision>9</cp:revision>
  <dc:subject/>
  <dc:title>Auxiliar Fundamentos de Petrología GL41C</dc:title>
</cp:coreProperties>
</file>