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8.gif" ContentType="image/gif"/>
  <Override PartName="/ppt/media/image18.jpeg" ContentType="image/jpeg"/>
  <Override PartName="/ppt/media/image7.gif" ContentType="image/gif"/>
  <Override PartName="/ppt/media/image5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2.wmf" ContentType="image/x-wmf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E34-1712-4738-A634-7B837055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113-2EB5-47DD-BCAF-5C9E15B4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E25C-FEA9-4888-A1E1-6020A3DD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4FA8-BDAB-4B34-A839-26A5BE2E3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E9CEE-391A-4C68-9BF2-66C7AEAA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B46A5-24CE-46B3-B497-A737FC68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A95D6-BF28-47EF-B295-20C38533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AF834-A73F-4001-8BBF-BA3E9118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7BCB55-40F9-44AD-9BBA-ACE27920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AA60B-1251-4BE3-B031-CA5928FE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72DE2-FFA5-44DD-8434-CDA0A8DC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398E-D18A-4256-BA9E-BF37A947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71D8D-BE11-4DAE-9ECE-4497121F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F7ED6-4ECF-4BAF-850C-C8DE8F49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CF217-6712-4C63-A013-FC4AA6E6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38AB9-96C7-47DB-BA5A-484341A6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05EF2-8CDF-4089-A71E-717373F6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602-5926-4438-9A7C-009BBA5F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0AB-7D00-4B36-834F-0BB94E2D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EE02-E9FB-484D-AC00-A9034900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D0F-8870-4F12-B104-B38F77D9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E5B2-9C60-41CD-A072-5DE10103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A77-E806-4472-9CDB-A76CB68C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B0EC-F6BA-4CEE-9275-D1ADC9AC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9A86-B68D-418C-8726-6CFB906105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665C-8672-496B-922A-8C08D5B604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4464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ae410"/>
                </a:solidFill>
                <a:latin typeface="Arial"/>
              </a:rPr>
              <a:t>Estereometría</a:t>
            </a:r>
            <a:br>
              <a:rPr sz="5400"/>
            </a:b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Geología Estructural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4508640"/>
            <a:ext cx="2808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lase auxiliar GL41B/Primav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 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den ser paralelas, cortarse o no intersect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cortan tienen un punto que está en la misma línea de refer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608720" cy="446256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6174720" y="2430360"/>
            <a:ext cx="1930680" cy="1720800"/>
            <a:chOff x="6174720" y="2430360"/>
            <a:chExt cx="1930680" cy="1720800"/>
          </a:xfrm>
        </p:grpSpPr>
        <p:grpSp>
          <p:nvGrpSpPr>
            <p:cNvPr id="328" name=""/>
            <p:cNvGrpSpPr/>
            <p:nvPr/>
          </p:nvGrpSpPr>
          <p:grpSpPr>
            <a:xfrm>
              <a:off x="6248160" y="2774880"/>
              <a:ext cx="1584360" cy="1297080"/>
              <a:chOff x="6248160" y="2774880"/>
              <a:chExt cx="1584360" cy="129708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6537240" y="2774880"/>
                <a:ext cx="0" cy="100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6392880" y="3495240"/>
                <a:ext cx="0" cy="43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48160" y="4071960"/>
                <a:ext cx="13687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680160" y="3639960"/>
                <a:ext cx="1152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174720" y="2430360"/>
              <a:ext cx="1930680" cy="1720800"/>
              <a:chOff x="6174720" y="2430360"/>
              <a:chExt cx="1930680" cy="1720800"/>
            </a:xfrm>
          </p:grpSpPr>
          <p:sp>
            <p:nvSpPr>
              <p:cNvPr id="334" name=""/>
              <p:cNvSpPr/>
              <p:nvPr/>
            </p:nvSpPr>
            <p:spPr>
              <a:xfrm>
                <a:off x="6537240" y="2774880"/>
                <a:ext cx="1079640" cy="1297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392880" y="3495600"/>
                <a:ext cx="1439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89640" y="2430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11480" y="378288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4720" y="31352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756920" y="34164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817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5219640" y="2205000"/>
            <a:ext cx="3097440" cy="3095640"/>
            <a:chOff x="5219640" y="2205000"/>
            <a:chExt cx="3097440" cy="3095640"/>
          </a:xfrm>
        </p:grpSpPr>
        <p:sp>
          <p:nvSpPr>
            <p:cNvPr id="342" name=""/>
            <p:cNvSpPr/>
            <p:nvPr/>
          </p:nvSpPr>
          <p:spPr>
            <a:xfrm>
              <a:off x="5580000" y="2852640"/>
              <a:ext cx="2521080" cy="12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80000" y="4149720"/>
              <a:ext cx="2521080" cy="1150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219640" y="2205000"/>
              <a:ext cx="3097440" cy="19447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219640" y="4149720"/>
              <a:ext cx="3097440" cy="719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16720" y="3357720"/>
              <a:ext cx="0" cy="122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580000" y="285228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17080" y="220500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101080" y="4149720"/>
              <a:ext cx="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19640" y="414972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ómo definimos un plano? (en gene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en el depur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48920" y="14842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9640" y="1916280"/>
            <a:ext cx="8136000" cy="39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0328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812000" y="191628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407664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050920" y="2708280"/>
            <a:ext cx="4826160" cy="13683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2050560" y="4076280"/>
            <a:ext cx="4753080" cy="15130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140360" y="3500280"/>
            <a:ext cx="1726920" cy="57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140360" y="35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140360" y="4076640"/>
            <a:ext cx="1726920" cy="1224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867280" y="4076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851280" y="2852640"/>
            <a:ext cx="2521080" cy="1224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72360" y="2852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850920" y="4076640"/>
            <a:ext cx="2521080" cy="576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851280" y="407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43280" y="3645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59640" y="2708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59640" y="5229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42920" y="39258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812000" y="39258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685800" y="17524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umbo: Ángulo que forma la proyección horizontal y una línea de tierra 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721480" y="3887640"/>
            <a:ext cx="2279520" cy="912960"/>
          </a:xfrm>
          <a:custGeom>
            <a:avLst/>
            <a:gdLst/>
            <a:ahLst/>
            <a:rect l="l" t="t" r="r" b="b"/>
            <a:pathLst>
              <a:path w="1292" h="479">
                <a:moveTo>
                  <a:pt x="0" y="0"/>
                </a:moveTo>
                <a:lnTo>
                  <a:pt x="1292" y="479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21480" y="3124080"/>
            <a:ext cx="2298600" cy="763560"/>
          </a:xfrm>
          <a:custGeom>
            <a:avLst/>
            <a:gdLst/>
            <a:ahLst/>
            <a:rect l="l" t="t" r="r" b="b"/>
            <a:pathLst>
              <a:path w="1448" h="481">
                <a:moveTo>
                  <a:pt x="0" y="481"/>
                </a:moveTo>
                <a:lnTo>
                  <a:pt x="144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324480" y="3809880"/>
            <a:ext cx="435240" cy="425520"/>
            <a:chOff x="6324480" y="3809880"/>
            <a:chExt cx="435240" cy="425520"/>
          </a:xfrm>
        </p:grpSpPr>
        <p:sp>
          <p:nvSpPr>
            <p:cNvPr id="382" name=""/>
            <p:cNvSpPr/>
            <p:nvPr/>
          </p:nvSpPr>
          <p:spPr>
            <a:xfrm>
              <a:off x="6613560" y="3886200"/>
              <a:ext cx="146160" cy="349200"/>
            </a:xfrm>
            <a:custGeom>
              <a:avLst/>
              <a:gdLst/>
              <a:ahLst/>
              <a:rect l="l" t="t" r="r" b="b"/>
              <a:pathLst>
                <a:path w="92" h="220">
                  <a:moveTo>
                    <a:pt x="0" y="220"/>
                  </a:moveTo>
                  <a:cubicBezTo>
                    <a:pt x="8" y="213"/>
                    <a:pt x="37" y="188"/>
                    <a:pt x="49" y="171"/>
                  </a:cubicBezTo>
                  <a:cubicBezTo>
                    <a:pt x="61" y="154"/>
                    <a:pt x="67" y="134"/>
                    <a:pt x="73" y="115"/>
                  </a:cubicBezTo>
                  <a:cubicBezTo>
                    <a:pt x="79" y="96"/>
                    <a:pt x="81" y="76"/>
                    <a:pt x="84" y="57"/>
                  </a:cubicBezTo>
                  <a:cubicBezTo>
                    <a:pt x="87" y="38"/>
                    <a:pt x="90" y="12"/>
                    <a:pt x="92" y="0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24480" y="38098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85800" y="35323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Aparente: Ángulo que forma la proyección vertical con la línea de tier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477120" y="3500280"/>
            <a:ext cx="549000" cy="410760"/>
            <a:chOff x="6477120" y="3500280"/>
            <a:chExt cx="549000" cy="410760"/>
          </a:xfrm>
        </p:grpSpPr>
        <p:sp>
          <p:nvSpPr>
            <p:cNvPr id="386" name=""/>
            <p:cNvSpPr/>
            <p:nvPr/>
          </p:nvSpPr>
          <p:spPr>
            <a:xfrm>
              <a:off x="6910560" y="3500280"/>
              <a:ext cx="115560" cy="373320"/>
            </a:xfrm>
            <a:custGeom>
              <a:avLst/>
              <a:gdLst/>
              <a:ahLst/>
              <a:rect l="l" t="t" r="r" b="b"/>
              <a:pathLst>
                <a:path w="73" h="235">
                  <a:moveTo>
                    <a:pt x="0" y="0"/>
                  </a:moveTo>
                  <a:cubicBezTo>
                    <a:pt x="5" y="8"/>
                    <a:pt x="30" y="25"/>
                    <a:pt x="41" y="48"/>
                  </a:cubicBezTo>
                  <a:cubicBezTo>
                    <a:pt x="52" y="71"/>
                    <a:pt x="60" y="107"/>
                    <a:pt x="65" y="138"/>
                  </a:cubicBezTo>
                  <a:cubicBezTo>
                    <a:pt x="70" y="169"/>
                    <a:pt x="71" y="215"/>
                    <a:pt x="73" y="235"/>
                  </a:cubicBezTo>
                </a:path>
              </a:pathLst>
            </a:custGeom>
            <a:noFill/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77120" y="35053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865760" y="1752480"/>
            <a:ext cx="3655800" cy="4230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85800" y="1752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anteo Real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486400" y="3124080"/>
            <a:ext cx="2533320" cy="1676520"/>
            <a:chOff x="5486400" y="3124080"/>
            <a:chExt cx="2533320" cy="1676520"/>
          </a:xfrm>
        </p:grpSpPr>
        <p:sp>
          <p:nvSpPr>
            <p:cNvPr id="392" name=""/>
            <p:cNvSpPr/>
            <p:nvPr/>
          </p:nvSpPr>
          <p:spPr>
            <a:xfrm>
              <a:off x="5486400" y="3887640"/>
              <a:ext cx="2512440" cy="912960"/>
            </a:xfrm>
            <a:custGeom>
              <a:avLst/>
              <a:gdLst/>
              <a:ahLst/>
              <a:rect l="l" t="t" r="r" b="b"/>
              <a:pathLst>
                <a:path w="1292" h="479">
                  <a:moveTo>
                    <a:pt x="0" y="0"/>
                  </a:moveTo>
                  <a:lnTo>
                    <a:pt x="1292" y="479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3124080"/>
              <a:ext cx="2533320" cy="763560"/>
            </a:xfrm>
            <a:custGeom>
              <a:avLst/>
              <a:gdLst/>
              <a:ahLst/>
              <a:rect l="l" t="t" r="r" b="b"/>
              <a:pathLst>
                <a:path w="1448" h="481">
                  <a:moveTo>
                    <a:pt x="0" y="481"/>
                  </a:moveTo>
                  <a:lnTo>
                    <a:pt x="1448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640080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391520" y="4648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" y="24382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línea de tierra perpendicular a la proyección horizon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27672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dir cota del plano donde se intersecta LT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6629400" y="2286000"/>
            <a:ext cx="1828800" cy="3453840"/>
            <a:chOff x="6629400" y="2286000"/>
            <a:chExt cx="1828800" cy="3453840"/>
          </a:xfrm>
        </p:grpSpPr>
        <p:sp>
          <p:nvSpPr>
            <p:cNvPr id="399" name=""/>
            <p:cNvSpPr/>
            <p:nvPr/>
          </p:nvSpPr>
          <p:spPr>
            <a:xfrm flipV="1">
              <a:off x="6934320" y="2590560"/>
              <a:ext cx="1143000" cy="2895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29400" y="533412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24680" y="2286000"/>
              <a:ext cx="533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ff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0000ff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556400" y="3279600"/>
            <a:ext cx="1800" cy="608040"/>
          </a:xfrm>
          <a:custGeom>
            <a:avLst/>
            <a:gdLst/>
            <a:ahLst/>
            <a:rect l="l" t="t" r="r" b="b"/>
            <a:pathLst>
              <a:path w="1" h="383">
                <a:moveTo>
                  <a:pt x="0" y="383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010640" y="3276720"/>
            <a:ext cx="1064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8452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84525"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oval" w="med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41148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tar esa altura hasta una posición perpendicular a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53120" y="3679920"/>
            <a:ext cx="516240" cy="207720"/>
          </a:xfrm>
          <a:custGeom>
            <a:avLst/>
            <a:gdLst/>
            <a:ahLst/>
            <a:rect l="l" t="t" r="r" b="b"/>
            <a:pathLst>
              <a:path w="325" h="131">
                <a:moveTo>
                  <a:pt x="325" y="131"/>
                </a:move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4876920"/>
            <a:ext cx="3962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recta que una la intersección de P y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con el extremo de la altura rot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39080" y="3693960"/>
            <a:ext cx="276120" cy="878040"/>
          </a:xfrm>
          <a:custGeom>
            <a:avLst/>
            <a:gdLst/>
            <a:ahLst/>
            <a:rect l="l" t="t" r="r" b="b"/>
            <a:pathLst>
              <a:path w="174" h="553">
                <a:moveTo>
                  <a:pt x="174" y="55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5943600"/>
            <a:ext cx="396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l ángulo que forma esta recta con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es el manteo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7129440" y="3886200"/>
            <a:ext cx="490680" cy="405720"/>
            <a:chOff x="7129440" y="3886200"/>
            <a:chExt cx="490680" cy="405720"/>
          </a:xfrm>
        </p:grpSpPr>
        <p:sp>
          <p:nvSpPr>
            <p:cNvPr id="410" name=""/>
            <p:cNvSpPr/>
            <p:nvPr/>
          </p:nvSpPr>
          <p:spPr>
            <a:xfrm>
              <a:off x="7129440" y="3957480"/>
              <a:ext cx="374760" cy="84240"/>
            </a:xfrm>
            <a:custGeom>
              <a:avLst/>
              <a:gdLst/>
              <a:ahLst/>
              <a:rect l="l" t="t" r="r" b="b"/>
              <a:pathLst>
                <a:path w="236" h="53">
                  <a:moveTo>
                    <a:pt x="0" y="4"/>
                  </a:moveTo>
                  <a:cubicBezTo>
                    <a:pt x="13" y="4"/>
                    <a:pt x="45" y="0"/>
                    <a:pt x="69" y="3"/>
                  </a:cubicBezTo>
                  <a:cubicBezTo>
                    <a:pt x="93" y="6"/>
                    <a:pt x="119" y="13"/>
                    <a:pt x="147" y="21"/>
                  </a:cubicBezTo>
                  <a:cubicBezTo>
                    <a:pt x="175" y="29"/>
                    <a:pt x="218" y="46"/>
                    <a:pt x="236" y="5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162920" y="38862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ae410"/>
                </a:solidFill>
                <a:latin typeface="Arial"/>
              </a:rPr>
              <a:t>Redes Estereográficas</a:t>
            </a:r>
            <a:r>
              <a:rPr b="1" lang="en-US" sz="4800" spc="-1" strike="noStrike">
                <a:solidFill>
                  <a:srgbClr val="ccd0ca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d0c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 Princip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so de Red de estereográfica y manejo de grandes sets de dat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resentación de elementos del espacio en un pl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MOTIVAC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Cómo resumo/entrego los datos de muchas medidas de rumbo y mante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Tipos de Not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xisten diversas maneras para anotar el rumbo y manteo de un pl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drant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zimut y Cuadrante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p /Dip Direction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zimut (Mano derecha)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otación Azimutal (Mano Derech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milar a la anterior, solo que no se específica la dirección de mant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1547640" y="3502080"/>
            <a:ext cx="129564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195640" y="4149720"/>
            <a:ext cx="144360" cy="14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30000" y="51055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045º,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94360" y="402444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5003640" y="3499920"/>
            <a:ext cx="1295640" cy="1295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06920" y="4003560"/>
            <a:ext cx="144720" cy="144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37800" y="364320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62160" y="50115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25º,20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419640" y="3573360"/>
            <a:ext cx="647640" cy="649440"/>
          </a:xfrm>
          <a:custGeom>
            <a:avLst/>
            <a:gdLst>
              <a:gd name="textAreaLeft" fmla="*/ 0 w 647640"/>
              <a:gd name="textAreaRight" fmla="*/ 648000 w 6476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10800000">
            <a:off x="3492360" y="4437000"/>
            <a:ext cx="648000" cy="649440"/>
          </a:xfrm>
          <a:custGeom>
            <a:avLst/>
            <a:gdLst>
              <a:gd name="textAreaLeft" fmla="*/ 0 w 648000"/>
              <a:gd name="textAreaRight" fmla="*/ 648000 w 648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79240" y="393372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o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Hor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present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02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Dip / Dip Direc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(Manteo, Dirección de Mante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En esta notación se mide la dirección de máxima pendiente (perpendicular al rumbo), y el mante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cc"/>
                </a:solidFill>
                <a:latin typeface="Arial"/>
              </a:rPr>
              <a:t>El plano queda descrito sin necesidad de indicar hacia donde cae el mant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57440" y="2205000"/>
            <a:ext cx="282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N30W,40S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30º,40S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30º,40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156360" y="4149720"/>
            <a:ext cx="2806560" cy="820440"/>
            <a:chOff x="6156360" y="4149720"/>
            <a:chExt cx="2806560" cy="820440"/>
          </a:xfrm>
        </p:grpSpPr>
        <p:sp>
          <p:nvSpPr>
            <p:cNvPr id="434" name=""/>
            <p:cNvSpPr/>
            <p:nvPr/>
          </p:nvSpPr>
          <p:spPr>
            <a:xfrm rot="5400000">
              <a:off x="6659640" y="3646440"/>
              <a:ext cx="288720" cy="129528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5400000">
              <a:off x="8170920" y="3646440"/>
              <a:ext cx="288720" cy="129528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03600" y="458136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Rumb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722720" y="46018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6548400" y="4797360"/>
            <a:ext cx="204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0º, 240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084720" y="5445000"/>
            <a:ext cx="2862720" cy="1095120"/>
            <a:chOff x="6084720" y="5445000"/>
            <a:chExt cx="2862720" cy="1095120"/>
          </a:xfrm>
        </p:grpSpPr>
        <p:sp>
          <p:nvSpPr>
            <p:cNvPr id="440" name=""/>
            <p:cNvSpPr/>
            <p:nvPr/>
          </p:nvSpPr>
          <p:spPr>
            <a:xfrm rot="5400000">
              <a:off x="6587640" y="4941720"/>
              <a:ext cx="289080" cy="12952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5400000">
              <a:off x="8098920" y="4941720"/>
              <a:ext cx="289080" cy="12952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31600" y="587700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51080" y="5897520"/>
              <a:ext cx="129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Direc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De Mant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ae410"/>
                </a:solidFill>
                <a:latin typeface="Arial"/>
              </a:rPr>
              <a:t>Geometrías Descrip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e4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ae410"/>
                </a:solidFill>
                <a:latin typeface="Arial"/>
              </a:rPr>
              <a:t>Representar en un solo plano objetos del espa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e4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ae410"/>
                </a:solidFill>
                <a:latin typeface="Arial"/>
              </a:rPr>
              <a:t>Existen varios 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Diédrico =&gt; 2 planos H y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Acotado =&gt; Mapas de C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Axonométrico =&gt; 3 pl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ae410"/>
                </a:solidFill>
                <a:latin typeface="Arial"/>
              </a:rPr>
              <a:t>Sistema Có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Descripción de líne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2828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zimut de una lín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rección c/r al nor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quivale al rumb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uzamiento de una lín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ngulo c/r a un plano horizo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Equivale al mant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611280" y="4210200"/>
            <a:ext cx="8064360" cy="2027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¿Qué es una red estereográfica?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a red estereográfica es una representación en 2 dimensiones de una esfera en la que es posible ubicar estructuras planares como fallas, fracturas, diaclasas, etc. Para esto basta con tener una buena medición del rumbo y manteo de la estructu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ciones estereográf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quiangular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Ángulos correctos, distancias falsas = Red de WUL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quidistanci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 Distancias correctas, ángulos falsos = Red de SCHMI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geología estructural se usa la red de Schmidt, proyectando en el hemisferio inferior. 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 evita una concentración muy grande de puntos en el centro de la red, como ocurriría con una red de Wulf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402080" cy="47516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427640" y="1341360"/>
            <a:ext cx="4495680" cy="43671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42920" y="5734080"/>
            <a:ext cx="78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d de Wulff                                             Red de Schmid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614520" y="1844640"/>
            <a:ext cx="3309840" cy="38894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5316480" y="1844640"/>
            <a:ext cx="30006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rcRect l="30001" t="11334" r="38004" b="11334"/>
          <a:stretch/>
        </p:blipFill>
        <p:spPr>
          <a:xfrm>
            <a:off x="380880" y="0"/>
            <a:ext cx="3784680" cy="68580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rcRect l="30001" t="11334" r="33001" b="11334"/>
          <a:stretch/>
        </p:blipFill>
        <p:spPr>
          <a:xfrm>
            <a:off x="4419720" y="0"/>
            <a:ext cx="437508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755640" y="1773360"/>
            <a:ext cx="2808360" cy="57600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92720" y="1773360"/>
            <a:ext cx="2808360" cy="57600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5640" y="4005360"/>
            <a:ext cx="2808360" cy="266364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292720" y="4005360"/>
            <a:ext cx="2808360" cy="266364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Conceptos preliminar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Rumbo (strik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Manteo (di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Dip-Direc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Dirección del manteo (a 90º del rumb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Rak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Inclinación del movimiento de la fa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Slip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Magnitud del movimiento de la fal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Buzamiento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Manteo de una Líne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Rumbo – manteo - rake: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155600" y="1620720"/>
            <a:ext cx="6832800" cy="44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59640" cy="63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Ejercicios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las siguientes rectas (Azimut/Buzamiento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145/6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310/2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Plano que contiene a ambas recta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Angulo entre las rectas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55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los siguientes planos (Rumbo/Manteo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N40E/50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N25W/80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 Orientación de la recta intersec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¿Plano que contiene a los polos de ambos planos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9240" indent="-219240">
              <a:lnSpc>
                <a:spcPct val="80000"/>
              </a:lnSpc>
              <a:spcBef>
                <a:spcPts val="55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Dibujar el siguiente plano (Rumbo/Manteo a la Izquierda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-18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265/4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75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Arial"/>
              </a:rPr>
              <a:t>**Ahora dibujar los Polos de todos los planos anteriores.**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846680" cy="469116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3795" t="0" r="0" b="0"/>
          <a:stretch/>
        </p:blipFill>
        <p:spPr>
          <a:xfrm>
            <a:off x="5292720" y="1413000"/>
            <a:ext cx="3651120" cy="423360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519120" y="52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ae410"/>
                </a:solidFill>
                <a:latin typeface="Arial"/>
              </a:rPr>
              <a:t>Estereometría: Geometría Diédrica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240" y="59500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ementos fundamentales: 2 planos de Proyección,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700000" y="1413000"/>
            <a:ext cx="1584720" cy="2160000"/>
            <a:chOff x="2700000" y="1413000"/>
            <a:chExt cx="1584720" cy="2160000"/>
          </a:xfrm>
        </p:grpSpPr>
        <p:sp>
          <p:nvSpPr>
            <p:cNvPr id="132" name=""/>
            <p:cNvSpPr/>
            <p:nvPr/>
          </p:nvSpPr>
          <p:spPr>
            <a:xfrm flipH="1">
              <a:off x="2700000" y="1413000"/>
              <a:ext cx="35892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924360" y="3430080"/>
              <a:ext cx="360360" cy="1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80280" y="632448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cta de intersección: Línea de Tierra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332000" y="2708280"/>
            <a:ext cx="1944360" cy="1657440"/>
            <a:chOff x="1332000" y="2708280"/>
            <a:chExt cx="1944360" cy="1657440"/>
          </a:xfrm>
        </p:grpSpPr>
        <p:sp>
          <p:nvSpPr>
            <p:cNvPr id="136" name=""/>
            <p:cNvSpPr/>
            <p:nvPr/>
          </p:nvSpPr>
          <p:spPr>
            <a:xfrm flipV="1">
              <a:off x="1332000" y="414972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916000" y="2708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397560" y="56610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Dep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rcRect l="5806" t="0" r="35832" b="0"/>
          <a:stretch/>
        </p:blipFill>
        <p:spPr>
          <a:xfrm>
            <a:off x="682560" y="1523880"/>
            <a:ext cx="7851960" cy="5334120"/>
          </a:xfrm>
          <a:prstGeom prst="rect">
            <a:avLst/>
          </a:prstGeom>
          <a:ln w="9360">
            <a:solidFill>
              <a:srgbClr val="404b3d"/>
            </a:solidFill>
            <a:miter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10280" y="3581280"/>
            <a:ext cx="457200" cy="1067040"/>
          </a:xfrm>
          <a:custGeom>
            <a:avLst/>
            <a:gdLst>
              <a:gd name="textAreaLeft" fmla="*/ 0 w 457200"/>
              <a:gd name="textAreaRight" fmla="*/ 164880 w 4572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04b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43800" y="160020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3d"/>
                </a:solidFill>
                <a:latin typeface="Verdana"/>
              </a:rPr>
              <a:t>Ángulo entre los po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7467480" y="2819520"/>
            <a:ext cx="457200" cy="1218960"/>
          </a:xfrm>
          <a:prstGeom prst="line">
            <a:avLst/>
          </a:prstGeom>
          <a:ln w="3816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6948000" y="5157720"/>
            <a:ext cx="443160" cy="1395360"/>
          </a:xfrm>
          <a:prstGeom prst="line">
            <a:avLst/>
          </a:prstGeom>
          <a:ln w="38160">
            <a:solidFill>
              <a:srgbClr val="404b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15200" y="62164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b3d"/>
                </a:solidFill>
                <a:latin typeface="Verdana"/>
              </a:rPr>
              <a:t>Círculo Ma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56000" y="2612880"/>
            <a:ext cx="1584360" cy="960480"/>
          </a:xfrm>
          <a:custGeom>
            <a:avLst/>
            <a:gdLst/>
            <a:ahLst/>
            <a:rect l="l" t="t" r="r" b="b"/>
            <a:pathLst>
              <a:path w="998" h="605">
                <a:moveTo>
                  <a:pt x="0" y="15"/>
                </a:moveTo>
                <a:cubicBezTo>
                  <a:pt x="90" y="7"/>
                  <a:pt x="181" y="0"/>
                  <a:pt x="272" y="15"/>
                </a:cubicBezTo>
                <a:cubicBezTo>
                  <a:pt x="363" y="30"/>
                  <a:pt x="469" y="68"/>
                  <a:pt x="544" y="106"/>
                </a:cubicBezTo>
                <a:cubicBezTo>
                  <a:pt x="619" y="144"/>
                  <a:pt x="673" y="197"/>
                  <a:pt x="726" y="242"/>
                </a:cubicBezTo>
                <a:cubicBezTo>
                  <a:pt x="779" y="287"/>
                  <a:pt x="824" y="333"/>
                  <a:pt x="862" y="378"/>
                </a:cubicBezTo>
                <a:cubicBezTo>
                  <a:pt x="900" y="423"/>
                  <a:pt x="929" y="476"/>
                  <a:pt x="952" y="514"/>
                </a:cubicBezTo>
                <a:cubicBezTo>
                  <a:pt x="975" y="552"/>
                  <a:pt x="990" y="590"/>
                  <a:pt x="998" y="605"/>
                </a:cubicBezTo>
              </a:path>
            </a:pathLst>
          </a:custGeom>
          <a:noFill/>
          <a:ln w="38160">
            <a:solidFill>
              <a:srgbClr val="404b3d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995640" y="3429000"/>
            <a:ext cx="360360" cy="216000"/>
          </a:xfrm>
          <a:prstGeom prst="line">
            <a:avLst/>
          </a:prstGeom>
          <a:ln w="9360">
            <a:solidFill>
              <a:srgbClr val="404b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8000" y="476280"/>
            <a:ext cx="8686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ae410"/>
                </a:solidFill>
                <a:latin typeface="Arial"/>
              </a:rPr>
              <a:t>Diagrama de circulo máximo y de polos.</a:t>
            </a:r>
            <a:endParaRPr b="0" lang="en-US" sz="36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611280" y="1771560"/>
            <a:ext cx="799308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54064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 de Conteo (Kalsbee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Plotear todos los dat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en la red de schmidt como po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Traspasar los datos a la red de Kalsbe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ontar el numero de polos dentro de un hexágono. Anotar este número en el centro del hexágo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ontar los puntos “al otro lado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alcular los porcentaj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ccff"/>
                </a:solidFill>
                <a:latin typeface="Arial"/>
              </a:rPr>
              <a:t>%= [(Valor del Nodo)/(Total)]*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ccff"/>
                </a:solidFill>
                <a:latin typeface="Arial"/>
              </a:rPr>
              <a:t>Crear los contor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1332000" y="115920"/>
            <a:ext cx="626436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ae410"/>
                </a:solidFill>
                <a:latin typeface="Arial"/>
              </a:rPr>
              <a:t>Red de Conteo (Kalsbeek)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187280" y="2271600"/>
            <a:ext cx="741708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-684360" y="1052640"/>
            <a:ext cx="11377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Aplica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finir direcciones preferenciales cuando se tienen muchas medici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terminar ángulos de intersecciones de pl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Determinar manteos re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dir ángulos entre pla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tc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Pliegu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Pliegu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619280" y="1382760"/>
            <a:ext cx="62276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92720" y="1427040"/>
            <a:ext cx="3794040" cy="4233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9280" y="1330200"/>
            <a:ext cx="4846680" cy="46911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3276720" y="2292480"/>
            <a:ext cx="574560" cy="415800"/>
            <a:chOff x="3276720" y="2292480"/>
            <a:chExt cx="574560" cy="415800"/>
          </a:xfrm>
        </p:grpSpPr>
        <p:sp>
          <p:nvSpPr>
            <p:cNvPr id="143" name=""/>
            <p:cNvSpPr/>
            <p:nvPr/>
          </p:nvSpPr>
          <p:spPr>
            <a:xfrm>
              <a:off x="32767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00560" y="22924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270160" y="2276640"/>
            <a:ext cx="1456200" cy="1591920"/>
            <a:chOff x="2270160" y="2276640"/>
            <a:chExt cx="1456200" cy="1591920"/>
          </a:xfrm>
        </p:grpSpPr>
        <p:sp>
          <p:nvSpPr>
            <p:cNvPr id="146" name=""/>
            <p:cNvSpPr/>
            <p:nvPr/>
          </p:nvSpPr>
          <p:spPr>
            <a:xfrm>
              <a:off x="2484360" y="263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4800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274920" y="3500280"/>
              <a:ext cx="451440" cy="368280"/>
              <a:chOff x="3274920" y="3500280"/>
              <a:chExt cx="451440" cy="368280"/>
            </a:xfrm>
          </p:grpSpPr>
          <p:sp>
            <p:nvSpPr>
              <p:cNvPr id="149" name=""/>
              <p:cNvSpPr/>
              <p:nvPr/>
            </p:nvSpPr>
            <p:spPr>
              <a:xfrm>
                <a:off x="3274920" y="357336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17480" y="35002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2270160" y="2276640"/>
              <a:ext cx="348480" cy="431640"/>
              <a:chOff x="2270160" y="2276640"/>
              <a:chExt cx="348480" cy="431640"/>
            </a:xfrm>
          </p:grpSpPr>
          <p:sp>
            <p:nvSpPr>
              <p:cNvPr id="152" name=""/>
              <p:cNvSpPr/>
              <p:nvPr/>
            </p:nvSpPr>
            <p:spPr>
              <a:xfrm>
                <a:off x="2340000" y="256536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70160" y="22766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6878880" y="2205000"/>
            <a:ext cx="447840" cy="2455920"/>
            <a:chOff x="6878880" y="2205000"/>
            <a:chExt cx="447840" cy="2455920"/>
          </a:xfrm>
        </p:grpSpPr>
        <p:grpSp>
          <p:nvGrpSpPr>
            <p:cNvPr id="155" name=""/>
            <p:cNvGrpSpPr/>
            <p:nvPr/>
          </p:nvGrpSpPr>
          <p:grpSpPr>
            <a:xfrm>
              <a:off x="6878880" y="2205000"/>
              <a:ext cx="348480" cy="431640"/>
              <a:chOff x="6878880" y="2205000"/>
              <a:chExt cx="348480" cy="431640"/>
            </a:xfrm>
          </p:grpSpPr>
          <p:sp>
            <p:nvSpPr>
              <p:cNvPr id="156" name=""/>
              <p:cNvSpPr/>
              <p:nvPr/>
            </p:nvSpPr>
            <p:spPr>
              <a:xfrm>
                <a:off x="6948720" y="249372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78880" y="22050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948360" y="4292640"/>
              <a:ext cx="378360" cy="368280"/>
              <a:chOff x="6948360" y="4292640"/>
              <a:chExt cx="378360" cy="368280"/>
            </a:xfrm>
          </p:grpSpPr>
          <p:sp>
            <p:nvSpPr>
              <p:cNvPr id="159" name=""/>
              <p:cNvSpPr/>
              <p:nvPr/>
            </p:nvSpPr>
            <p:spPr>
              <a:xfrm>
                <a:off x="6948360" y="436572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017840" y="429264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2133720" y="2895480"/>
            <a:ext cx="921600" cy="825480"/>
            <a:chOff x="2133720" y="2895480"/>
            <a:chExt cx="921600" cy="825480"/>
          </a:xfrm>
        </p:grpSpPr>
        <p:sp>
          <p:nvSpPr>
            <p:cNvPr id="162" name=""/>
            <p:cNvSpPr/>
            <p:nvPr/>
          </p:nvSpPr>
          <p:spPr>
            <a:xfrm>
              <a:off x="2133720" y="28954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42120" y="33526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411280" y="2637000"/>
            <a:ext cx="936720" cy="1008000"/>
            <a:chOff x="2411280" y="2637000"/>
            <a:chExt cx="936720" cy="1008000"/>
          </a:xfrm>
        </p:grpSpPr>
        <p:sp>
          <p:nvSpPr>
            <p:cNvPr id="165" name=""/>
            <p:cNvSpPr/>
            <p:nvPr/>
          </p:nvSpPr>
          <p:spPr>
            <a:xfrm>
              <a:off x="2411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11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947640" y="2565360"/>
            <a:ext cx="313200" cy="1871280"/>
            <a:chOff x="6947640" y="2565360"/>
            <a:chExt cx="313200" cy="1871280"/>
          </a:xfrm>
        </p:grpSpPr>
        <p:sp>
          <p:nvSpPr>
            <p:cNvPr id="168" name=""/>
            <p:cNvSpPr/>
            <p:nvPr/>
          </p:nvSpPr>
          <p:spPr>
            <a:xfrm>
              <a:off x="6947640" y="2917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47640" y="3925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20000" y="2565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702000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11280" y="2133720"/>
            <a:ext cx="1296720" cy="10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39320" y="57484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c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alej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4114800"/>
            <a:ext cx="1371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542960" y="2688840"/>
            <a:ext cx="1809360" cy="2327760"/>
            <a:chOff x="1542960" y="2688840"/>
            <a:chExt cx="1809360" cy="2327760"/>
          </a:xfrm>
        </p:grpSpPr>
        <p:sp>
          <p:nvSpPr>
            <p:cNvPr id="176" name=""/>
            <p:cNvSpPr/>
            <p:nvPr/>
          </p:nvSpPr>
          <p:spPr>
            <a:xfrm>
              <a:off x="2362320" y="4572000"/>
              <a:ext cx="144360" cy="142920"/>
            </a:xfrm>
            <a:prstGeom prst="ellipse">
              <a:avLst/>
            </a:prstGeom>
            <a:solidFill>
              <a:srgbClr val="33cccc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88520" y="4648320"/>
              <a:ext cx="308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542960" y="2688840"/>
              <a:ext cx="1809360" cy="195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767" swAng="54741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767" swAng="5474190"/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16320" y="3641760"/>
              <a:ext cx="1440" cy="1008000"/>
            </a:xfrm>
            <a:custGeom>
              <a:avLst/>
              <a:gdLst/>
              <a:ahLst/>
              <a:rect l="l" t="t" r="r" b="b"/>
              <a:pathLst>
                <a:path w="1" h="635">
                  <a:moveTo>
                    <a:pt x="0" y="0"/>
                  </a:moveTo>
                  <a:lnTo>
                    <a:pt x="0" y="63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602080" y="3656880"/>
            <a:ext cx="1063440" cy="122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33" y="12694"/>
                </a:moveTo>
                <a:arcTo wR="10800" hR="10800" stAng="605874" swAng="4116907"/>
                <a:lnTo>
                  <a:pt x="10800" y="10800"/>
                </a:lnTo>
                <a:close/>
              </a:path>
              <a:path fill="none" w="21600" h="21600">
                <a:moveTo>
                  <a:pt x="21433" y="12694"/>
                </a:moveTo>
                <a:arcTo wR="10800" hR="10800" stAng="605874" swAng="4116907"/>
              </a:path>
            </a:pathLst>
          </a:custGeom>
          <a:noFill/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Set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Set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ae410"/>
                </a:solidFill>
                <a:latin typeface="Arial"/>
              </a:rPr>
              <a:t>Diagrama de densidad de polos y Red de Kalsbeek.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OTRA HO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bujar los polos de los siguientes pl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743200" y="2971800"/>
          <a:ext cx="2976480" cy="253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971800"/>
                    <a:ext cx="2976480" cy="25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ae410"/>
                </a:solidFill>
                <a:latin typeface="Arial"/>
              </a:rPr>
              <a:t>Roset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-1044720" y="1333440"/>
            <a:ext cx="122796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1530324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00000" y="22824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ae410"/>
                </a:solidFill>
                <a:latin typeface="Arial"/>
              </a:rPr>
              <a:t>DIPS (Rocscience)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1. Crear un archivo DI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File&gt;N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Job Control&gt;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Ingresar datos en tab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en el formato correspondiente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Grabar arch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2. Plotear polos (abrir archivo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View&gt; Pole pl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Stereonet Options&gt;&gt;tipo de red, hemisferio de proy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up&gt;Display Options&gt;&gt;selección de col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3. Generar sets y planos de sistemas principa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ts&gt;Add plane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lect&gt;Add pla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cccc"/>
                </a:solidFill>
                <a:latin typeface="Arial"/>
              </a:rPr>
              <a:t>Select&gt;edit planes o sets&gt;ed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195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868000" y="3494160"/>
            <a:ext cx="388440" cy="1455480"/>
            <a:chOff x="5868000" y="3494160"/>
            <a:chExt cx="388440" cy="1455480"/>
          </a:xfrm>
        </p:grpSpPr>
        <p:sp>
          <p:nvSpPr>
            <p:cNvPr id="204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382160" y="2133720"/>
            <a:ext cx="376560" cy="2023920"/>
            <a:chOff x="7382160" y="2133720"/>
            <a:chExt cx="376560" cy="2023920"/>
          </a:xfrm>
        </p:grpSpPr>
        <p:sp>
          <p:nvSpPr>
            <p:cNvPr id="208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V="1">
            <a:off x="2484360" y="3499920"/>
            <a:ext cx="50328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372000" y="4076640"/>
            <a:ext cx="431640" cy="21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rot="19480800">
            <a:off x="6935400" y="3404160"/>
            <a:ext cx="577080" cy="11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5" y="5102"/>
                </a:moveTo>
                <a:arcTo wR="10800" hR="10800" stAng="-1910423" swAng="1910393"/>
                <a:lnTo>
                  <a:pt x="10800" y="10800"/>
                </a:lnTo>
                <a:close/>
              </a:path>
              <a:path fill="none" w="21600" h="21600">
                <a:moveTo>
                  <a:pt x="19975" y="5102"/>
                </a:moveTo>
                <a:arcTo wR="10800" hR="10800" stAng="-1910423" swAng="1910393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122920" y="342864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478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47826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218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226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fuga o de punta: Perpendicular al 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: Perpendicular al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ela a LT: Es una recta cuyas proyecciones horizontal y vertical son paralelas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426200" y="3716280"/>
            <a:ext cx="3985200" cy="382320"/>
            <a:chOff x="4426200" y="3716280"/>
            <a:chExt cx="3985200" cy="382320"/>
          </a:xfrm>
        </p:grpSpPr>
        <p:sp>
          <p:nvSpPr>
            <p:cNvPr id="244" name=""/>
            <p:cNvSpPr/>
            <p:nvPr/>
          </p:nvSpPr>
          <p:spPr>
            <a:xfrm>
              <a:off x="4735440" y="393192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426200" y="3730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04320" y="371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499280" y="5711760"/>
            <a:ext cx="3985200" cy="382320"/>
            <a:chOff x="4499280" y="5711760"/>
            <a:chExt cx="3985200" cy="382320"/>
          </a:xfrm>
        </p:grpSpPr>
        <p:sp>
          <p:nvSpPr>
            <p:cNvPr id="248" name=""/>
            <p:cNvSpPr/>
            <p:nvPr/>
          </p:nvSpPr>
          <p:spPr>
            <a:xfrm>
              <a:off x="4808520" y="59274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99280" y="5725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177400" y="5711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426200" y="2276640"/>
            <a:ext cx="3985200" cy="382320"/>
            <a:chOff x="4426200" y="2276640"/>
            <a:chExt cx="3985200" cy="382320"/>
          </a:xfrm>
        </p:grpSpPr>
        <p:sp>
          <p:nvSpPr>
            <p:cNvPr id="252" name=""/>
            <p:cNvSpPr/>
            <p:nvPr/>
          </p:nvSpPr>
          <p:spPr>
            <a:xfrm>
              <a:off x="4735440" y="249228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26200" y="2290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04320" y="22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219640" y="1125360"/>
            <a:ext cx="668520" cy="2449800"/>
            <a:chOff x="5219640" y="1125360"/>
            <a:chExt cx="668520" cy="2449800"/>
          </a:xfrm>
        </p:grpSpPr>
        <p:sp>
          <p:nvSpPr>
            <p:cNvPr id="256" name=""/>
            <p:cNvSpPr/>
            <p:nvPr/>
          </p:nvSpPr>
          <p:spPr>
            <a:xfrm>
              <a:off x="5364000" y="2492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33840" y="2637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11880" y="320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92720" y="2781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92720" y="3357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64000" y="155736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92720" y="1484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219640" y="112536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’, 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094880" y="3429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92000" y="28526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949800" y="2995200"/>
            <a:ext cx="144360" cy="2017800"/>
            <a:chOff x="6949800" y="2995200"/>
            <a:chExt cx="144360" cy="2017800"/>
          </a:xfrm>
        </p:grpSpPr>
        <p:sp>
          <p:nvSpPr>
            <p:cNvPr id="267" name=""/>
            <p:cNvSpPr/>
            <p:nvPr/>
          </p:nvSpPr>
          <p:spPr>
            <a:xfrm flipV="1">
              <a:off x="7022880" y="3068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0800000">
              <a:off x="6949800" y="3571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6949800" y="2995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022880" y="400320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0800000">
              <a:off x="6949800" y="4868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424560" y="47181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,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148360" y="5516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6308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48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96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05440" y="51498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50920" y="5157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45344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001840" y="6302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de Perfil: Recta perpendicular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284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00"/>
            </a:gs>
            <a:gs pos="100000">
              <a:srgbClr val="004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e41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535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zamiento (proyección horizontal paralela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mbo (C/R a L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118480" y="2565360"/>
            <a:ext cx="3985200" cy="382320"/>
            <a:chOff x="5118480" y="2565360"/>
            <a:chExt cx="3985200" cy="382320"/>
          </a:xfrm>
        </p:grpSpPr>
        <p:sp>
          <p:nvSpPr>
            <p:cNvPr id="299" name=""/>
            <p:cNvSpPr/>
            <p:nvPr/>
          </p:nvSpPr>
          <p:spPr>
            <a:xfrm>
              <a:off x="5427720" y="278100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1848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79660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>
            <a:off x="5765400" y="3502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765400" y="206208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358120" y="278100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65760" y="205992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60556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8576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60196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3112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 rot="10800000">
            <a:off x="706428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189920" y="24177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313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612120" y="55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20:25:09Z</dcterms:created>
  <dc:creator>Andrés Fock Kunstmann</dc:creator>
  <dc:description/>
  <dc:language>en-US</dc:language>
  <cp:lastModifiedBy>Rodolfo</cp:lastModifiedBy>
  <dcterms:modified xsi:type="dcterms:W3CDTF">2007-08-17T04:32:50Z</dcterms:modified>
  <cp:revision>35</cp:revision>
  <dc:subject/>
  <dc:title>Diapositiva 1</dc:title>
</cp:coreProperties>
</file>