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25.jpeg" ContentType="image/jpeg"/>
  <Override PartName="/ppt/media/image26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CCA-F1A3-4B9C-B7F4-DF676581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B38D-BE50-4123-A6C5-0F4E7EFB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A832-222F-4DB0-B50E-7B199190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409-A069-4701-87FC-80153EC3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5D04-75A9-4564-9212-ABF4CBF8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B6B3-A75D-4AE3-8DE3-62EC1AA9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4BA3-A6BC-426A-9F2C-61846B9B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804D-CF74-4A77-A093-C7076F4D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6C78-889B-42BE-A057-476357AD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9CE6-9B48-480B-B5F3-815CC0B2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9EC5-33CD-4A13-B5F8-A48A4890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F815-CC38-40DE-912B-231871C7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62A2-544B-4D4C-8AD2-1D099E29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DF9A-D026-4471-A62F-DDB80A4B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DCF2-78EE-4086-82B3-B4E68EC3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2B0A-2067-4FB8-9D42-5CA92BF6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4FCB-8588-45DC-B7F6-998B2C52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4E59-4E8A-4FF3-9508-B13DE05D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3753-0076-488F-9DC2-BAB727B0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620A-CA18-449A-A34F-B52DD815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04FA-B387-4ABA-B582-938E3F5F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1AAE-B91B-4E3A-8654-52B771D2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5BCE-CF35-4276-AEEA-D6C3D6C1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D540-1885-449E-A7E4-D7D26D3D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DFAE-4758-4AB9-9C11-DDE6E090823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4FA4-57FF-4543-B1FC-C5A6E6F6950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caguzman@ing.uchile.cl" TargetMode="External"/><Relationship Id="rId2" Type="http://schemas.openxmlformats.org/officeDocument/2006/relationships/hyperlink" Target="mailto:rferran@ing.uchile.cl" TargetMode="External"/><Relationship Id="rId3" Type="http://schemas.openxmlformats.org/officeDocument/2006/relationships/hyperlink" Target="mailto:hbobadil@ing.uchile.cl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upload.wikimedia.org/wikipedia/commons/5/59/2D_Cartesian_Coordinates.svg" TargetMode="External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hyperlink" Target="http://upload.wikimedia.org/wikipedia/commons/7/70/Cordonnees_spheriques.png" TargetMode="External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Longitud" TargetMode="External"/><Relationship Id="rId2" Type="http://schemas.openxmlformats.org/officeDocument/2006/relationships/hyperlink" Target="http://es.wikipedia.org/wiki/Latitud" TargetMode="External"/><Relationship Id="rId3" Type="http://schemas.openxmlformats.org/officeDocument/2006/relationships/hyperlink" Target="http://es.wikipedia.org/wiki/Metros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Garamond"/>
              </a:rPr>
              <a:t>Geología Estruc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GL4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716000" y="1599840"/>
            <a:ext cx="3970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teo Re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ulo de inclinación de un plano en la dirección de máxima pendi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 flipH="1" rot="19956000">
            <a:off x="971280" y="3068640"/>
            <a:ext cx="4176720" cy="1593720"/>
          </a:xfrm>
          <a:prstGeom prst="parallelogram">
            <a:avLst>
              <a:gd name="adj" fmla="val 16235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2602400">
            <a:off x="1547640" y="3788640"/>
            <a:ext cx="98640" cy="414360"/>
          </a:xfrm>
          <a:custGeom>
            <a:avLst/>
            <a:gdLst/>
            <a:ahLst/>
            <a:rect l="l" t="t" r="r" b="b"/>
            <a:pathLst>
              <a:path w="105" h="317">
                <a:moveTo>
                  <a:pt x="90" y="317"/>
                </a:moveTo>
                <a:cubicBezTo>
                  <a:pt x="97" y="253"/>
                  <a:pt x="105" y="189"/>
                  <a:pt x="90" y="136"/>
                </a:cubicBezTo>
                <a:cubicBezTo>
                  <a:pt x="75" y="83"/>
                  <a:pt x="37" y="41"/>
                  <a:pt x="0" y="0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1763280" y="4076640"/>
            <a:ext cx="360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577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te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3877400">
            <a:off x="826920" y="1989000"/>
            <a:ext cx="2879640" cy="2016000"/>
          </a:xfrm>
          <a:prstGeom prst="parallelogram">
            <a:avLst>
              <a:gd name="adj" fmla="val 35710"/>
            </a:avLst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84360" y="3284280"/>
            <a:ext cx="396072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1763280" y="2204640"/>
            <a:ext cx="1295640" cy="165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9280" y="3860640"/>
            <a:ext cx="1728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35800">
            <a:off x="2410920" y="4365360"/>
            <a:ext cx="18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18520" y="24210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0524800">
            <a:off x="1261800" y="4365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944800">
            <a:off x="1830240" y="30024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95200">
            <a:off x="3204360" y="386064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p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aracterización de Plano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24000" y="260280"/>
            <a:ext cx="79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aracterización de Pla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0524800">
            <a:off x="541080" y="45021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5440" y="515772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teo Apa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rot="19956000">
            <a:off x="1330200" y="3139920"/>
            <a:ext cx="4176720" cy="1593720"/>
          </a:xfrm>
          <a:prstGeom prst="parallelogram">
            <a:avLst>
              <a:gd name="adj" fmla="val 16235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2602400">
            <a:off x="1401120" y="3788640"/>
            <a:ext cx="176040" cy="414360"/>
          </a:xfrm>
          <a:custGeom>
            <a:avLst/>
            <a:gdLst/>
            <a:ahLst/>
            <a:rect l="l" t="t" r="r" b="b"/>
            <a:pathLst>
              <a:path w="105" h="317">
                <a:moveTo>
                  <a:pt x="90" y="317"/>
                </a:moveTo>
                <a:cubicBezTo>
                  <a:pt x="97" y="253"/>
                  <a:pt x="105" y="189"/>
                  <a:pt x="90" y="136"/>
                </a:cubicBezTo>
                <a:cubicBezTo>
                  <a:pt x="75" y="83"/>
                  <a:pt x="37" y="41"/>
                  <a:pt x="0" y="0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617480" y="4076640"/>
            <a:ext cx="360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20720" y="51577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te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3877400">
            <a:off x="826920" y="2060280"/>
            <a:ext cx="2880000" cy="2016000"/>
          </a:xfrm>
          <a:prstGeom prst="parallelogram">
            <a:avLst>
              <a:gd name="adj" fmla="val 35714"/>
            </a:avLst>
          </a:prstGeom>
          <a:solidFill>
            <a:srgbClr val="ffff99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969840" y="3212640"/>
            <a:ext cx="396108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1762200" y="2204640"/>
            <a:ext cx="1295280" cy="165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57480" y="3860640"/>
            <a:ext cx="1728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35800">
            <a:off x="1765800" y="429264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96720" y="23493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944800">
            <a:off x="2404800" y="30740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95200">
            <a:off x="3060000" y="393228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p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5840" y="2421000"/>
            <a:ext cx="1871640" cy="143964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761840" y="3716280"/>
            <a:ext cx="3384360" cy="21600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70200" y="3789360"/>
            <a:ext cx="1511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2602400">
            <a:off x="2583720" y="3560400"/>
            <a:ext cx="106200" cy="306360"/>
          </a:xfrm>
          <a:custGeom>
            <a:avLst/>
            <a:gdLst/>
            <a:ahLst/>
            <a:rect l="l" t="t" r="r" b="b"/>
            <a:pathLst>
              <a:path w="105" h="317">
                <a:moveTo>
                  <a:pt x="90" y="317"/>
                </a:moveTo>
                <a:cubicBezTo>
                  <a:pt x="97" y="253"/>
                  <a:pt x="105" y="189"/>
                  <a:pt x="90" y="136"/>
                </a:cubicBezTo>
                <a:cubicBezTo>
                  <a:pt x="75" y="83"/>
                  <a:pt x="37" y="41"/>
                  <a:pt x="0" y="0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076360" y="1484280"/>
            <a:ext cx="3683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teo Apar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ulo de inclinación de un plano en cualquier dirección diferente de la de máxima pendi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55736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rac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on superficies a lo largo de las cuales una roca o mineral se ha roto. (Superficies a lo largo de las cuales el material ha perdido cohesión). Las fracturas se distinguen por el movimiento relativo que ha ocurrido a lo largo de ellas durante su form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7640" y="494172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rac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708360" y="4724280"/>
            <a:ext cx="647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5445000"/>
            <a:ext cx="6476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28720" y="429264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a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28000" y="5589720"/>
            <a:ext cx="19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acl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iscontinuidades en las que un bloque se ha deslizado con respecto a o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iacl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n discontinuidades a lo largo de las cuales no ha habido movimiento visible paralelo al plano de frac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Garamond"/>
              </a:rPr>
              <a:t>Tipos de Fal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 fallas se diferencian, dependiendo de la orientación del desplazamiento relativo de un bloque con respecto a otro, en tres categoría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llas de desplazamiento en el mant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llas de desplazamiento en el rum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llas de desplazamiento oblic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Garamond"/>
              </a:rPr>
              <a:t>Tipos de Fal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 fallas, en términos del movimiento relativo, pueden s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llas nor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llas inver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llas vert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llas de rum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Garamond"/>
              </a:rPr>
              <a:t>Tipos de Fall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5472000" cy="23511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340000" y="3878280"/>
            <a:ext cx="54720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Garamond"/>
              </a:rPr>
              <a:t>Tipos de Fall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97528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5327640" cy="3537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867280" y="3860640"/>
            <a:ext cx="3168720" cy="2791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089400" y="765000"/>
            <a:ext cx="237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Fallas Nor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4537080" cy="3019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995640" y="3645000"/>
            <a:ext cx="4753080" cy="27478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706720" y="78408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Fallas Inver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71640" y="2205000"/>
            <a:ext cx="7416720" cy="29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uxili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rolina Guzmán </a:t>
            </a:r>
            <a:r>
              <a:rPr b="0" lang="es-ES_tradnl" sz="1800" spc="-1" strike="noStrike" u="sng">
                <a:solidFill>
                  <a:srgbClr val="cc9900"/>
                </a:solidFill>
                <a:uFillTx/>
                <a:latin typeface="Verdana"/>
                <a:hlinkClick r:id="rId1"/>
              </a:rPr>
              <a:t>caguzman@ing.u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yuda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odolfo Ferrand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 u="sng">
                <a:solidFill>
                  <a:srgbClr val="cc9900"/>
                </a:solidFill>
                <a:uFillTx/>
                <a:latin typeface="Verdana"/>
                <a:hlinkClick r:id="rId2"/>
              </a:rPr>
              <a:t>rferran@ing.uchile.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ernán Bobadilla </a:t>
            </a:r>
            <a:r>
              <a:rPr b="0" lang="es-ES_tradnl" sz="2000" spc="-1" strike="noStrike" u="sng">
                <a:solidFill>
                  <a:srgbClr val="cc9900"/>
                </a:solidFill>
                <a:uFillTx/>
                <a:latin typeface="Verdana"/>
                <a:hlinkClick r:id="rId3"/>
              </a:rPr>
              <a:t>hbobadil@ing.uchile.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47628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49360"/>
            <a:ext cx="67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Equipo Doc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174840" cy="4241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140360" y="3357720"/>
            <a:ext cx="4321080" cy="28828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936680" y="33336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Fallas de Rum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140360" y="836640"/>
            <a:ext cx="431928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Garamond"/>
              </a:rPr>
              <a:t>Diaclasa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3470400" cy="4896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09096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Garamond"/>
              </a:rPr>
              <a:t>Partes geométricas de un pliegu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38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mentos descriptivo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lancos o limb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son las zonas menos curvadas conectadas por la zona de mayor curvatur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nel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zona de mayor curvatura (menor diámetro de curvatura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res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zona topográficamente más elevada de un pliegu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995640" y="2019240"/>
            <a:ext cx="46911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067280" y="2997360"/>
            <a:ext cx="4876560" cy="3251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87280" y="287280"/>
            <a:ext cx="5076720" cy="3046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089400" y="83664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Anticl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08680" y="47242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Sincl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3300"/>
                </a:solidFill>
                <a:latin typeface="Garamond"/>
              </a:rPr>
              <a:t>Proyecciones geográficas</a:t>
            </a:r>
            <a:br>
              <a:rPr sz="4000"/>
            </a:b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2649600" cy="2185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Imagen:2D Cartesian Coordinates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2000" y="1268280"/>
            <a:ext cx="2528640" cy="2186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474920" y="3863880"/>
            <a:ext cx="2377800" cy="2190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Imagen:Cordonnees spheriques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46560" y="3863880"/>
            <a:ext cx="2316240" cy="2190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042920" y="357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4360" y="3500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. de coordenadas cartesi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03640" y="35002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. de coordenadas po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6920" y="6021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. de coordenadas cilínd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59280" y="6021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. de coordenadas esfé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3300"/>
                </a:solidFill>
                <a:latin typeface="Garamond"/>
              </a:rPr>
              <a:t>Sistema de coordenadas UTM  y GPS</a:t>
            </a:r>
            <a:endParaRPr b="0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(Universal Transverse Mercator)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 diferencia del sistema de coordenadas tradicional, expresadas en </a:t>
            </a:r>
            <a:r>
              <a:rPr b="0" lang="es-ES" sz="2400" spc="-1" strike="noStrike" u="sng">
                <a:solidFill>
                  <a:srgbClr val="cc9900"/>
                </a:solidFill>
                <a:uFillTx/>
                <a:latin typeface="Verdana"/>
                <a:hlinkClick r:id="rId1"/>
              </a:rPr>
              <a:t>longitud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lang="es-ES" sz="2400" spc="-1" strike="noStrike" u="sng">
                <a:solidFill>
                  <a:srgbClr val="cc9900"/>
                </a:solidFill>
                <a:uFillTx/>
                <a:latin typeface="Verdana"/>
                <a:hlinkClick r:id="rId2"/>
              </a:rPr>
              <a:t>latitud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, las magnitudes en el sistem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UTM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se expresan en </a:t>
            </a:r>
            <a:r>
              <a:rPr b="0" lang="es-ES" sz="2400" spc="-1" strike="noStrike" u="sng">
                <a:solidFill>
                  <a:srgbClr val="cc9900"/>
                </a:solidFill>
                <a:uFillTx/>
                <a:latin typeface="Verdana"/>
                <a:hlinkClick r:id="rId3"/>
              </a:rPr>
              <a:t>metro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 representa la región entre los paralelos 80ºN y 84º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divide la Tierra en husos de 6º de longitud cada u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Se definen zonas de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8º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Grados de Latitud, que se denominan con letras des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hasta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tra &gt;= N: hemisferio norte ;letra &lt; N: hemisferio su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as coordenadas UTM representan un cuadrado y no un pu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ara las zonas polares se utiliza el sistemas UPS 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l Datum corresponde a el punto de referencia tom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WGS-84 (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World Geodetic System)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:datum mundial, otros: PSAD-56, NAD-27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Al utilizar un mapa se debe verificar el Datum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3300"/>
                </a:solidFill>
                <a:latin typeface="Garamond"/>
              </a:rPr>
              <a:t>Sistema de coordenadas UTM  y GPS</a:t>
            </a:r>
            <a:endParaRPr b="0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3300"/>
                </a:solidFill>
                <a:latin typeface="Garamond"/>
              </a:rPr>
              <a:t>Usos y Zonas UTM</a:t>
            </a:r>
            <a:endParaRPr b="0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230" name="" descr="Husos y Zonas UTM"/>
          <p:cNvPicPr/>
          <p:nvPr/>
        </p:nvPicPr>
        <p:blipFill>
          <a:blip r:embed="rId1"/>
          <a:stretch/>
        </p:blipFill>
        <p:spPr>
          <a:xfrm>
            <a:off x="179280" y="1484280"/>
            <a:ext cx="8686800" cy="47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787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3300"/>
                </a:solidFill>
                <a:latin typeface="Garamond"/>
              </a:rPr>
              <a:t>Uso de la brújula (Brunton )</a:t>
            </a:r>
            <a:endParaRPr b="0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64000" y="1568160"/>
            <a:ext cx="5122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33cc"/>
                </a:solidFill>
                <a:latin typeface="Verdana"/>
              </a:rPr>
              <a:t>Tipo Americ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costado de la brújula se coloca en dirección del rumb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centra la burbuja de nivel esféri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mide el rumbo indistintamente hacia el E u W el lado de la aguja mas cercano al norte. Ej: N30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uego se  pone la brújula perpendicular al rumbo, y se usa el clinómetro.      Se centra el nivel tubular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mide </a:t>
            </a: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el clinómetr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y se estima la dirección de mayor inclinación.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2028600" cy="15620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2028600" cy="1562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39640" y="4724280"/>
            <a:ext cx="2857680" cy="14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3300"/>
                </a:solidFill>
                <a:latin typeface="Garamond"/>
              </a:rPr>
              <a:t>Uso de la brújula (Brunton )</a:t>
            </a:r>
            <a:endParaRPr b="0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2847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Circulo Compl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apoya el espejo contra el plano a medir</a:t>
            </a:r>
            <a:r>
              <a:rPr b="0" lang="en-US" sz="1800" spc="-1" strike="noStrike">
                <a:solidFill>
                  <a:srgbClr val="cc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centra el nivel esféri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estima la dirección de la inclinación y se toma la medida mas cerca de esta direcció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usa el clinómetr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343320" cy="2019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720880" cy="21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Regla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icio clases 16:15 h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medio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Arial"/>
              </a:rPr>
              <a:t>≥ 4.0 para aprobar el curs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Arial"/>
              </a:rPr>
              <a:t>Asistencia OBLIGATO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Arial"/>
              </a:rPr>
              <a:t>Las tareas se entregan la semana siguiente de cuando fueron da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Arial"/>
              </a:rPr>
              <a:t>Terrenos: 14 de Septiembre, Alfalf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5 de Octubre, Isla Neg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Objetivos generale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escripción geométrica de cuerpos rocoso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nálisis cinemáticos y dinámicos de los procesos que dan lugar a las estructur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aboración de modelos que expliquen las estructuras descrit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076720" y="1628640"/>
            <a:ext cx="353880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definir la orientación de una línea geológica se necesitan dos propiedad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um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Buz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 rot="1596000">
            <a:off x="395280" y="2923920"/>
            <a:ext cx="4346640" cy="1368360"/>
          </a:xfrm>
          <a:prstGeom prst="parallelogram">
            <a:avLst>
              <a:gd name="adj" fmla="val 14015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6560" y="2924280"/>
            <a:ext cx="4608720" cy="1150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1114200" y="1988640"/>
            <a:ext cx="2447640" cy="172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2421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32000">
            <a:off x="398520" y="393336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5080" y="22766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u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771640" y="270828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38560" y="2997360"/>
            <a:ext cx="215640" cy="431640"/>
          </a:xfrm>
          <a:custGeom>
            <a:avLst/>
            <a:gdLst/>
            <a:ahLst/>
            <a:rect l="l" t="t" r="r" b="b"/>
            <a:pathLst>
              <a:path w="105" h="272">
                <a:moveTo>
                  <a:pt x="15" y="272"/>
                </a:moveTo>
                <a:cubicBezTo>
                  <a:pt x="7" y="226"/>
                  <a:pt x="0" y="181"/>
                  <a:pt x="15" y="136"/>
                </a:cubicBezTo>
                <a:cubicBezTo>
                  <a:pt x="30" y="91"/>
                  <a:pt x="67" y="45"/>
                  <a:pt x="105" y="0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882600">
            <a:off x="3996720" y="40050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840" y="333360"/>
            <a:ext cx="8229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3300"/>
                </a:solidFill>
                <a:latin typeface="Garamond"/>
              </a:rPr>
              <a:t>Caracterización de Lí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rot="882600">
            <a:off x="3850560" y="40827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596000">
            <a:off x="538200" y="3084120"/>
            <a:ext cx="4346640" cy="1368360"/>
          </a:xfrm>
          <a:prstGeom prst="parallelogram">
            <a:avLst>
              <a:gd name="adj" fmla="val 14015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rot="20039400">
            <a:off x="1186920" y="2276280"/>
            <a:ext cx="2016360" cy="1728720"/>
          </a:xfrm>
          <a:prstGeom prst="parallelogram">
            <a:avLst>
              <a:gd name="adj" fmla="val 29160"/>
            </a:avLst>
          </a:prstGeom>
          <a:solidFill>
            <a:srgbClr val="ffff99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741400">
            <a:off x="2572560" y="24051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187280" y="3141360"/>
            <a:ext cx="3024360" cy="143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32000">
            <a:off x="471600" y="393336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949400">
            <a:off x="3854520" y="30682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468360" y="3068280"/>
            <a:ext cx="2951280" cy="4316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504000">
            <a:off x="672120" y="28465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9080" y="3429000"/>
            <a:ext cx="71280" cy="431640"/>
          </a:xfrm>
          <a:custGeom>
            <a:avLst/>
            <a:gdLst/>
            <a:ahLst/>
            <a:rect l="l" t="t" r="r" b="b"/>
            <a:pathLst>
              <a:path w="45" h="272">
                <a:moveTo>
                  <a:pt x="45" y="272"/>
                </a:moveTo>
                <a:cubicBezTo>
                  <a:pt x="22" y="226"/>
                  <a:pt x="0" y="181"/>
                  <a:pt x="0" y="136"/>
                </a:cubicBezTo>
                <a:cubicBezTo>
                  <a:pt x="0" y="91"/>
                  <a:pt x="22" y="45"/>
                  <a:pt x="45" y="0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842920" y="2852640"/>
            <a:ext cx="865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66520" y="24922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840" y="333360"/>
            <a:ext cx="8229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3300"/>
                </a:solidFill>
                <a:latin typeface="Garamond"/>
              </a:rPr>
              <a:t>Caracterización de Lí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932000" y="1844640"/>
            <a:ext cx="375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ak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el ángulo que forma una recta con el rumbo de un plano que la contien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4286160" cy="3152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788000" y="1773360"/>
            <a:ext cx="4041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ara describir la orientación de un plano geológico matemáticamente se necesitan dos propied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umbo (Strike) o Dirección de Inclinación (Dip 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anteo (D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aracterización de Plano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aracterización de Plano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32360" y="1628640"/>
            <a:ext cx="3394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mb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ínea que resulta de la intersección del plano geológico con un plano horizontal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4020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aracterización de Plano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88000" y="1557000"/>
            <a:ext cx="3898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p Direction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rección de máxima pendiente de un plano. Es una dirección perpendicular al rumb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 rot="13877400">
            <a:off x="900000" y="2347920"/>
            <a:ext cx="2879640" cy="2016000"/>
          </a:xfrm>
          <a:prstGeom prst="parallelogram">
            <a:avLst>
              <a:gd name="adj" fmla="val 35710"/>
            </a:avLst>
          </a:prstGeom>
          <a:solidFill>
            <a:srgbClr val="ffff99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rot="19956000">
            <a:off x="899640" y="3429000"/>
            <a:ext cx="4176720" cy="1593720"/>
          </a:xfrm>
          <a:prstGeom prst="parallelogram">
            <a:avLst>
              <a:gd name="adj" fmla="val 162352"/>
            </a:avLst>
          </a:prstGeom>
          <a:solidFill>
            <a:srgbClr val="00ffff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20179800">
            <a:off x="972000" y="479700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900000" y="3573000"/>
            <a:ext cx="396108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35800">
            <a:off x="2127600" y="47242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ano 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944800">
            <a:off x="1901520" y="32184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907640" y="2420640"/>
            <a:ext cx="1295640" cy="165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295200">
            <a:off x="2988360" y="422100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p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4149720"/>
            <a:ext cx="1657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45440" y="27813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0:15:26Z</dcterms:created>
  <dc:creator>PREGRADO13</dc:creator>
  <dc:description/>
  <dc:language>en-US</dc:language>
  <cp:lastModifiedBy>PREGRADO9</cp:lastModifiedBy>
  <dcterms:modified xsi:type="dcterms:W3CDTF">2007-08-16T19:13:02Z</dcterms:modified>
  <cp:revision>20</cp:revision>
  <dc:subject/>
  <dc:title>Diapositiva 1</dc:title>
</cp:coreProperties>
</file>