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AFF-EF73-4CFB-A344-4BA187A0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51E-7E98-431F-B85C-25D125D5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38C-BF73-4F08-9056-CE189508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E34-4DC8-4907-A4AD-F3490CA2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AA24-DF67-4B7B-B14E-124400AF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50C-F8BD-4C16-B321-08D00AD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9B9C-F564-460D-B7D4-544E2BEF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045C-29C4-4CCB-A40B-805DE79F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75C6-3B30-42E2-8807-DC5C1926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574C-7438-4AB5-9C6A-8961B0FF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FD2E-CB35-41F7-BB38-0D96DD2C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DCB-E551-4A47-8C20-A50484AC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9899-2F89-49F9-ACA2-6AA3AA0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B9EC-3226-4EFE-98A9-55A1C42E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C95E-302A-42B1-A2E5-07BB5022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D3F8-66A9-4DB0-832F-8C8D406D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DFA9-B3CC-44B4-BA88-96E1AC1D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5C5-83B3-4815-A3F0-407250E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EDE-4718-4830-BE35-96390F42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847-1CFA-4EA9-ABF3-ED544773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F65-2DBB-48A2-886E-68B9511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35F-385E-46AB-86F3-E714E2A2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FF9-3FCF-4A9D-A08B-DA96866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0EE-2A4C-417F-A8D8-CD80E93B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9C10-EAF3-441E-A72E-DA3C490539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3B5F-FC8D-418C-93F3-76C0951F79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aguzman@ing.uchile.cl" TargetMode="External"/><Relationship Id="rId2" Type="http://schemas.openxmlformats.org/officeDocument/2006/relationships/hyperlink" Target="mailto:rferran@ing.uchile.cl" TargetMode="External"/><Relationship Id="rId3" Type="http://schemas.openxmlformats.org/officeDocument/2006/relationships/hyperlink" Target="mailto:hbobadil@ing.uchile.c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upload.wikimedia.org/wikipedia/commons/5/59/2D_Cartesian_Coordinates.svg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upload.wikimedia.org/wikipedia/commons/7/70/Cordonnees_spheriques.png" TargetMode="Externa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ongitud" TargetMode="External"/><Relationship Id="rId2" Type="http://schemas.openxmlformats.org/officeDocument/2006/relationships/hyperlink" Target="http://es.wikipedia.org/wiki/Latitud" TargetMode="External"/><Relationship Id="rId3" Type="http://schemas.openxmlformats.org/officeDocument/2006/relationships/hyperlink" Target="http://es.wikipedia.org/wiki/Metros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L4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71600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o Re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ulo de inclinación de un plano en la dirección de máxima pend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H="1" rot="19956000">
            <a:off x="971280" y="306864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2602400">
            <a:off x="1547640" y="3788640"/>
            <a:ext cx="9864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763280" y="4076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57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3877400">
            <a:off x="826920" y="198900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4360" y="328428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763280" y="2204640"/>
            <a:ext cx="129564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386064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35800">
            <a:off x="2410920" y="4365360"/>
            <a:ext cx="18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8520" y="2421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524800">
            <a:off x="1261800" y="4365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944800">
            <a:off x="1830240" y="3002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95200">
            <a:off x="3204360" y="386064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260280"/>
            <a:ext cx="79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524800">
            <a:off x="541080" y="4502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5440" y="51577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9956000">
            <a:off x="1330200" y="313992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2602400">
            <a:off x="1401120" y="3788640"/>
            <a:ext cx="17604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17480" y="4076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20720" y="5157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3877400">
            <a:off x="826920" y="2060280"/>
            <a:ext cx="2880000" cy="2016000"/>
          </a:xfrm>
          <a:prstGeom prst="parallelogram">
            <a:avLst>
              <a:gd name="adj" fmla="val 35714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69840" y="3212640"/>
            <a:ext cx="396108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762200" y="2204640"/>
            <a:ext cx="129528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7480" y="386064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35800">
            <a:off x="1765800" y="4292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6720" y="2349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944800">
            <a:off x="2404800" y="3074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95200">
            <a:off x="3060000" y="39322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5840" y="2421000"/>
            <a:ext cx="1871640" cy="143964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761840" y="3716280"/>
            <a:ext cx="3384360" cy="2160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0200" y="3789360"/>
            <a:ext cx="1511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2602400">
            <a:off x="2583720" y="3560400"/>
            <a:ext cx="106200" cy="306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076360" y="1484280"/>
            <a:ext cx="3683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o Apar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ulo de inclinación de un plano en cualquier dirección diferente de la de máxima pend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557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ra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superficies a lo largo de las cuales una roca o mineral se ha roto. (Superficies a lo largo de las cuales el material ha perdido cohesión). Las fracturas se distinguen por el movimiento relativo que ha ocurrido a lo largo de ellas durante su form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7640" y="494172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08360" y="472428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45000"/>
            <a:ext cx="647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8720" y="429264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8000" y="558972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ac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scontinuidades en las que un bloque se ha deslizado con respecto a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acl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n discontinuidades a lo largo de las cuales no ha habido movimiento visible paralelo al plano de fr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 fallas se diferencian, dependiendo de la orientación del desplazamiento relativo de un bloque con respecto a otro, en tres categorí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as de desplazamiento en el mant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as de desplazamiento en el ru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as de desplazamiento oblic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 fallas, en términos del movimiento relativo,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no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inver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vert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de ru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472000" cy="2351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340000" y="3878280"/>
            <a:ext cx="5472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9752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327640" cy="3537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168720" cy="2791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89400" y="765000"/>
            <a:ext cx="237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llas No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4537080" cy="301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95640" y="3645000"/>
            <a:ext cx="4753080" cy="2747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706720" y="7840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llas Inver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2205000"/>
            <a:ext cx="741672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xil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rolina Guzmán </a:t>
            </a:r>
            <a:r>
              <a:rPr b="0" lang="es-ES_tradnl" sz="18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caguzman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yud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odolfo Ferra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rferran@ing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ernán Bobadilla </a:t>
            </a:r>
            <a:r>
              <a:rPr b="0" lang="es-ES_tradnl" sz="2000" spc="-1" strike="noStrike" u="sng">
                <a:solidFill>
                  <a:srgbClr val="cc9900"/>
                </a:solidFill>
                <a:uFillTx/>
                <a:latin typeface="Verdana"/>
                <a:hlinkClick r:id="rId3"/>
              </a:rPr>
              <a:t>hbobadil@ing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76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4936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Equipo Doc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174840" cy="4241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321080" cy="2882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936680" y="3333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llas de Ru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3192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Diaclasa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470400" cy="489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09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Partes geométricas de un pliegu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mentos descriptiv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lancos o limb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son las zonas menos curvadas conectadas por la zona de mayor curvatur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nel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zona de mayor curvatura (menor diámetro de curvatura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s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zona topográficamente más elevada de un plieg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95640" y="2019240"/>
            <a:ext cx="46911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876560" cy="3251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5076720" cy="3046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089400" y="836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nticl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8680" y="47242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incl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Garamond"/>
              </a:rPr>
              <a:t>Proyecciones geográficas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264960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Imagen:2D Cartesian Coordinates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1268280"/>
            <a:ext cx="2528640" cy="2186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474920" y="3863880"/>
            <a:ext cx="2377800" cy="2190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Imagen:Cordonnees spheriques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6560" y="3863880"/>
            <a:ext cx="2316240" cy="2190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4292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350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3500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6920" y="602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cilínd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60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esf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Sistema de coordenadas UTM  y GPS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(Universal Transverse Mercator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 diferencia del sistema de coordenadas tradicional, expresadas en </a:t>
            </a:r>
            <a:r>
              <a:rPr b="0" lang="es-ES" sz="24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longitud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4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latitud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las magnitudes en el sistem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TM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e expresan en </a:t>
            </a:r>
            <a:r>
              <a:rPr b="0" lang="es-ES" sz="2400" spc="-1" strike="noStrike" u="sng">
                <a:solidFill>
                  <a:srgbClr val="cc9900"/>
                </a:solidFill>
                <a:uFillTx/>
                <a:latin typeface="Verdana"/>
                <a:hlinkClick r:id="rId3"/>
              </a:rPr>
              <a:t>metro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 representa la región entre los paralelos 80ºN y 84º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divide la Tierra en husos de 6º de longitud cada u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e definen zonas de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8º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Grados de Latitud, que se denominan con letras des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hasta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tra &gt;= N: hemisferio norte ;letra &lt; N: hemisferio su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as coordenadas UTM representan un cuadrado y no un pu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ara las zonas polares se utiliza el sistemas UPS 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Datum corresponde a el punto de referencia tom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WGS-84 (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World Geodetic System)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:datum mundial, otros: PSAD-56, NAD-27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l utilizar un mapa se debe verificar el Datum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Sistema de coordenadas UTM  y GPS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Usos y Zonas UTM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230" name="" descr="Husos y Zonas UTM"/>
          <p:cNvPicPr/>
          <p:nvPr/>
        </p:nvPicPr>
        <p:blipFill>
          <a:blip r:embed="rId1"/>
          <a:stretch/>
        </p:blipFill>
        <p:spPr>
          <a:xfrm>
            <a:off x="179280" y="1484280"/>
            <a:ext cx="868680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87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Uso de la brújula (Brunton )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64000" y="1568160"/>
            <a:ext cx="5122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Verdana"/>
              </a:rPr>
              <a:t>Tipo Americ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costado de la brújula se coloca en dirección del rumb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centra la burbuja de nivel esfér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mide el rumbo indistintamente hacia el E u W el lado de la aguja mas cercano al norte. Ej: N30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uego se  pone la brújula perpendicular al rumbo, y se usa el clinómetro.      Se centra el nivel tubular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mide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el clinómetr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se estima la dirección de mayor inclinación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2028600" cy="1562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2028600" cy="1562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285768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Uso de la brújula (Brunton )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847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Circulo Compl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apoya el espejo contra el plano a medir</a:t>
            </a:r>
            <a:r>
              <a:rPr b="0" lang="en-US" sz="1800" spc="-1" strike="noStrike">
                <a:solidFill>
                  <a:srgbClr val="cc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entra el nivel esfér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estima la dirección de la inclinación y se toma la medida mas cerca de esta direcció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usa el clinómet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343320" cy="2019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2088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Regla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icio clases 16:15 h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medio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≥ 4.0 para aprobar el curs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Asistencia OBLIGATO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Las tareas se entregan la semana siguiente de cuando fueron da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Terrenos: 14 de Septiembre, Alfalf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5 de Octubre, Isla Neg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Objetivos general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scripción geométrica de cuerpos rocoso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cinemáticos y dinámicos de los procesos que dan lugar a las estructur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aboración de modelos que expliquen las estructuras descrit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5388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definir la orientación de una línea geológica se necesitan dos propie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um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uz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 rot="1596000">
            <a:off x="395280" y="29239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60" y="2924280"/>
            <a:ext cx="460872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114200" y="1988640"/>
            <a:ext cx="2447640" cy="172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2421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32000">
            <a:off x="39852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5080" y="22766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71640" y="270828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38560" y="2997360"/>
            <a:ext cx="215640" cy="431640"/>
          </a:xfrm>
          <a:custGeom>
            <a:avLst/>
            <a:gdLst/>
            <a:ahLst/>
            <a:rect l="l" t="t" r="r" b="b"/>
            <a:pathLst>
              <a:path w="105" h="272">
                <a:moveTo>
                  <a:pt x="15" y="272"/>
                </a:moveTo>
                <a:cubicBezTo>
                  <a:pt x="7" y="226"/>
                  <a:pt x="0" y="181"/>
                  <a:pt x="15" y="136"/>
                </a:cubicBezTo>
                <a:cubicBezTo>
                  <a:pt x="30" y="91"/>
                  <a:pt x="67" y="45"/>
                  <a:pt x="10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882600">
            <a:off x="3996720" y="4005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840" y="33336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Garamond"/>
              </a:rPr>
              <a:t>Caracterización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rot="882600">
            <a:off x="3850560" y="40827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96000">
            <a:off x="53820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rot="20039400">
            <a:off x="1186920" y="2276280"/>
            <a:ext cx="2016360" cy="1728720"/>
          </a:xfrm>
          <a:prstGeom prst="parallelogram">
            <a:avLst>
              <a:gd name="adj" fmla="val 2916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741400">
            <a:off x="2572560" y="24051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87280" y="3141360"/>
            <a:ext cx="302436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32000">
            <a:off x="47160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949400">
            <a:off x="3854520" y="306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68360" y="3068280"/>
            <a:ext cx="2951280" cy="431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04000">
            <a:off x="672120" y="28465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9080" y="3429000"/>
            <a:ext cx="71280" cy="431640"/>
          </a:xfrm>
          <a:custGeom>
            <a:avLst/>
            <a:gdLst/>
            <a:ahLst/>
            <a:rect l="l" t="t" r="r" b="b"/>
            <a:pathLst>
              <a:path w="45" h="272">
                <a:moveTo>
                  <a:pt x="45" y="272"/>
                </a:moveTo>
                <a:cubicBezTo>
                  <a:pt x="22" y="226"/>
                  <a:pt x="0" y="181"/>
                  <a:pt x="0" y="136"/>
                </a:cubicBezTo>
                <a:cubicBezTo>
                  <a:pt x="0" y="91"/>
                  <a:pt x="22" y="45"/>
                  <a:pt x="4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42920" y="2852640"/>
            <a:ext cx="86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6520" y="24922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840" y="33336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Garamond"/>
              </a:rPr>
              <a:t>Caracterización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932000" y="1844640"/>
            <a:ext cx="375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el ángulo que forma una recta con el rumbo de un plano que la contie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286160" cy="315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788000" y="1773360"/>
            <a:ext cx="4041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describir la orientación de un plano geológico matemáticamente se necesitan dos propie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umbo (Strike) o Dirección de Inclinación (Dip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nteo (D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3394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mb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ínea que resulta de la intersección del plano geológico con un plano horizontal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4020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p Directio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rección de máxima pendiente de un plano. Es una dirección perpendicular al rumb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 rot="13877400">
            <a:off x="900000" y="234792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19956000">
            <a:off x="899640" y="342900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00ffff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0179800">
            <a:off x="972000" y="4797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00000" y="3573000"/>
            <a:ext cx="396108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35800">
            <a:off x="2127600" y="4724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944800">
            <a:off x="1901520" y="3218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07640" y="2420640"/>
            <a:ext cx="129564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95200">
            <a:off x="2988360" y="4221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149720"/>
            <a:ext cx="165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5440" y="2781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0:15:26Z</dcterms:created>
  <dc:creator>PREGRADO13</dc:creator>
  <dc:description/>
  <dc:language>en-US</dc:language>
  <cp:lastModifiedBy>PREGRADO9</cp:lastModifiedBy>
  <dcterms:modified xsi:type="dcterms:W3CDTF">2007-08-16T19:13:02Z</dcterms:modified>
  <cp:revision>20</cp:revision>
  <dc:subject/>
  <dc:title>Diapositiva 1</dc:title>
</cp:coreProperties>
</file>