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CA55F-6CBE-4B9F-BE31-F36C7FA64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700C4-4EFB-4017-93FA-F9EFD386A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B658C-61F7-4C84-9351-4C4951618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DFF2A-D01D-4714-96AE-99AC37F2F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ABFF1A0-B132-461E-80F9-C1330A5839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250C9A7-9153-4D9F-9FF9-195DBC3FF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E3DDC76-7DB4-4882-AE8B-A88A86DD5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7D20A43-E5E6-4146-A7DB-226297AEA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49EB5BB-5DD0-438A-B27F-C7972C46E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76B5823-3B71-4E08-804D-D026C9128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7837901-EFD2-45D9-A281-9D2F56319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C4B6B-115D-4F62-9B0E-3B1FBE6D9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95F400B-EDF0-4DCC-BD77-C535253F5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BAEA351-4E2C-4269-846F-D1721BFD9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6EB35DD-ED79-4273-8805-0344BEBE6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04DDB59-E075-4EAC-A04F-C2E6F00757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4FB5433-7DFB-4107-97C6-1FF8E6449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8DC8B-1F30-4714-BBB8-0CAF68E34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08343-C8E9-479A-9C91-451A484E7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12CFD-F12E-4AC8-A0E3-A302083DD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4044C-614A-404C-9263-7B574B555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51D5C-D0C3-454B-AB0C-A6CDA7F34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FA375-CDBA-49AA-93EE-058795C4E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70C7F-ACC5-4944-985C-991C7DC62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7818-7136-4D0D-A289-6CD342B9A3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C20C-DEB9-437F-B5B0-467F998828D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Geología General</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todología</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 clase auxiliar se divide en dos partes:</a:t>
            </a:r>
            <a:endParaRPr b="0" lang="en-US" sz="2800" spc="-1" strike="noStrike">
              <a:solidFill>
                <a:srgbClr val="ffffff"/>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Teoría y descripción de minerales y de los distintos tipos de rocas. La evaluación será a través de lecturas  que serán evaluadas con un ejercicio al comienzo de cada clase y con una duración de 15 min, y un control oral al final del tema.</a:t>
            </a:r>
            <a:endParaRPr b="0" lang="en-US" sz="2400" spc="-1" strike="noStrike">
              <a:solidFill>
                <a:srgbClr val="ffffff"/>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Teoría y aplicación de metodologías básicas. En cada clase se realizarán tareas personales que se entregarán al final de ésta.</a:t>
            </a:r>
            <a:endParaRPr b="0" lang="en-US" sz="2400" spc="-1" strike="noStrike">
              <a:solidFill>
                <a:srgbClr val="ffffff"/>
              </a:solidFill>
              <a:latin typeface="Arial"/>
            </a:endParaRPr>
          </a:p>
          <a:p>
            <a:pPr marL="609480" indent="-6094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Terrenos: dos por el día y uno de 5 días la semana después de los exáme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grama del Curso</a:t>
            </a:r>
            <a:endParaRPr b="0" lang="en-US" sz="4400" spc="-1" strike="noStrike">
              <a:solidFill>
                <a:srgbClr val="e3e3ff"/>
              </a:solidFill>
              <a:latin typeface="Arial"/>
            </a:endParaRPr>
          </a:p>
        </p:txBody>
      </p:sp>
      <p:graphicFrame>
        <p:nvGraphicFramePr>
          <p:cNvPr id="127" name=""/>
          <p:cNvGraphicFramePr/>
          <p:nvPr/>
        </p:nvGraphicFramePr>
        <p:xfrm>
          <a:off x="533520" y="990720"/>
          <a:ext cx="8076960" cy="5694120"/>
        </p:xfrm>
        <a:graphic>
          <a:graphicData uri="http://schemas.openxmlformats.org/drawingml/2006/table">
            <a:tbl>
              <a:tblPr/>
              <a:tblGrid>
                <a:gridCol w="1549440"/>
                <a:gridCol w="1409400"/>
                <a:gridCol w="3365640"/>
                <a:gridCol w="1752480"/>
              </a:tblGrid>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aboratorio</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Vierne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em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valuación</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7-Jul</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Introducción al Curso</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3-Ago</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ropiedades de los Minerale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ectur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Ago</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inerales Formadores de Roca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ectur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Ago</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ocas ígneas plutónica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ectur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4-Ago</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Times New Roman"/>
                        </a:rPr>
                        <a:t>Rocas ígneas extrusiva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ectur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1-Ago</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ocas sedimentaria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ectur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7-Se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ocas metamórfica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ectur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4-Se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ontrol 1: Roca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o</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Se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ACACIONE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8-Se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stratigrafía y Paleontologí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are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5-Oct</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apas y perfile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are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o</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Oct</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Times New Roman"/>
                        </a:rPr>
                        <a:t>Semana Olimpic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Oct</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eología Estructural</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are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6-Oct</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eología Económic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are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2-Nov</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eología Ambiental y Aplicad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are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14</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9-Nov</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ontrol 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3e3ff"/>
                </a:solidFill>
                <a:latin typeface="Arial"/>
              </a:rPr>
              <a:t>Evaluaciones</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laboratorio es independiente de la cátedra.</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Para aprobar el curso, la nota final del laboratorio (NF) debe ser &gt;= 4,0 y se calcula:</a:t>
            </a:r>
            <a:endParaRPr b="0" lang="en-US" sz="2000" spc="-1" strike="noStrike">
              <a:solidFill>
                <a:srgbClr val="ffffff"/>
              </a:solidFill>
              <a:latin typeface="Arial"/>
            </a:endParaRPr>
          </a:p>
          <a:p>
            <a:pPr lvl="1" marL="990720" indent="-53352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NF = 0,4*NE + 0,2*NT + 0,4*NC</a:t>
            </a:r>
            <a:endParaRPr b="0" lang="en-US" sz="1800" spc="-1" strike="noStrike">
              <a:solidFill>
                <a:srgbClr val="ffffff"/>
              </a:solidFill>
              <a:latin typeface="Arial"/>
            </a:endParaRPr>
          </a:p>
          <a:p>
            <a:pPr lvl="1" marL="990720" indent="-53352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onde: </a:t>
            </a: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NE = Nota de ejercicios y tareas</a:t>
            </a:r>
            <a:br>
              <a:rPr sz="1800"/>
            </a:b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NT = Nota de terrenos</a:t>
            </a:r>
            <a:br>
              <a:rPr sz="1800"/>
            </a:b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NC = Nota de controles</a:t>
            </a:r>
            <a:br>
              <a:rPr sz="1800"/>
            </a:br>
            <a:br>
              <a:rPr sz="1800"/>
            </a:br>
            <a:r>
              <a:rPr b="0" lang="es-CL" sz="1800" spc="-1" strike="noStrike">
                <a:solidFill>
                  <a:srgbClr val="ffffff"/>
                </a:solidFill>
                <a:latin typeface="Arial"/>
              </a:rPr>
              <a:t> </a:t>
            </a:r>
            <a:endParaRPr b="0" lang="en-US" sz="18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Si alguna (s) de estas tres notas es menor a 3,7 el alumno es reprobado de Auxiliar y por lo tanto del curso.</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Si NE ó NT están entre 3,7 y 3,9 tendrán que hacer un trabajo recuperativo, con aprobación mínima de nota 4,0. </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Si NC está entre 3,7 y 3,9 tendrán que hacer un control recuperativo de toda la materia con aprobación mínima de nota 4,0. También dará este examen la gente que tenga más de una nota promedio entre 3,7 y 3,9.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3e3ff"/>
                </a:solidFill>
                <a:latin typeface="Arial"/>
              </a:rPr>
              <a:t>Asistencia</a:t>
            </a:r>
            <a:r>
              <a:rPr b="0" lang="es-ES_tradnl" sz="4400" spc="-1" strike="noStrike">
                <a:solidFill>
                  <a:srgbClr val="e3e3ff"/>
                </a:solidFill>
                <a:latin typeface="Arial"/>
              </a:rPr>
              <a:t> </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 asistencia a los laboratorios y salidas a terreno es OBLIGATORIA. </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Aquellos alumnos que hayan justificado su inasistencia a los laboratorios, tendrán la posibilidad de recuperar la actividad evaluativa correspondiente, debiendo contactarse con el encargado de la clase. En caso de inasistencia a terreno (justificada) podrán realizar un trabajo escrito para ser entregado en la fecha indicada por los auxiliares.</a:t>
            </a:r>
            <a:r>
              <a:rPr b="0"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uE</cp:lastModifiedBy>
  <dcterms:modified xsi:type="dcterms:W3CDTF">2007-07-25T16:04:00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