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png" ContentType="image/pn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30.wmf" ContentType="image/x-wmf"/>
  <Override PartName="/ppt/media/image11.jpeg" ContentType="image/jpeg"/>
  <Override PartName="/ppt/media/image23.wmf" ContentType="image/x-wmf"/>
  <Override PartName="/ppt/media/image22.jpeg" ContentType="image/jpeg"/>
  <Override PartName="/ppt/media/image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media/image31.wmf" ContentType="image/x-wmf"/>
  <Override PartName="/ppt/media/image19.jpeg" ContentType="image/jpeg"/>
  <Override PartName="/ppt/media/image8.wmf" ContentType="image/x-wmf"/>
  <Override PartName="/ppt/media/image4.jpeg" ContentType="image/jpeg"/>
  <Override PartName="/ppt/media/image32.png" ContentType="image/png"/>
  <Override PartName="/ppt/media/image25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15.wmf" ContentType="image/x-wmf"/>
  <Override PartName="/ppt/media/image14.jpeg" ContentType="image/jpeg"/>
  <Override PartName="/ppt/media/image16.wmf" ContentType="image/x-wmf"/>
  <Override PartName="/ppt/media/image17.wmf" ContentType="image/x-wmf"/>
  <Override PartName="/ppt/media/image18.jpeg" ContentType="image/jpeg"/>
  <Override PartName="/ppt/media/image20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2AA-3AA8-46D2-A20A-D53510A2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782-E2BE-4ACF-B0FB-AD9BDDCC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B35-2E4E-4ADA-A123-8B552D28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09D-8391-45F1-8E72-132372C8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FBAF-792B-477E-B619-D7E6AC39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9CBF-B618-4B04-8D73-3BD791F2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114B-CC9A-4BC5-BF3E-9A82A49B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4C21-5D84-42D8-8092-E73496A3D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B27C0-5AA3-4FA0-B9E3-1CD8AA16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5C848-1516-4B9F-BFAB-9F15554C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4A8D-1A6F-48D3-BEED-134CDF6C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18F0-2583-4596-89DB-DAAFF2CB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17579-4156-4613-A2A7-835C0B97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9F75-B176-4F9A-B1B1-74590E1D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2134-5BCD-45E6-8C27-7C57C7C4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A928-490A-4C1B-8083-2EE547D89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B15F-1999-4AE7-AF65-D77C810B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E1ED-79BA-414F-B277-BA44BCF7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FD2-1DF6-4571-BEC9-3EC3F370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A62-5919-4C19-BB2D-2045A29C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2AE-645A-4EC8-A812-7CAB780FE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9C91-6C1E-487F-99F7-D2F26C96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AD22-0C89-4EEB-A67C-FBE40CAF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026E-0572-4CA0-A53D-8484FC1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645F-0946-4642-B7B8-E2484678BE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06640-4D09-4A99-893A-7515C9F0CF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F40A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smología 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e auxiliar #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mestre Primavera 2007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xiliar: Cindy Mora Stoc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Con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468972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106600" y="601992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1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270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11280" y="2492280"/>
            <a:ext cx="289080" cy="57636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700360" y="3141720"/>
            <a:ext cx="358920" cy="718920"/>
          </a:xfrm>
          <a:prstGeom prst="ellipse">
            <a:avLst/>
          </a:prstGeom>
          <a:solidFill>
            <a:srgbClr val="ffffcc">
              <a:alpha val="30000"/>
            </a:srgbClr>
          </a:solidFill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2492280"/>
            <a:ext cx="863640" cy="2890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547640" y="3141720"/>
            <a:ext cx="1152720" cy="50328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4500360" y="2205000"/>
            <a:ext cx="2663640" cy="50328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427640" y="2852640"/>
            <a:ext cx="2736720" cy="9367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28000" y="242100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Planos nod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(plano de falla y plano  auxiliar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92360" y="1689120"/>
            <a:ext cx="1297080" cy="2100240"/>
          </a:xfrm>
          <a:custGeom>
            <a:avLst/>
            <a:gdLst/>
            <a:ahLst/>
            <a:rect l="l" t="t" r="r" b="b"/>
            <a:pathLst>
              <a:path w="817" h="1323">
                <a:moveTo>
                  <a:pt x="0" y="7"/>
                </a:moveTo>
                <a:cubicBezTo>
                  <a:pt x="22" y="7"/>
                  <a:pt x="89" y="0"/>
                  <a:pt x="134" y="8"/>
                </a:cubicBezTo>
                <a:cubicBezTo>
                  <a:pt x="179" y="16"/>
                  <a:pt x="234" y="38"/>
                  <a:pt x="272" y="53"/>
                </a:cubicBezTo>
                <a:cubicBezTo>
                  <a:pt x="310" y="68"/>
                  <a:pt x="323" y="75"/>
                  <a:pt x="362" y="98"/>
                </a:cubicBezTo>
                <a:cubicBezTo>
                  <a:pt x="401" y="121"/>
                  <a:pt x="460" y="155"/>
                  <a:pt x="505" y="193"/>
                </a:cubicBezTo>
                <a:cubicBezTo>
                  <a:pt x="550" y="231"/>
                  <a:pt x="604" y="292"/>
                  <a:pt x="635" y="325"/>
                </a:cubicBezTo>
                <a:cubicBezTo>
                  <a:pt x="666" y="358"/>
                  <a:pt x="667" y="356"/>
                  <a:pt x="690" y="394"/>
                </a:cubicBezTo>
                <a:cubicBezTo>
                  <a:pt x="713" y="432"/>
                  <a:pt x="752" y="504"/>
                  <a:pt x="771" y="552"/>
                </a:cubicBezTo>
                <a:cubicBezTo>
                  <a:pt x="790" y="600"/>
                  <a:pt x="798" y="639"/>
                  <a:pt x="805" y="684"/>
                </a:cubicBezTo>
                <a:cubicBezTo>
                  <a:pt x="812" y="729"/>
                  <a:pt x="817" y="777"/>
                  <a:pt x="816" y="824"/>
                </a:cubicBezTo>
                <a:cubicBezTo>
                  <a:pt x="815" y="871"/>
                  <a:pt x="809" y="916"/>
                  <a:pt x="800" y="965"/>
                </a:cubicBezTo>
                <a:cubicBezTo>
                  <a:pt x="791" y="1014"/>
                  <a:pt x="779" y="1078"/>
                  <a:pt x="765" y="1120"/>
                </a:cubicBezTo>
                <a:cubicBezTo>
                  <a:pt x="751" y="1162"/>
                  <a:pt x="737" y="1186"/>
                  <a:pt x="715" y="1220"/>
                </a:cubicBezTo>
                <a:cubicBezTo>
                  <a:pt x="693" y="1254"/>
                  <a:pt x="652" y="1302"/>
                  <a:pt x="635" y="1323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48360" y="43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13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40000" y="2060640"/>
            <a:ext cx="2519280" cy="208908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3203640" y="2924280"/>
            <a:ext cx="216000" cy="217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443700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7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195280" y="1989000"/>
            <a:ext cx="2592360" cy="194472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3203640" y="2565000"/>
            <a:ext cx="288720" cy="35892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416320" y="1727280"/>
            <a:ext cx="2382840" cy="2541600"/>
          </a:xfrm>
          <a:custGeom>
            <a:avLst/>
            <a:gdLst/>
            <a:ahLst/>
            <a:rect l="l" t="t" r="r" b="b"/>
            <a:pathLst>
              <a:path w="1501" h="1601">
                <a:moveTo>
                  <a:pt x="653" y="30"/>
                </a:moveTo>
                <a:cubicBezTo>
                  <a:pt x="676" y="28"/>
                  <a:pt x="739" y="15"/>
                  <a:pt x="791" y="21"/>
                </a:cubicBezTo>
                <a:cubicBezTo>
                  <a:pt x="843" y="27"/>
                  <a:pt x="869" y="0"/>
                  <a:pt x="963" y="64"/>
                </a:cubicBezTo>
                <a:cubicBezTo>
                  <a:pt x="1057" y="128"/>
                  <a:pt x="1274" y="270"/>
                  <a:pt x="1358" y="408"/>
                </a:cubicBezTo>
                <a:cubicBezTo>
                  <a:pt x="1442" y="546"/>
                  <a:pt x="1501" y="720"/>
                  <a:pt x="1470" y="889"/>
                </a:cubicBezTo>
                <a:cubicBezTo>
                  <a:pt x="1439" y="1058"/>
                  <a:pt x="1281" y="1307"/>
                  <a:pt x="1169" y="1422"/>
                </a:cubicBezTo>
                <a:cubicBezTo>
                  <a:pt x="1057" y="1537"/>
                  <a:pt x="909" y="1553"/>
                  <a:pt x="799" y="1577"/>
                </a:cubicBezTo>
                <a:cubicBezTo>
                  <a:pt x="689" y="1601"/>
                  <a:pt x="603" y="1590"/>
                  <a:pt x="507" y="1568"/>
                </a:cubicBezTo>
                <a:cubicBezTo>
                  <a:pt x="411" y="1546"/>
                  <a:pt x="307" y="1498"/>
                  <a:pt x="223" y="1448"/>
                </a:cubicBezTo>
                <a:cubicBezTo>
                  <a:pt x="139" y="1398"/>
                  <a:pt x="47" y="1306"/>
                  <a:pt x="0" y="1268"/>
                </a:cubicBezTo>
              </a:path>
            </a:pathLst>
          </a:custGeom>
          <a:noFill/>
          <a:ln w="2232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77080" y="5013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Azimut (235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501336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Manteo (dip) ~50º - 60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nos en la 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116000" y="1341360"/>
            <a:ext cx="5016600" cy="51958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517440" y="630864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Con las primeras llegadas y formas de ond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3887640" cy="31543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2124000" y="4508640"/>
            <a:ext cx="2824200" cy="1158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rcRect l="0" t="0" r="0" b="6337"/>
          <a:stretch/>
        </p:blipFill>
        <p:spPr>
          <a:xfrm>
            <a:off x="5940360" y="1628640"/>
            <a:ext cx="3219480" cy="5257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984000" y="65214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e4e7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77080" y="37893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5e5884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4076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3280" y="5661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59280" y="2349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Invers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0" y="5710320"/>
            <a:ext cx="2689200" cy="11476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771640" y="64911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Con comp. oblícu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636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jes P y 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856120" y="836640"/>
            <a:ext cx="3287880" cy="5187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6553800" y="617220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Stein &amp; Wysess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rcRect l="6968" t="4448" r="2492" b="0"/>
          <a:stretch/>
        </p:blipFill>
        <p:spPr>
          <a:xfrm>
            <a:off x="395280" y="1285920"/>
            <a:ext cx="4211640" cy="557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627280" y="3429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áximo eje compresivo (eje de Pre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1413000"/>
            <a:ext cx="244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99"/>
                </a:solidFill>
                <a:latin typeface="Tahoma"/>
              </a:rPr>
              <a:t>Mínimo eje compresivo (eje de Tens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716360" y="4220640"/>
            <a:ext cx="2735280" cy="2601000"/>
            <a:chOff x="4716360" y="4220640"/>
            <a:chExt cx="2735280" cy="2601000"/>
          </a:xfrm>
        </p:grpSpPr>
        <p:sp>
          <p:nvSpPr>
            <p:cNvPr id="189" name=""/>
            <p:cNvSpPr/>
            <p:nvPr/>
          </p:nvSpPr>
          <p:spPr>
            <a:xfrm>
              <a:off x="4716360" y="645336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arrib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219640" y="4220640"/>
              <a:ext cx="936720" cy="2087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6372360" y="4508640"/>
            <a:ext cx="2735280" cy="2384280"/>
            <a:chOff x="6372360" y="4508640"/>
            <a:chExt cx="2735280" cy="2384280"/>
          </a:xfrm>
        </p:grpSpPr>
        <p:sp>
          <p:nvSpPr>
            <p:cNvPr id="192" name=""/>
            <p:cNvSpPr/>
            <p:nvPr/>
          </p:nvSpPr>
          <p:spPr>
            <a:xfrm>
              <a:off x="6372360" y="6524640"/>
              <a:ext cx="27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99"/>
                  </a:solidFill>
                  <a:latin typeface="Tahoma"/>
                </a:rPr>
                <a:t>Así se ve de costad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8748360" y="4508640"/>
              <a:ext cx="144360" cy="201600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4920" y="-27000"/>
            <a:ext cx="6581880" cy="493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2987640" y="2421000"/>
            <a:ext cx="6153120" cy="441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651640" y="4869000"/>
            <a:ext cx="3363840" cy="19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34920" y="4221000"/>
            <a:ext cx="3859200" cy="2756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34920" y="260280"/>
            <a:ext cx="3768840" cy="2733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5"/>
          <a:stretch/>
        </p:blipFill>
        <p:spPr>
          <a:xfrm>
            <a:off x="3564000" y="260280"/>
            <a:ext cx="6243480" cy="406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3708360" y="6453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de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3141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inver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404640"/>
            <a:ext cx="16556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Falla 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24000" y="26028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Fabricando mecanismos foc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9640" y="1916280"/>
            <a:ext cx="770436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azimut de la primera llegada (Az -180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Llevar el azimut al Este u Oes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el ángulo de salida (ain – 90º) en la línea de mant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Marcar la llegada según Compresión ó 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Volver el Norte al Nor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Ídem con todas las es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plano nodal que mejor separe compresiones de dilat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Buscar a 90º del mismo, su plano auxiliar (ortog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ffffff"/>
                </a:solidFill>
                <a:latin typeface="Tahoma"/>
              </a:rPr>
              <a:t>Una vez ubicado el plano de falla, marcar a 45º los eje P y T donde correspo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7264440" y="3500280"/>
            <a:ext cx="18795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rcRect l="0" t="8275" r="0" b="0"/>
          <a:stretch/>
        </p:blipFill>
        <p:spPr>
          <a:xfrm>
            <a:off x="1828800" y="1889280"/>
            <a:ext cx="5791320" cy="3368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7200" y="152280"/>
            <a:ext cx="8153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Representación plana de una falla mediante parámetros</a:t>
            </a:r>
            <a:r>
              <a:rPr b="1" lang="en-US" sz="1800" spc="-1" strike="noStrike">
                <a:solidFill>
                  <a:srgbClr val="ffff99"/>
                </a:solidFill>
                <a:latin typeface="Tahoma"/>
                <a:ea typeface="ＭＳ Ｐゴシック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Tres ángulo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trike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Tahoma"/>
                <a:ea typeface="ＭＳ Ｐゴシック"/>
              </a:rPr>
              <a:t>f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d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slip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, 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Dos vectores unitarios ortogonales: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normal 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 y  </a:t>
            </a:r>
            <a:r>
              <a:rPr b="1" i="1" lang="en-US" sz="1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slip vector 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286240"/>
            <a:ext cx="8001000" cy="164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ordinate axes chosen with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vertical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oriented along the fault in the plane of the earth's surface, such that the fault dip angle,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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asured from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-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, is &lt; 90°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lip angle </a:t>
            </a:r>
            <a:r>
              <a:rPr b="1" lang="en-US" sz="1800" spc="-1" strike="noStrike">
                <a:solidFill>
                  <a:srgbClr val="ffcc00"/>
                </a:solidFill>
                <a:latin typeface="Symbol"/>
                <a:ea typeface="Symbol"/>
              </a:rPr>
              <a:t>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measured between the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x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axis and 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the fault plan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ffcc00"/>
                </a:solidFill>
                <a:latin typeface="Arial"/>
                <a:ea typeface="ＭＳ Ｐゴシック"/>
              </a:rPr>
              <a:t>f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is the strike of the fault measured clockwise from nor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172360" y="6400800"/>
            <a:ext cx="97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51640" y="4724280"/>
            <a:ext cx="190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namori and Cipar, 1974  S&amp;W 4.2-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843280" y="3212640"/>
            <a:ext cx="936720" cy="360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48000" y="3212640"/>
            <a:ext cx="432000" cy="792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51280" y="2421000"/>
            <a:ext cx="3241800" cy="79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780000" y="3213000"/>
            <a:ext cx="180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4149720"/>
            <a:ext cx="1800000" cy="0"/>
          </a:xfrm>
          <a:prstGeom prst="line">
            <a:avLst/>
          </a:prstGeom>
          <a:ln cap="rnd" w="255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276720" y="3645000"/>
            <a:ext cx="1582560" cy="5047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3733920" cy="3376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209680"/>
            <a:ext cx="4279680" cy="2451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036520" y="525780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937200" y="46483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56000" y="19162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0036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292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mpre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060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Dilat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De las primeras lle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rcRect l="1665" t="9007" r="8333" b="1716"/>
          <a:stretch/>
        </p:blipFill>
        <p:spPr>
          <a:xfrm>
            <a:off x="533520" y="1828800"/>
            <a:ext cx="8110440" cy="392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" y="309564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45240" y="2514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Tiene relación con el patrón de radiación de ondas 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5689800" cy="42685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580000" y="3213000"/>
            <a:ext cx="3048120" cy="13273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7164360" y="5084640"/>
            <a:ext cx="1473120" cy="1148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7164360" y="1700280"/>
            <a:ext cx="1473120" cy="1057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885080" y="3357720"/>
            <a:ext cx="0" cy="115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7235640" y="3933720"/>
            <a:ext cx="1150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4720" y="3789360"/>
            <a:ext cx="43200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156000" y="4005360"/>
            <a:ext cx="431640" cy="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516720" y="371592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00720" y="3715560"/>
            <a:ext cx="0" cy="36036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En la esfera foc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09480" y="2590920"/>
            <a:ext cx="2276640" cy="2257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708360" y="2479680"/>
            <a:ext cx="524520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0960" y="4876920"/>
            <a:ext cx="207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Robert L. Now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5400" y="4800600"/>
            <a:ext cx="176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e Lay &amp; Walla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989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Esfera fo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5516640"/>
            <a:ext cx="28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Semi Esfera inferi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042920" y="4149720"/>
            <a:ext cx="360360" cy="1511280"/>
          </a:xfrm>
          <a:prstGeom prst="line">
            <a:avLst/>
          </a:prstGeom>
          <a:ln w="25560">
            <a:solidFill>
              <a:srgbClr val="ff0000"/>
            </a:solidFill>
            <a:prstDash val="lg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64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99"/>
                </a:solidFill>
                <a:latin typeface="Tahoma"/>
              </a:rPr>
              <a:t>Azimut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537372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Ángulo de salid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16360" y="3141720"/>
            <a:ext cx="576360" cy="79200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4189800">
            <a:off x="4858920" y="2852640"/>
            <a:ext cx="576360" cy="792360"/>
          </a:xfrm>
          <a:prstGeom prst="ellipse">
            <a:avLst/>
          </a:prstGeom>
          <a:solidFill>
            <a:srgbClr val="ffffcc">
              <a:alpha val="15000"/>
            </a:srgbClr>
          </a:solidFill>
          <a:ln cap="rnd" w="1260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Angulo de salid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7950" r="0" b="0"/>
          <a:stretch/>
        </p:blipFill>
        <p:spPr>
          <a:xfrm>
            <a:off x="380880" y="1905120"/>
            <a:ext cx="8305920" cy="4813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5334120" y="4616280"/>
            <a:ext cx="3124080" cy="1403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867280" y="4327560"/>
            <a:ext cx="26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arámetro del ray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571500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nstante en el rayo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3429000"/>
            <a:ext cx="723960" cy="763560"/>
          </a:xfrm>
          <a:custGeom>
            <a:avLst/>
            <a:gdLst/>
            <a:ahLst/>
            <a:rect l="l" t="t" r="r" b="b"/>
            <a:pathLst>
              <a:path w="456" h="481">
                <a:moveTo>
                  <a:pt x="363" y="0"/>
                </a:moveTo>
                <a:cubicBezTo>
                  <a:pt x="372" y="16"/>
                  <a:pt x="402" y="56"/>
                  <a:pt x="417" y="94"/>
                </a:cubicBezTo>
                <a:cubicBezTo>
                  <a:pt x="432" y="132"/>
                  <a:pt x="452" y="188"/>
                  <a:pt x="454" y="227"/>
                </a:cubicBezTo>
                <a:cubicBezTo>
                  <a:pt x="456" y="266"/>
                  <a:pt x="443" y="304"/>
                  <a:pt x="432" y="329"/>
                </a:cubicBezTo>
                <a:cubicBezTo>
                  <a:pt x="421" y="354"/>
                  <a:pt x="406" y="358"/>
                  <a:pt x="387" y="379"/>
                </a:cubicBezTo>
                <a:cubicBezTo>
                  <a:pt x="368" y="400"/>
                  <a:pt x="357" y="437"/>
                  <a:pt x="318" y="454"/>
                </a:cubicBezTo>
                <a:cubicBezTo>
                  <a:pt x="279" y="471"/>
                  <a:pt x="204" y="481"/>
                  <a:pt x="156" y="480"/>
                </a:cubicBezTo>
                <a:cubicBezTo>
                  <a:pt x="108" y="479"/>
                  <a:pt x="57" y="462"/>
                  <a:pt x="31" y="450"/>
                </a:cubicBezTo>
                <a:cubicBezTo>
                  <a:pt x="5" y="438"/>
                  <a:pt x="6" y="417"/>
                  <a:pt x="0" y="408"/>
                </a:cubicBezTo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mph" presetID="35" repeatCount="5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rcRect l="0" t="5582" r="0" b="2441"/>
          <a:stretch/>
        </p:blipFill>
        <p:spPr>
          <a:xfrm>
            <a:off x="1447920" y="784080"/>
            <a:ext cx="6553080" cy="5845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d de Schmid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89932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in &amp; Wysession,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659640" y="630864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ahoma"/>
              </a:rPr>
              <a:t>Conserva áre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780000" y="1989000"/>
            <a:ext cx="493848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2" name=""/>
          <p:cNvSpPr/>
          <p:nvPr/>
        </p:nvSpPr>
        <p:spPr>
          <a:xfrm>
            <a:off x="755640" y="260280"/>
            <a:ext cx="748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rientación plano de fal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413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or convención, el manteo del plano de falla se mide hacia la derecha del rumb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724360" y="5877000"/>
            <a:ext cx="2959200" cy="70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250920" y="4869000"/>
            <a:ext cx="5478480" cy="92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22:32:44Z</dcterms:created>
  <dc:creator>Cindy</dc:creator>
  <dc:description/>
  <dc:language>en-US</dc:language>
  <cp:lastModifiedBy>Cindy</cp:lastModifiedBy>
  <dcterms:modified xsi:type="dcterms:W3CDTF">2007-10-18T01:57:13Z</dcterms:modified>
  <cp:revision>8</cp:revision>
  <dc:subject/>
  <dc:title>GF40A  Sismología I</dc:title>
</cp:coreProperties>
</file>