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4CA-0A14-4CB4-895C-FB77EE50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4AD-9D19-4065-A004-3519F63E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EDE-5836-401F-84E9-E875C8AB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AC5-23D3-4B16-846F-751AEBC5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DA4-99DD-4F33-9069-5A086AD7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841-D629-49D3-A7F8-35DE9260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508-61A9-4498-AE8D-74E783D8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98D-C2D3-4B83-B37D-58C13C9B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A73-B83E-4092-BBD3-804A79C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017-2303-4DA6-ACE7-FD77E27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3C6-755E-47D3-9DF1-8CBF78E5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27A-C41D-437F-B77B-2FEAD662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010A-3229-4641-8698-05DDFE69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physics.ius.edu/~kyle/physlets/thermo/Otto.html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-wz.de/vmotor/dieselms.html" TargetMode="External"/><Relationship Id="rId2" Type="http://schemas.openxmlformats.org/officeDocument/2006/relationships/hyperlink" Target="http://www.k-wz.de/vmotor/dieselms.html" TargetMode="External"/><Relationship Id="rId3" Type="http://schemas.openxmlformats.org/officeDocument/2006/relationships/hyperlink" Target="http://www.k-wz.de/vmotor/dieselms.html" TargetMode="External"/><Relationship Id="rId4" Type="http://schemas.openxmlformats.org/officeDocument/2006/relationships/hyperlink" Target="http://www.k-wz.de/vmotor/dieselms.html" TargetMode="External"/><Relationship Id="rId5" Type="http://schemas.openxmlformats.org/officeDocument/2006/relationships/hyperlink" Target="http://www.k-wz.de/vmotor/dieselms.html" TargetMode="External"/><Relationship Id="rId6" Type="http://schemas.openxmlformats.org/officeDocument/2006/relationships/hyperlink" Target="http://www.k-wz.de/vmotor/dieselms.html" TargetMode="External"/><Relationship Id="rId7" Type="http://schemas.openxmlformats.org/officeDocument/2006/relationships/hyperlink" Target="http://www.k-wz.de/vmotor/dieselms.html" TargetMode="External"/><Relationship Id="rId8" Type="http://schemas.openxmlformats.org/officeDocument/2006/relationships/hyperlink" Target="http://www.k-wz.de/vmotor/dieselms.html" TargetMode="External"/><Relationship Id="rId9" Type="http://schemas.openxmlformats.org/officeDocument/2006/relationships/hyperlink" Target="http://www.k-wz.de/vmotor/dieselms.html" TargetMode="External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or de Explo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-&gt;Inyección: Ingresa al cilindro mezcla de combustible y combu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&gt;Compresión: La mezcla se comprime adiabáticamente con aumento de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-&gt;Ignición-Explosión: La mezcla se enciende, siguiendo la rápida combustión (explosión) con gran aumento de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-&gt;Expansión: El gas a presión impulsa el pistón durante una expansión adiab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94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671640" cy="330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3"/>
          </p:cNvPr>
          <p:cNvSpPr/>
          <p:nvPr/>
        </p:nvSpPr>
        <p:spPr>
          <a:xfrm>
            <a:off x="1334160" y="522936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physics.ius.edu/~kyle/physlets/thermo/Ot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24000" cy="272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216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9440" y="1628640"/>
            <a:ext cx="1552680" cy="4762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142160" y="2349360"/>
            <a:ext cx="4379400" cy="390600"/>
            <a:chOff x="4142160" y="2349360"/>
            <a:chExt cx="4379400" cy="390600"/>
          </a:xfrm>
        </p:grpSpPr>
        <p:sp>
          <p:nvSpPr>
            <p:cNvPr id="52" name=""/>
            <p:cNvSpPr/>
            <p:nvPr/>
          </p:nvSpPr>
          <p:spPr>
            <a:xfrm>
              <a:off x="414216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788000" y="2349360"/>
              <a:ext cx="373356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4142160" y="2852640"/>
            <a:ext cx="2464920" cy="428760"/>
            <a:chOff x="4142160" y="2852640"/>
            <a:chExt cx="2464920" cy="42876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4788000" y="2852640"/>
              <a:ext cx="181908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14216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788000" y="3357720"/>
            <a:ext cx="2238120" cy="5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40360" y="3429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29080" y="4221000"/>
            <a:ext cx="6695640" cy="584280"/>
            <a:chOff x="829080" y="4221000"/>
            <a:chExt cx="6695640" cy="584280"/>
          </a:xfrm>
        </p:grpSpPr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1258920" y="4221000"/>
              <a:ext cx="62658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29080" y="429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10000" y="4941720"/>
            <a:ext cx="3401640" cy="814680"/>
            <a:chOff x="810000" y="4941720"/>
            <a:chExt cx="3401640" cy="81468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1258920" y="4941720"/>
              <a:ext cx="295272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10000" y="503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36920" y="5877000"/>
            <a:ext cx="6140160" cy="731880"/>
            <a:chOff x="736920" y="5877000"/>
            <a:chExt cx="6140160" cy="731880"/>
          </a:xfrm>
        </p:grpSpPr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1258920" y="5877000"/>
              <a:ext cx="4608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36920" y="58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5867280" y="5877000"/>
              <a:ext cx="100980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024000" cy="2720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7800" y="1700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Ento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08720" y="1628640"/>
            <a:ext cx="2238120" cy="1009800"/>
            <a:chOff x="5508720" y="1628640"/>
            <a:chExt cx="2238120" cy="100980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5508720" y="1628640"/>
              <a:ext cx="22381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5508720" y="2133720"/>
              <a:ext cx="155232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4050360" y="28735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9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48360" y="2852640"/>
            <a:ext cx="1871640" cy="555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53240" y="3592440"/>
            <a:ext cx="43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El rendimiento se expresa en fun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 razón de compre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451640" y="4005360"/>
            <a:ext cx="1081080" cy="36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53440" y="465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427640" y="4653000"/>
            <a:ext cx="4716360" cy="59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4427640" y="5229360"/>
            <a:ext cx="187308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39120" cy="2840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56000" y="5011560"/>
                <a:ext cx="37209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t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rno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to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rno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 tiemp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aspirac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ire puro entra en el cilindro por el movimiento retrocediente del pist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 tiemp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compres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istón comprime el aire muy fuerte y éste alcanza una temperatura muy elev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 tiempo (Carrera de trabajo-Expans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inyecta el gasoil, y éste se enciende inmediatamente por causa de la alt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. tiempo (carrera de escap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istón empuja los gases de combustión hacia el tubo de escap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-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z.de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vmotor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iesel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5003640" y="1557360"/>
            <a:ext cx="32958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350040" y="2495520"/>
                <a:ext cx="635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202200" cy="345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1296720" cy="700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80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71640" y="2276640"/>
            <a:ext cx="1511280" cy="695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349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2160" y="4097160"/>
            <a:ext cx="4407120" cy="371520"/>
            <a:chOff x="452160" y="4097160"/>
            <a:chExt cx="4407120" cy="371520"/>
          </a:xfrm>
        </p:grpSpPr>
        <p:sp>
          <p:nvSpPr>
            <p:cNvPr id="99" name=""/>
            <p:cNvSpPr/>
            <p:nvPr/>
          </p:nvSpPr>
          <p:spPr>
            <a:xfrm>
              <a:off x="452160" y="4097160"/>
              <a:ext cx="31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  Usando la ley de gas ide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635280" y="4149720"/>
                  <a:ext cx="122400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nR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736560" y="4456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58920" y="4437000"/>
                <a:ext cx="68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3800" y="49417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mpl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3089160"/>
            <a:ext cx="9144000" cy="798480"/>
            <a:chOff x="0" y="3089160"/>
            <a:chExt cx="9144000" cy="798480"/>
          </a:xfrm>
        </p:grpSpPr>
        <p:sp>
          <p:nvSpPr>
            <p:cNvPr id="107" name=""/>
            <p:cNvSpPr/>
            <p:nvPr/>
          </p:nvSpPr>
          <p:spPr>
            <a:xfrm>
              <a:off x="520920" y="308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971640" y="3141720"/>
              <a:ext cx="165564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3338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95640" y="4941720"/>
            <a:ext cx="4176720" cy="570240"/>
            <a:chOff x="2195640" y="4941720"/>
            <a:chExt cx="4176720" cy="5702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203640" y="4941720"/>
                  <a:ext cx="86364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195640" y="4941720"/>
                  <a:ext cx="86364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4284720" y="4941720"/>
                  <a:ext cx="8636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435640" y="4941720"/>
                  <a:ext cx="93672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667080" y="5753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d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195640" y="5734080"/>
            <a:ext cx="1944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547640" y="1484280"/>
                <a:ext cx="324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94000" y="15048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Com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1944720" cy="78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1944720" cy="70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27280" y="220500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979960" y="1197000"/>
            <a:ext cx="2802240" cy="302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6320" y="3376440"/>
            <a:ext cx="54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 Dividiendo el numerador por Pc y el denomin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V1 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1876680" cy="981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5440" y="4889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a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95640" y="4869000"/>
                <a:ext cx="1861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y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801880" cy="30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1640" y="1504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 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692360" y="1557360"/>
                <a:ext cx="1041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20952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4520" y="2297160"/>
            <a:ext cx="36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El rendimiento del ciclo diesel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1762200" cy="933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2005200" cy="86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43280" y="350028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6:01:11Z</dcterms:created>
  <dc:creator>dimec</dc:creator>
  <dc:description/>
  <dc:language>en-US</dc:language>
  <cp:lastModifiedBy>dimec</cp:lastModifiedBy>
  <dcterms:modified xsi:type="dcterms:W3CDTF">2007-09-07T17:55:45Z</dcterms:modified>
  <cp:revision>15</cp:revision>
  <dc:subject/>
  <dc:title>Motor de Explosión</dc:title>
</cp:coreProperties>
</file>