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73C-BC99-4BEF-AC87-0F004B57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DD3-87A5-4C88-BF0C-39C99A47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B1E-D5E0-40B3-8C9D-09F3AA85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1C5-38C1-4D68-85A8-4D400210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4A1-3543-4A99-A3B0-7C92DB1A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8379-9698-404B-A1B0-EF07D08C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365-24D5-4FC6-9439-772D9304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33C-555C-4EDE-B913-F07B7E1F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4A0-01F7-4E41-ADC5-FF80AECD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9DF-87C6-407E-9354-5B258437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507-8FFC-4CB8-99BD-60C11119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F54-9EE5-4890-AF03-D17C1054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E6B1-7D54-444A-956A-92254C717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physics.ius.edu/~kyle/physlets/thermo/Otto.html" TargetMode="Externa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-wz.de/vmotor/dieselms.html" TargetMode="External"/><Relationship Id="rId2" Type="http://schemas.openxmlformats.org/officeDocument/2006/relationships/hyperlink" Target="http://www.k-wz.de/vmotor/dieselms.html" TargetMode="External"/><Relationship Id="rId3" Type="http://schemas.openxmlformats.org/officeDocument/2006/relationships/hyperlink" Target="http://www.k-wz.de/vmotor/dieselms.html" TargetMode="External"/><Relationship Id="rId4" Type="http://schemas.openxmlformats.org/officeDocument/2006/relationships/hyperlink" Target="http://www.k-wz.de/vmotor/dieselms.html" TargetMode="External"/><Relationship Id="rId5" Type="http://schemas.openxmlformats.org/officeDocument/2006/relationships/hyperlink" Target="http://www.k-wz.de/vmotor/dieselms.html" TargetMode="External"/><Relationship Id="rId6" Type="http://schemas.openxmlformats.org/officeDocument/2006/relationships/hyperlink" Target="http://www.k-wz.de/vmotor/dieselms.html" TargetMode="External"/><Relationship Id="rId7" Type="http://schemas.openxmlformats.org/officeDocument/2006/relationships/hyperlink" Target="http://www.k-wz.de/vmotor/dieselms.html" TargetMode="External"/><Relationship Id="rId8" Type="http://schemas.openxmlformats.org/officeDocument/2006/relationships/hyperlink" Target="http://www.k-wz.de/vmotor/dieselms.html" TargetMode="External"/><Relationship Id="rId9" Type="http://schemas.openxmlformats.org/officeDocument/2006/relationships/hyperlink" Target="http://www.k-wz.de/vmotor/dieselms.html" TargetMode="External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17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tor de Explo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-&gt;Inyección: Ingresa al cilindro mezcla de combustible y combur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-&gt;Compresión: La mezcla se comprime adiabáticamente con aumento de 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-&gt;Ignición-Explosión: La mezcla se enciende, siguiendo la rápida combustión (explosión) con gran aumento de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-&gt;Expansión: El gas a presión impulsa el pistón durante una expansión adiab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94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clo 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671640" cy="330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517920" cy="263844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rId3"/>
          </p:cNvPr>
          <p:cNvSpPr/>
          <p:nvPr/>
        </p:nvSpPr>
        <p:spPr>
          <a:xfrm>
            <a:off x="1334160" y="5229360"/>
            <a:ext cx="55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physics.ius.edu/~kyle/physlets/thermo/Ott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024000" cy="272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4216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89440" y="1628640"/>
            <a:ext cx="1552680" cy="4762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4142160" y="2349360"/>
            <a:ext cx="4379400" cy="390600"/>
            <a:chOff x="4142160" y="2349360"/>
            <a:chExt cx="4379400" cy="390600"/>
          </a:xfrm>
        </p:grpSpPr>
        <p:sp>
          <p:nvSpPr>
            <p:cNvPr id="52" name=""/>
            <p:cNvSpPr/>
            <p:nvPr/>
          </p:nvSpPr>
          <p:spPr>
            <a:xfrm>
              <a:off x="4142160" y="234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4788000" y="2349360"/>
              <a:ext cx="373356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4142160" y="2852640"/>
            <a:ext cx="2464920" cy="428760"/>
            <a:chOff x="4142160" y="2852640"/>
            <a:chExt cx="2464920" cy="42876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4788000" y="2852640"/>
              <a:ext cx="181908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14216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788000" y="3357720"/>
            <a:ext cx="2238120" cy="561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40360" y="3429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29080" y="4221000"/>
            <a:ext cx="6695640" cy="584280"/>
            <a:chOff x="829080" y="4221000"/>
            <a:chExt cx="6695640" cy="584280"/>
          </a:xfrm>
        </p:grpSpPr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1258920" y="4221000"/>
              <a:ext cx="626580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29080" y="429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810000" y="4941720"/>
            <a:ext cx="3401640" cy="814680"/>
            <a:chOff x="810000" y="4941720"/>
            <a:chExt cx="3401640" cy="814680"/>
          </a:xfrm>
        </p:grpSpPr>
        <p:pic>
          <p:nvPicPr>
            <p:cNvPr id="63" name="" descr=""/>
            <p:cNvPicPr/>
            <p:nvPr/>
          </p:nvPicPr>
          <p:blipFill>
            <a:blip r:embed="rId7"/>
            <a:stretch/>
          </p:blipFill>
          <p:spPr>
            <a:xfrm>
              <a:off x="1258920" y="4941720"/>
              <a:ext cx="2952720" cy="8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10000" y="503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36920" y="5877000"/>
            <a:ext cx="6140160" cy="731880"/>
            <a:chOff x="736920" y="5877000"/>
            <a:chExt cx="6140160" cy="731880"/>
          </a:xfrm>
        </p:grpSpPr>
        <p:pic>
          <p:nvPicPr>
            <p:cNvPr id="66" name="" descr=""/>
            <p:cNvPicPr/>
            <p:nvPr/>
          </p:nvPicPr>
          <p:blipFill>
            <a:blip r:embed="rId8"/>
            <a:stretch/>
          </p:blipFill>
          <p:spPr>
            <a:xfrm>
              <a:off x="1258920" y="5877000"/>
              <a:ext cx="46083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36920" y="5897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5867280" y="5877000"/>
              <a:ext cx="1009800" cy="73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3024000" cy="2720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97800" y="1700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8 Ento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508720" y="1628640"/>
            <a:ext cx="2238120" cy="1009800"/>
            <a:chOff x="5508720" y="1628640"/>
            <a:chExt cx="2238120" cy="100980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5508720" y="1628640"/>
              <a:ext cx="223812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5508720" y="2133720"/>
              <a:ext cx="155232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4050360" y="287352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9 Co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148360" y="2852640"/>
            <a:ext cx="1871640" cy="555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53240" y="3592440"/>
            <a:ext cx="43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0 El rendimiento se expresa en fun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a razón de compre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451640" y="4005360"/>
            <a:ext cx="1081080" cy="365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53440" y="465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427640" y="4653000"/>
            <a:ext cx="4716360" cy="59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4427640" y="5229360"/>
            <a:ext cx="187308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clo 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639120" cy="2840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556000" y="5011560"/>
                <a:ext cx="37209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t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rno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to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rno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. tiempo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aspiració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ire puro entra en el cilindro por el movimiento retrocediente del pist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. tiempo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compresió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istón comprime el aire muy fuerte y éste alcanza una temperatura muy elev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. tiempo (Carrera de trabajo-Expansió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inyecta el gasoil, y éste se enciende inmediatamente por causa de la alta temp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. tiempo (carrera de escap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istón empuja los gases de combustión hacia el tubo de escap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k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-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z.de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vmotor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iesel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5003640" y="1557360"/>
            <a:ext cx="32958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350040" y="2495520"/>
                <a:ext cx="635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3202200" cy="345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1296720" cy="700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180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71640" y="2276640"/>
            <a:ext cx="1511280" cy="695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23493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52160" y="4097160"/>
            <a:ext cx="4407120" cy="371520"/>
            <a:chOff x="452160" y="4097160"/>
            <a:chExt cx="4407120" cy="371520"/>
          </a:xfrm>
        </p:grpSpPr>
        <p:sp>
          <p:nvSpPr>
            <p:cNvPr id="99" name=""/>
            <p:cNvSpPr/>
            <p:nvPr/>
          </p:nvSpPr>
          <p:spPr>
            <a:xfrm>
              <a:off x="452160" y="4097160"/>
              <a:ext cx="31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4  Usando la ley de gas ide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635280" y="4149720"/>
                  <a:ext cx="122400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nR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736560" y="4456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58920" y="4437000"/>
                <a:ext cx="684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3800" y="494172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rempla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3089160"/>
            <a:ext cx="9144000" cy="798480"/>
            <a:chOff x="0" y="3089160"/>
            <a:chExt cx="9144000" cy="798480"/>
          </a:xfrm>
        </p:grpSpPr>
        <p:sp>
          <p:nvSpPr>
            <p:cNvPr id="107" name=""/>
            <p:cNvSpPr/>
            <p:nvPr/>
          </p:nvSpPr>
          <p:spPr>
            <a:xfrm>
              <a:off x="520920" y="308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971640" y="3141720"/>
              <a:ext cx="165564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0" y="3338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195640" y="4941720"/>
            <a:ext cx="4176720" cy="570240"/>
            <a:chOff x="2195640" y="4941720"/>
            <a:chExt cx="4176720" cy="5702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203640" y="4941720"/>
                  <a:ext cx="86364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2195640" y="4941720"/>
                  <a:ext cx="86364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4284720" y="4941720"/>
                  <a:ext cx="86364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5435640" y="4941720"/>
                  <a:ext cx="93672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667080" y="5753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d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195640" y="5734080"/>
            <a:ext cx="1944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547640" y="1484280"/>
                <a:ext cx="324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94000" y="15048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 Com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1944720" cy="784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1944720" cy="704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627280" y="2205000"/>
            <a:ext cx="792360" cy="216000"/>
          </a:xfrm>
          <a:prstGeom prst="rightArrow">
            <a:avLst>
              <a:gd name="adj1" fmla="val 50000"/>
              <a:gd name="adj2" fmla="val 917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979960" y="1197000"/>
            <a:ext cx="2802240" cy="3024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26320" y="3376440"/>
            <a:ext cx="54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6 Dividiendo el numerador por Pc y el denomin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V1 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1876680" cy="981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95440" y="48895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sand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95640" y="4869000"/>
                <a:ext cx="1861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y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801880" cy="3024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1640" y="15048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 Us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692360" y="1557360"/>
                <a:ext cx="1041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59280" y="1484280"/>
            <a:ext cx="209520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4520" y="2297160"/>
            <a:ext cx="36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8 El rendimiento del ciclo diesel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1762200" cy="933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708360" y="3141720"/>
            <a:ext cx="2005200" cy="861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43280" y="350028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6:01:11Z</dcterms:created>
  <dc:creator>dimec</dc:creator>
  <dc:description/>
  <dc:language>en-US</dc:language>
  <cp:lastModifiedBy>dimec</cp:lastModifiedBy>
  <dcterms:modified xsi:type="dcterms:W3CDTF">2007-09-07T17:55:45Z</dcterms:modified>
  <cp:revision>15</cp:revision>
  <dc:subject/>
  <dc:title>Motor de Explosión</dc:title>
</cp:coreProperties>
</file>