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948488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7E019-A6DE-4A04-937F-CD99ADAFC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0E684-F18B-4513-B8B4-BDA0FE1A1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45FF1-8135-4EEB-82BC-533850C51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DA7DC-AA48-43AA-87D4-606FE53CB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819C6-F666-40F4-9FD8-1B6AD2F5A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5A386-C6A2-4EBF-8CF4-90AB0F738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F1B37-3900-4514-A935-28FEDBE2D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93735-06B2-4D2A-A6DE-0948C3010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8753A-90A5-4C40-AA7F-B7A930532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B6947-2553-4E43-8EAC-B8E2707E9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ABE56-C6B9-4257-A120-ADCF8A5E0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C4789-ACC6-4BD4-A49F-7FDB245D8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90FEE-E88E-44FB-9D49-09D80AC731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hyperlink" Target="http://physics.ius.edu/~kyle/physlets/thermo/Otto.html" TargetMode="External"/><Relationship Id="rId4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k-wz.de/vmotor/dieselms.html" TargetMode="External"/><Relationship Id="rId2" Type="http://schemas.openxmlformats.org/officeDocument/2006/relationships/hyperlink" Target="http://www.k-wz.de/vmotor/dieselms.html" TargetMode="External"/><Relationship Id="rId3" Type="http://schemas.openxmlformats.org/officeDocument/2006/relationships/hyperlink" Target="http://www.k-wz.de/vmotor/dieselms.html" TargetMode="External"/><Relationship Id="rId4" Type="http://schemas.openxmlformats.org/officeDocument/2006/relationships/hyperlink" Target="http://www.k-wz.de/vmotor/dieselms.html" TargetMode="External"/><Relationship Id="rId5" Type="http://schemas.openxmlformats.org/officeDocument/2006/relationships/hyperlink" Target="http://www.k-wz.de/vmotor/dieselms.html" TargetMode="External"/><Relationship Id="rId6" Type="http://schemas.openxmlformats.org/officeDocument/2006/relationships/hyperlink" Target="http://www.k-wz.de/vmotor/dieselms.html" TargetMode="External"/><Relationship Id="rId7" Type="http://schemas.openxmlformats.org/officeDocument/2006/relationships/hyperlink" Target="http://www.k-wz.de/vmotor/dieselms.html" TargetMode="External"/><Relationship Id="rId8" Type="http://schemas.openxmlformats.org/officeDocument/2006/relationships/hyperlink" Target="http://www.k-wz.de/vmotor/dieselms.html" TargetMode="External"/><Relationship Id="rId9" Type="http://schemas.openxmlformats.org/officeDocument/2006/relationships/hyperlink" Target="http://www.k-wz.de/vmotor/dieselms.html" TargetMode="External"/><Relationship Id="rId10" Type="http://schemas.openxmlformats.org/officeDocument/2006/relationships/image" Target="../media/image17.png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1.png"/><Relationship Id="rId3" Type="http://schemas.openxmlformats.org/officeDocument/2006/relationships/image" Target="../media/image17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Motor de Explos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1-&gt;Inyección: Ingresa al cilindro mezcla de combustible y comburen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2-&gt;Compresión: La mezcla se comprime adiabáticamente con aumento de Temperatu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3-&gt;Ignición-Explosión: La mezcla se enciende, siguiendo la rápida combustión (explosión) con gran aumento de pres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4-&gt;Expansión: El gas a presión impulsa el pistón durante una expansión adiabát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iclo Dies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971640" y="1341360"/>
            <a:ext cx="7094520" cy="29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iclo ot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84360" y="1484280"/>
            <a:ext cx="3671640" cy="33037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4788000" y="1773360"/>
            <a:ext cx="3517920" cy="2638440"/>
          </a:xfrm>
          <a:prstGeom prst="rect">
            <a:avLst/>
          </a:prstGeom>
          <a:ln w="0">
            <a:noFill/>
          </a:ln>
        </p:spPr>
      </p:pic>
      <p:sp>
        <p:nvSpPr>
          <p:cNvPr id="46" name="">
            <a:hlinkClick r:id="rId3"/>
          </p:cNvPr>
          <p:cNvSpPr/>
          <p:nvPr/>
        </p:nvSpPr>
        <p:spPr>
          <a:xfrm>
            <a:off x="1334160" y="5229360"/>
            <a:ext cx="558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http://physics.ius.edu/~kyle/physlets/thermo/Otto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Rendimiento Ciclo Ot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0920" y="1268280"/>
            <a:ext cx="3024000" cy="27212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142160" y="1700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4789440" y="1628640"/>
            <a:ext cx="1552680" cy="47628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4142160" y="2349360"/>
            <a:ext cx="4379400" cy="390600"/>
            <a:chOff x="4142160" y="2349360"/>
            <a:chExt cx="4379400" cy="390600"/>
          </a:xfrm>
        </p:grpSpPr>
        <p:sp>
          <p:nvSpPr>
            <p:cNvPr id="52" name=""/>
            <p:cNvSpPr/>
            <p:nvPr/>
          </p:nvSpPr>
          <p:spPr>
            <a:xfrm>
              <a:off x="4142160" y="23493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" name="" descr=""/>
            <p:cNvPicPr/>
            <p:nvPr/>
          </p:nvPicPr>
          <p:blipFill>
            <a:blip r:embed="rId3"/>
            <a:stretch/>
          </p:blipFill>
          <p:spPr>
            <a:xfrm>
              <a:off x="4788000" y="2349360"/>
              <a:ext cx="3733560" cy="390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"/>
          <p:cNvGrpSpPr/>
          <p:nvPr/>
        </p:nvGrpSpPr>
        <p:grpSpPr>
          <a:xfrm>
            <a:off x="4142160" y="2852640"/>
            <a:ext cx="2464920" cy="428760"/>
            <a:chOff x="4142160" y="2852640"/>
            <a:chExt cx="2464920" cy="428760"/>
          </a:xfrm>
        </p:grpSpPr>
        <p:pic>
          <p:nvPicPr>
            <p:cNvPr id="55" name="" descr=""/>
            <p:cNvPicPr/>
            <p:nvPr/>
          </p:nvPicPr>
          <p:blipFill>
            <a:blip r:embed="rId4"/>
            <a:stretch/>
          </p:blipFill>
          <p:spPr>
            <a:xfrm>
              <a:off x="4788000" y="2852640"/>
              <a:ext cx="1819080" cy="42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4142160" y="28526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7" name="" descr=""/>
          <p:cNvPicPr/>
          <p:nvPr/>
        </p:nvPicPr>
        <p:blipFill>
          <a:blip r:embed="rId5"/>
          <a:stretch/>
        </p:blipFill>
        <p:spPr>
          <a:xfrm>
            <a:off x="4788000" y="3357720"/>
            <a:ext cx="2238120" cy="56196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4140360" y="342900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829080" y="4221000"/>
            <a:ext cx="6695640" cy="584280"/>
            <a:chOff x="829080" y="4221000"/>
            <a:chExt cx="6695640" cy="584280"/>
          </a:xfrm>
        </p:grpSpPr>
        <p:pic>
          <p:nvPicPr>
            <p:cNvPr id="60" name="" descr=""/>
            <p:cNvPicPr/>
            <p:nvPr/>
          </p:nvPicPr>
          <p:blipFill>
            <a:blip r:embed="rId6"/>
            <a:stretch/>
          </p:blipFill>
          <p:spPr>
            <a:xfrm>
              <a:off x="1258920" y="4221000"/>
              <a:ext cx="6265800" cy="58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829080" y="42926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810000" y="4941720"/>
            <a:ext cx="3401640" cy="814680"/>
            <a:chOff x="810000" y="4941720"/>
            <a:chExt cx="3401640" cy="814680"/>
          </a:xfrm>
        </p:grpSpPr>
        <p:pic>
          <p:nvPicPr>
            <p:cNvPr id="63" name="" descr=""/>
            <p:cNvPicPr/>
            <p:nvPr/>
          </p:nvPicPr>
          <p:blipFill>
            <a:blip r:embed="rId7"/>
            <a:stretch/>
          </p:blipFill>
          <p:spPr>
            <a:xfrm>
              <a:off x="1258920" y="4941720"/>
              <a:ext cx="2952720" cy="81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>
              <a:off x="810000" y="503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736920" y="5877000"/>
            <a:ext cx="6140160" cy="731880"/>
            <a:chOff x="736920" y="5877000"/>
            <a:chExt cx="6140160" cy="731880"/>
          </a:xfrm>
        </p:grpSpPr>
        <p:pic>
          <p:nvPicPr>
            <p:cNvPr id="66" name="" descr=""/>
            <p:cNvPicPr/>
            <p:nvPr/>
          </p:nvPicPr>
          <p:blipFill>
            <a:blip r:embed="rId8"/>
            <a:stretch/>
          </p:blipFill>
          <p:spPr>
            <a:xfrm>
              <a:off x="1258920" y="5877000"/>
              <a:ext cx="4608360" cy="72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"/>
            <p:cNvSpPr/>
            <p:nvPr/>
          </p:nvSpPr>
          <p:spPr>
            <a:xfrm>
              <a:off x="736920" y="58975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8" name="" descr=""/>
            <p:cNvPicPr/>
            <p:nvPr/>
          </p:nvPicPr>
          <p:blipFill>
            <a:blip r:embed="rId9"/>
            <a:stretch/>
          </p:blipFill>
          <p:spPr>
            <a:xfrm>
              <a:off x="5867280" y="5877000"/>
              <a:ext cx="1009800" cy="731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Rendimiento Ciclo Ot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684360" y="1413000"/>
            <a:ext cx="3024000" cy="27208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3997800" y="170028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8 Entonc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5508720" y="1628640"/>
            <a:ext cx="2238120" cy="1009800"/>
            <a:chOff x="5508720" y="1628640"/>
            <a:chExt cx="2238120" cy="1009800"/>
          </a:xfrm>
        </p:grpSpPr>
        <p:pic>
          <p:nvPicPr>
            <p:cNvPr id="73" name="" descr=""/>
            <p:cNvPicPr/>
            <p:nvPr/>
          </p:nvPicPr>
          <p:blipFill>
            <a:blip r:embed="rId2"/>
            <a:stretch/>
          </p:blipFill>
          <p:spPr>
            <a:xfrm>
              <a:off x="5508720" y="1628640"/>
              <a:ext cx="2238120" cy="561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" descr=""/>
            <p:cNvPicPr/>
            <p:nvPr/>
          </p:nvPicPr>
          <p:blipFill>
            <a:blip r:embed="rId3"/>
            <a:stretch/>
          </p:blipFill>
          <p:spPr>
            <a:xfrm>
              <a:off x="5508720" y="2133720"/>
              <a:ext cx="1552320" cy="50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" name=""/>
          <p:cNvSpPr/>
          <p:nvPr/>
        </p:nvSpPr>
        <p:spPr>
          <a:xfrm>
            <a:off x="4050360" y="2873520"/>
            <a:ext cx="10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9 Com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4"/>
          <a:stretch/>
        </p:blipFill>
        <p:spPr>
          <a:xfrm>
            <a:off x="5148360" y="2852640"/>
            <a:ext cx="1871640" cy="55584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4053240" y="3592440"/>
            <a:ext cx="431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10 El rendimiento se expresa en funció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de la razón de compresió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5"/>
          <a:stretch/>
        </p:blipFill>
        <p:spPr>
          <a:xfrm>
            <a:off x="7451640" y="4005360"/>
            <a:ext cx="1081080" cy="36504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3853440" y="4653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6"/>
          <a:stretch/>
        </p:blipFill>
        <p:spPr>
          <a:xfrm>
            <a:off x="4427640" y="4653000"/>
            <a:ext cx="4716360" cy="59364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7"/>
          <a:stretch/>
        </p:blipFill>
        <p:spPr>
          <a:xfrm>
            <a:off x="4427640" y="5229360"/>
            <a:ext cx="1873080" cy="70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iclo Ot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1187280" y="1773360"/>
            <a:ext cx="6639120" cy="28400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2556000" y="5011560"/>
                <a:ext cx="3720960" cy="125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η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tto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  <m:r>
                          <m:t xml:space="preserve"> </m:t>
                        </m:r>
                        <m:r>
                          <m:t xml:space="preserve">y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η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arnot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den>
                        </m:f>
                      </m:e>
                      <m:e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η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tto</m:t>
                            </m:r>
                          </m:sub>
                        </m:sSub>
                        <m:r>
                          <m:t xml:space="preserve">&lt;</m:t>
                        </m:r>
                        <m:sSub>
                          <m:e>
                            <m:r>
                              <m:t xml:space="preserve">η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arnot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ICLO DIES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1. tiempo</a:t>
            </a:r>
            <a:r>
              <a:rPr b="1" lang="es-ES" sz="1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(aspiración)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Aire puro entra en el cilindro por el movimiento retrocediente del pistó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2. tiempo</a:t>
            </a:r>
            <a:r>
              <a:rPr b="1" lang="es-ES" sz="1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(compresión)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El pistón comprime el aire muy fuerte y éste alcanza una temperatura muy elevad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3. tiempo (Carrera de trabajo-Expansión)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Se inyecta el gasoil, y éste se enciende inmediatamente por causa de la alta temperatu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4. tiempo (carrera de escape)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El pistón empuja los gases de combustión hacia el tubo de escape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</a:t>
            </a:r>
            <a:r>
              <a:rPr b="0" lang="es-ES_tradnl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://</a:t>
            </a:r>
            <a:r>
              <a:rPr b="0" lang="es-ES_tradnl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k</a:t>
            </a:r>
            <a:r>
              <a:rPr b="0" lang="es-ES_tradnl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-</a:t>
            </a:r>
            <a:r>
              <a:rPr b="0" lang="es-ES_tradnl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wz.de</a:t>
            </a:r>
            <a:r>
              <a:rPr b="0" lang="es-ES_tradnl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/</a:t>
            </a:r>
            <a:r>
              <a:rPr b="0" lang="es-ES_tradnl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vmotor</a:t>
            </a:r>
            <a:r>
              <a:rPr b="0" lang="es-ES_tradnl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/</a:t>
            </a:r>
            <a:r>
              <a:rPr b="0" lang="es-ES_tradnl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dieselm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0"/>
          <a:stretch/>
        </p:blipFill>
        <p:spPr>
          <a:xfrm>
            <a:off x="5003640" y="1557360"/>
            <a:ext cx="3295800" cy="35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Rendimiento ciclo Dies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6350040" y="2495520"/>
                <a:ext cx="63504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n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5580000" y="1197000"/>
            <a:ext cx="3202200" cy="34560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971640" y="1484280"/>
            <a:ext cx="1296720" cy="7002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541800" y="1628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971640" y="2276640"/>
            <a:ext cx="1511280" cy="6951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539640" y="2349360"/>
            <a:ext cx="31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452160" y="4097160"/>
            <a:ext cx="4407120" cy="371520"/>
            <a:chOff x="452160" y="4097160"/>
            <a:chExt cx="4407120" cy="371520"/>
          </a:xfrm>
        </p:grpSpPr>
        <p:sp>
          <p:nvSpPr>
            <p:cNvPr id="99" name=""/>
            <p:cNvSpPr/>
            <p:nvPr/>
          </p:nvSpPr>
          <p:spPr>
            <a:xfrm>
              <a:off x="452160" y="4097160"/>
              <a:ext cx="3172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4  Usando la ley de gas ideal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0" name=""/>
                <p:cNvSpPr txBox="1"/>
                <p:nvPr/>
              </p:nvSpPr>
              <p:spPr>
                <a:xfrm>
                  <a:off x="3635280" y="4149720"/>
                  <a:ext cx="1224000" cy="318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PV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nRT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01" name=""/>
          <p:cNvSpPr/>
          <p:nvPr/>
        </p:nvSpPr>
        <p:spPr>
          <a:xfrm>
            <a:off x="736560" y="4456080"/>
            <a:ext cx="3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1258920" y="4437000"/>
                <a:ext cx="684360" cy="5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v</m:t>
                        </m:r>
                      </m:den>
                    </m:f>
                    <m:r>
                      <m:t xml:space="preserve">=</m:t>
                    </m:r>
                    <m:r>
                      <m:t xml:space="preserve">γ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5" name=""/>
          <p:cNvSpPr/>
          <p:nvPr/>
        </p:nvSpPr>
        <p:spPr>
          <a:xfrm>
            <a:off x="613800" y="4941720"/>
            <a:ext cx="152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Se remplaz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0" y="3089160"/>
            <a:ext cx="9144000" cy="798480"/>
            <a:chOff x="0" y="3089160"/>
            <a:chExt cx="9144000" cy="798480"/>
          </a:xfrm>
        </p:grpSpPr>
        <p:sp>
          <p:nvSpPr>
            <p:cNvPr id="107" name=""/>
            <p:cNvSpPr/>
            <p:nvPr/>
          </p:nvSpPr>
          <p:spPr>
            <a:xfrm>
              <a:off x="520920" y="30891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8" name="" descr=""/>
            <p:cNvPicPr/>
            <p:nvPr/>
          </p:nvPicPr>
          <p:blipFill>
            <a:blip r:embed="rId4"/>
            <a:stretch/>
          </p:blipFill>
          <p:spPr>
            <a:xfrm>
              <a:off x="971640" y="3141720"/>
              <a:ext cx="1655640" cy="74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"/>
            <p:cNvSpPr/>
            <p:nvPr/>
          </p:nvSpPr>
          <p:spPr>
            <a:xfrm>
              <a:off x="0" y="333864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2195640" y="4941720"/>
            <a:ext cx="4176720" cy="570240"/>
            <a:chOff x="2195640" y="4941720"/>
            <a:chExt cx="4176720" cy="570240"/>
          </a:xfrm>
        </p:grpSpPr>
        <mc:AlternateContent>
          <mc:Choice xmlns:a14="http://schemas.microsoft.com/office/drawing/2010/main" Requires="a14">
            <p:sp>
              <p:nvSpPr>
                <p:cNvPr id="111" name=""/>
                <p:cNvSpPr txBox="1"/>
                <p:nvPr/>
              </p:nvSpPr>
              <p:spPr>
                <a:xfrm>
                  <a:off x="3203640" y="4941720"/>
                  <a:ext cx="863640" cy="546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t xml:space="preserve">b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b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b</m:t>
                              </m:r>
                            </m:sub>
                          </m:sSub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nR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2" name=""/>
                <p:cNvSpPr txBox="1"/>
                <p:nvPr/>
              </p:nvSpPr>
              <p:spPr>
                <a:xfrm>
                  <a:off x="2195640" y="4941720"/>
                  <a:ext cx="863640" cy="549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t xml:space="preserve">a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a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a</m:t>
                              </m:r>
                            </m:sub>
                          </m:sSub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nR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3" name=""/>
                <p:cNvSpPr txBox="1"/>
                <p:nvPr/>
              </p:nvSpPr>
              <p:spPr>
                <a:xfrm>
                  <a:off x="4284720" y="4941720"/>
                  <a:ext cx="863640" cy="559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c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c</m:t>
                              </m:r>
                            </m:sub>
                          </m:sSub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nR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4" name=""/>
                <p:cNvSpPr txBox="1"/>
                <p:nvPr/>
              </p:nvSpPr>
              <p:spPr>
                <a:xfrm>
                  <a:off x="5435640" y="4941720"/>
                  <a:ext cx="936720" cy="570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t xml:space="preserve">d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d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d</m:t>
                              </m:r>
                            </m:sub>
                          </m:sSub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nR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15" name=""/>
          <p:cNvSpPr/>
          <p:nvPr/>
        </p:nvSpPr>
        <p:spPr>
          <a:xfrm>
            <a:off x="667080" y="5753160"/>
            <a:ext cx="119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quedan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5"/>
          <a:stretch/>
        </p:blipFill>
        <p:spPr>
          <a:xfrm>
            <a:off x="2195640" y="5734080"/>
            <a:ext cx="1944720" cy="7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Rendimiento ciclo Dies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1547640" y="1484280"/>
                <a:ext cx="324036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y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9" name=""/>
          <p:cNvSpPr/>
          <p:nvPr/>
        </p:nvSpPr>
        <p:spPr>
          <a:xfrm>
            <a:off x="594000" y="1504800"/>
            <a:ext cx="110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5 Como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3492360" y="1989000"/>
            <a:ext cx="1944720" cy="78444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539640" y="1989000"/>
            <a:ext cx="1944720" cy="70488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2627280" y="2205000"/>
            <a:ext cx="792360" cy="216000"/>
          </a:xfrm>
          <a:prstGeom prst="rightArrow">
            <a:avLst>
              <a:gd name="adj1" fmla="val 50000"/>
              <a:gd name="adj2" fmla="val 91708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5979960" y="1197000"/>
            <a:ext cx="2802240" cy="30240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526320" y="3376440"/>
            <a:ext cx="543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6 Dividiendo el numerador por Pc y el denominad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or V1 que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4"/>
          <a:stretch/>
        </p:blipFill>
        <p:spPr>
          <a:xfrm>
            <a:off x="2411280" y="3789360"/>
            <a:ext cx="1876680" cy="9810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595440" y="4889520"/>
            <a:ext cx="14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Usando qu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2195640" y="4869000"/>
                <a:ext cx="1861920" cy="77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yr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Rendimiento ciclo Dies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6156360" y="1557360"/>
            <a:ext cx="2801880" cy="30240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521640" y="1504800"/>
            <a:ext cx="122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7 Usan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1692360" y="1557360"/>
                <a:ext cx="1041480" cy="32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PV</m:t>
                        </m:r>
                      </m:e>
                      <m:sup>
                        <m:r>
                          <m:t xml:space="preserve">γ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te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3059280" y="1484280"/>
            <a:ext cx="2095200" cy="6858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524520" y="2297160"/>
            <a:ext cx="367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8 El rendimiento del ciclo diesel 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1042920" y="3068640"/>
            <a:ext cx="1762200" cy="93348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3708360" y="3141720"/>
            <a:ext cx="2005200" cy="86184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2843280" y="3500280"/>
            <a:ext cx="720720" cy="216000"/>
          </a:xfrm>
          <a:prstGeom prst="rightArrow">
            <a:avLst>
              <a:gd name="adj1" fmla="val 50000"/>
              <a:gd name="adj2" fmla="val 8341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7T16:01:11Z</dcterms:created>
  <dc:creator>dimec</dc:creator>
  <dc:description/>
  <dc:language>en-US</dc:language>
  <cp:lastModifiedBy>dimec</cp:lastModifiedBy>
  <dcterms:modified xsi:type="dcterms:W3CDTF">2007-09-07T17:55:45Z</dcterms:modified>
  <cp:revision>15</cp:revision>
  <dc:subject/>
  <dc:title>Motor de Explosión</dc:title>
</cp:coreProperties>
</file>