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830-26A0-404C-B403-1AC1FE4A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12F-CA55-46FD-8DA0-B3438DBF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0AD-8D9C-489E-A679-22DD7881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62A-F4CC-4202-BBA1-F566B76B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51A-37A1-45F5-A26C-B2DDFC1B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508-FC20-48DD-A7AC-5A4582F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287-93DC-45DB-9444-486F1CA7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2B6-50BC-4230-A0FE-42A8BA50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244-3F2C-4494-B1A2-F167188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378-BE9A-4177-A0C6-F7ED0EA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623-BA9C-43AD-B915-D88F4383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07A-5AA6-40A3-916A-DAE58A0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AE20-E1D2-4EBB-AFC8-2E77BA4E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801880" y="476280"/>
                <a:ext cx="41893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348000" y="2852640"/>
                <a:ext cx="936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'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11280" y="3716280"/>
                <a:ext cx="2808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tonces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40280" y="219852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general los resultados experimentales indican 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36040" y="3789360"/>
            <a:ext cx="46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por lo tanto U depende en general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 y de 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6400" y="530064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diendo independientemente el coeficient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924360" y="5661000"/>
                <a:ext cx="10792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476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itero que la condición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’ = 0, implica la propiedad muy particular de la energía interna de un gas ideal, que ya hemos utilizado en este curso, y consiste en que ella depende únicamente de la temperatura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es independiente de P y de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7040" y="17208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s dependencias, para todo material están ligadas por la ecu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11280" y="2276640"/>
                <a:ext cx="2808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140360" y="393372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43240" y="38606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aquí, para el gas ideal solo 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35640" y="3716280"/>
                <a:ext cx="26636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4480" y="28116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de manera general para un material homogéneo , si expres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 = U (V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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5280" y="1341360"/>
                <a:ext cx="2787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dθ</m:t>
                    </m:r>
                    <m:r>
                      <m:t xml:space="preserve">+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6324480" y="234936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34936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95640" y="2349360"/>
                <a:ext cx="2232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dθ</m:t>
                    </m:r>
                    <m:r>
                      <m:t xml:space="preserve">+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7240" y="3284640"/>
            <a:ext cx="755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rticularmente para el gas ideal : dU =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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8880" y="40766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Y cuanto v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788000" y="4076640"/>
                <a:ext cx="7635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581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26920" y="5157720"/>
                <a:ext cx="72010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y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u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ferenci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act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8840" y="62064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ante gases monoatómicos como helio, argón y vapores de mercur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ha cubierto un amplio intervalo de temperaturas que va desde 1K h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00 K, notándose una débil depende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280" y="19890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gases biatómicos como el hidrógeno la depencia es algo may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sta razón se han adoptado los valores que ya hemos usad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1280" y="2997360"/>
                <a:ext cx="23050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353040" y="3213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gases mono y biatómicos respec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040" y="4149720"/>
            <a:ext cx="79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por esto se puede obtener por integración entre 0 y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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gases ideales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91120" y="4797360"/>
            <a:ext cx="179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 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 de Clement-Desormes para la determinación del coeficiente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br>
              <a:rPr sz="24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un gas re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920" y="1268280"/>
            <a:ext cx="797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spositivo experimental se muestra en figura que sigue y consist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recipiente provisto de una llave A y de un manómetro en U con un líqu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baja densidad para obtener con pequeñas variaciones de presión d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recipiente, desniveles aprec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2829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4480" y="404640"/>
            <a:ext cx="830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estado inicial el recipiente se encuentra con aire u otro gas, h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ar previamente por un secador, a una presión levemente superi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atmos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74720"/>
            <a:ext cx="858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bre la llave A y se vuelve a cerrar en cuanto se establece el equilib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8120" y="2755800"/>
            <a:ext cx="794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operación requiere de un tiempo extremadamente corto, 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ce que el proceso sea prácticamentes adiabático, a pesar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las paredes del recipiente sean diatér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080" y="4076640"/>
            <a:ext cx="8506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 de lo anterior el volúmen de una pequeña masa cual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seno del gas se expande entonces e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endiendo levemente su temperatura por debajo de la tempera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y cayendo la presión en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2120" y="5734080"/>
            <a:ext cx="82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oniendo que ésta parte de la transformación es aproximad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si-estática ésta queda representada en el diagrama P-V por MN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720" y="4797360"/>
            <a:ext cx="825660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rante algunos minutos después de cerrada la llave 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eva a volúmen constante hasta alcanzar nuevamente su va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al de equilibrio con el exterior, proceso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vándose con ello la Presión interior en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 que queda regist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anó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33336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ados inicial y final de la pequeña masa de gas consid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estados de igual temperatura, o sea quedan en la misma isoterma 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916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zón entre las pendientes en el punto de intersección M de la isoterma MO y de la adiabática MN es el valor de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  el gas u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55640" y="3357720"/>
                <a:ext cx="2664000" cy="25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V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V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211640" y="3213000"/>
                <a:ext cx="453708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ue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19120" y="5824440"/>
            <a:ext cx="8624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quí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los desniveles medidos al comienzo y al final del experimento en la rama abierta del manóm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6840" y="5684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álogamente al tratamiento usado para U, podemos relacionar a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 con P y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1628640"/>
                <a:ext cx="30243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845800" y="30686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o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27280" y="4221000"/>
                <a:ext cx="28796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7400" y="352440"/>
            <a:ext cx="70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primera mitad del sigloXIX, Joule intentó medir la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expansión libre, pero no pudo, dado que su montage no era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ficientemente s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6120" y="263700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o que mas tarde Joule y Thomson encontraron un método mu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s sensible para realizar sus med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8120" y="4221000"/>
            <a:ext cx="83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 que hicieron fué aplicar una Presión constante para transferir lenta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cantidad de gas de un compartimiento a otro, a través de una pared po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eda o algod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0840" y="496800"/>
            <a:ext cx="67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tableció que éste depende solamente de la tempera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 que por integración muestra que la energía interna U dep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Presión y de la Temper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71640" y="1989000"/>
                <a:ext cx="60958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</m:sub>
                    </m:sSub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99760" y="4311720"/>
            <a:ext cx="67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que un gas ideal cumple dos 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V = n R T   y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’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3440" y="260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ES IDE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520" y="765000"/>
            <a:ext cx="82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1662, Boyle había observado que “el volumen que ocupa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a masa de gas a temperatura constante varía invers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la Presión a que se le somete, o sea PV = c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781360"/>
            <a:ext cx="75088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 validez no obstante, se limita solo a presiones mode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bajas, como se demostró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glos más tar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disponer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información experimental, extendida hasta altas pre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gases como: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, aire, He,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algunos gases no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6120" y="5084640"/>
            <a:ext cx="834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igura se muestran un grupo de isotermas del nitrógeno, dond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afica el producto P por V molar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49687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87280" y="6021360"/>
                <a:ext cx="604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una de esas curvas isotermas puede ser representada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polinomio de potencias de P, conocido como la ecuación del vi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5280" y="549360"/>
                <a:ext cx="1152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ue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699200" y="549360"/>
            <a:ext cx="709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volumen molar del gas y los coefici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, B, C….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antes cuyos valores dependen de la temperatura y del g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ular y que se determinan experiment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4040" y="1628640"/>
            <a:ext cx="887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práctica se ha demostrado que para lograr una excelente aproxi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sta altas presiones y para un amplio rango de temperaturas,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ficientes los 4 primeros términos del polinom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9200" y="2774880"/>
            <a:ext cx="75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jo 40 atm bastan solo los dos primeros términos del polinom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43280" y="3284640"/>
                <a:ext cx="12970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59160" y="378288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último en el límite de las bajas pre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59280" y="4292640"/>
                <a:ext cx="223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P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85200" y="4653000"/>
            <a:ext cx="70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 que para una misma temperatura resulta ser el m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s los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35280" y="5516640"/>
                <a:ext cx="3313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í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290200" y="614376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da como ley de Bo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3040" y="28116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emos que para establecer la escala de temperatura que llam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ÍRICA, tomamos en cuenta ese comportamiento de los gases en el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bajas presiones, ya que así la temperatura de un mismo siste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da con termómetro de gas y usando distintos gases daba como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valor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3356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65400" y="6922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finió dicha escala mediante la rel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55640" y="1989000"/>
                <a:ext cx="2305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68360" y="3645000"/>
                <a:ext cx="4248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t xml:space="preserve">K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P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081160" y="4952880"/>
                <a:ext cx="3272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egamo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P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lim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R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21400" y="184464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mos transformar esta ec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ndo conocidos teoremas de lím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580000" y="3500280"/>
                <a:ext cx="32814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finimos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0840" y="5608800"/>
            <a:ext cx="853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ley de Avogadro se desprende que el volumen molar es el mismo para 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gases a igual temperatura y presión, por lo que R resulta ser una con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ependiente del gas elegido y que llamamos “constante universal de los gas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473800" cy="409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9240" y="524844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ráfico muestra en la ordenada 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96000" y="5013360"/>
                <a:ext cx="614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44480" y="5824440"/>
            <a:ext cx="34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en la abscisa Presión en N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4320" y="5176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J kilomo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89120" y="5805360"/>
            <a:ext cx="43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o que R =8,3143 x10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 kilomol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9560" y="26028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o que cuando la temperatura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mide en la escala empírica (del gas id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imer coeficiente de la ecuación del virial toma la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 = R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700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56000" y="2133720"/>
                <a:ext cx="2592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r>
                      <m:t xml:space="preserve">R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84840" y="294480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la constante depende de las unidades en que se expres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ión y el vol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37893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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/mol)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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8280" y="45975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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J/mol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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9800" y="537372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,08208 (L atm/mol)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4:00:59Z</dcterms:created>
  <dc:creator>MTG</dc:creator>
  <dc:description/>
  <dc:language>en-US</dc:language>
  <cp:lastModifiedBy>MTG</cp:lastModifiedBy>
  <dcterms:modified xsi:type="dcterms:W3CDTF">2006-04-11T18:15:56Z</dcterms:modified>
  <cp:revision>27</cp:revision>
  <dc:subject/>
  <dc:title>Diapositiva 1</dc:title>
</cp:coreProperties>
</file>