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D318664-79E6-4D66-B858-B4E2ED5D2A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9384-5001-40EC-B174-9172C7112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AFFD-3023-4222-BD71-22486646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8CF4-16E0-4B39-901B-88C3E52EA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FE86-A1CA-4287-8C55-7587CD88B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35F5-189C-493A-B5EB-5B63012A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3355-C197-4602-BC59-2638D8F6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6392-2023-407A-A0DC-170B60EC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AF78-4CC1-4C9B-A94B-1FE0DE6A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AAAF-6DDD-4D14-9D2E-E7C7742C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8A33-CB66-4095-BD8D-0BA70F15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F6D6-A6BF-4284-8E44-45E026D3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51F2-165A-4F9E-8E5D-C9858E85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23FA34A-C7B6-4F22-834D-B36C58313A1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eradores “punto a punt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7200" y="1600200"/>
            <a:ext cx="8231040" cy="4525920"/>
            <a:chOff x="457200" y="1600200"/>
            <a:chExt cx="8231040" cy="4525920"/>
          </a:xfrm>
        </p:grpSpPr>
        <p:sp>
          <p:nvSpPr>
            <p:cNvPr id="115" name=""/>
            <p:cNvSpPr/>
            <p:nvPr/>
          </p:nvSpPr>
          <p:spPr>
            <a:xfrm>
              <a:off x="66294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\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x .\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146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294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146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294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720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146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294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an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146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612468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146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294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868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a .*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.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3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: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x=r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iedra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apel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tijeras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539640" y="333360"/>
            <a:ext cx="8220240" cy="6135840"/>
            <a:chOff x="539640" y="333360"/>
            <a:chExt cx="8220240" cy="6135840"/>
          </a:xfrm>
        </p:grpSpPr>
        <p:sp>
          <p:nvSpPr>
            <p:cNvPr id="148" name=""/>
            <p:cNvSpPr/>
            <p:nvPr/>
          </p:nvSpPr>
          <p:spPr>
            <a:xfrm>
              <a:off x="6659640" y="59245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79600" y="59245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9640" y="59245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59640" y="53830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9600" y="53830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9640" y="53830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59640" y="48402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79600" y="48402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9640" y="48402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59640" y="429912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79600" y="429912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lt;  &lt;=  &gt;  &gt;=  ==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9640" y="429912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relacion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59640" y="3755880"/>
              <a:ext cx="20984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79600" y="3755880"/>
              <a:ext cx="33800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9640" y="3755880"/>
              <a:ext cx="27399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do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59640" y="321480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79600" y="321480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9640" y="321480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, 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59640" y="26719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79600" y="26719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   /   \   .*   ./   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9640" y="26719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ult, 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59640" y="21304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79600" y="21304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(negac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9640" y="21304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nari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59640" y="15876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79600" y="15876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 . 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9640" y="15876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59640" y="104616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79600" y="104616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9640" y="104616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expres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59640" y="333360"/>
              <a:ext cx="20984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79600" y="333360"/>
              <a:ext cx="33800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9640" y="333360"/>
              <a:ext cx="273996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perad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9640" y="333360"/>
              <a:ext cx="8218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9640" y="104616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640" y="15876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40" y="213048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9640" y="26719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9640" y="32148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9640" y="37558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9640" y="42991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640" y="484020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640" y="53830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9640" y="59245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9640" y="6467400"/>
              <a:ext cx="8218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964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9600" y="333360"/>
              <a:ext cx="180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59640" y="333360"/>
              <a:ext cx="144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75808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i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&lt;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96560"/>
            <a:ext cx="7920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075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crea con editor de MATLAB (u ot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CuentaRegresiva.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or i=10:-1: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use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CuentaRegre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(n): continúa después de n segu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: continúa cuando usuario presiona tec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es equivalente a waitforbutton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39400"/>
            <a:ext cx="814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497800" cy="61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9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9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po de dato fundamental: arreglo de reales de dos dimensiones (escalar es un arreglo de 1x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i = 10  %nombre a la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vo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[ a b ] = 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0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cubo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ction y=cubo(x) %visible en arch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pol(A,X): evalua pol de coef A en arg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a.*potenci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raices(a,b,c): raíces de ax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+bx+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[r1,r2] = raices(a,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==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rror(‘no es de 2º grado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=b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*a*c; %discri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d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ror(‘raices imaginarias’) %ab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seif d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rning(‘raices siguales) %muestra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1=(-b +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2=(-b -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2,:)=sin(datos(1,:)); %senos de 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ot(x,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 %arreglo de una dim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 %suprime “eco” de la i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reglos(“Vectores”): inicial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ones(1,5); disp(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1 fila de 5 columnas con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zeros(1,5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1 fila de 5 columnas con 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2:9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:incremento:úl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linspace(0,1,5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, último, nº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2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7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rand(1,5) %1 fila de 5 cols c/valores al azar en [0,1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     0.xxxx     0.xxxx     0.xxxx     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trices”: ini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9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a = [5 4 3 2 1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         “variable por omis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5)  % a(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 = [1 2  3 ; 4 5 6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2,3)    % arreglo(nºfila,nº colum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de partes (slic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[1 2 ; 3 4 ; 5 6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a(:,2)   %colum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c=a(1, : )  %fil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d =a(1:2,1)  % primeras 2 filas de c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peradore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para matrices y escala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1600200"/>
            <a:ext cx="8231040" cy="4527720"/>
            <a:chOff x="457200" y="1600200"/>
            <a:chExt cx="8231040" cy="4527720"/>
          </a:xfrm>
        </p:grpSpPr>
        <p:sp>
          <p:nvSpPr>
            <p:cNvPr id="65" name=""/>
            <p:cNvSpPr/>
            <p:nvPr/>
          </p:nvSpPr>
          <p:spPr>
            <a:xfrm>
              <a:off x="66294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720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=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146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294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-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146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72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294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720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+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146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294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/y  =  y\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146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/  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*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146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294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720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146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294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720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1+2)/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146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…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2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 inter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294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20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146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72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7200" y="216540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200" y="329724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" y="44290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556092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200" y="6126120"/>
              <a:ext cx="8229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146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20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868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lvarez</dc:creator>
  <dc:description/>
  <dc:language>en-US</dc:language>
  <cp:lastModifiedBy>jalvarez</cp:lastModifiedBy>
  <cp:revision>0</cp:revision>
  <dc:subject/>
  <dc:title>Programación en MATLAB</dc:title>
</cp:coreProperties>
</file>