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5.xml.rels" ContentType="application/vnd.openxmlformats-package.relationships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000"/>
            <a:ext cx="297036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33E8BE0-0687-4483-8181-F08F0992D60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A0157-630F-4511-AE79-F820CB3C8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D64B4-4887-4A42-B707-0B7AA3C22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4DD35-097D-41BC-BDAB-6D6A22846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4210B-5868-4BA7-B3FE-7CB72CCD4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F77EC-B566-4EA3-8922-6A3E8598F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BD1B2-3302-49B8-B979-CDF49C558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8E9BD-B371-4D8B-8E1E-72C6E8889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5FAD5-25B4-4B6D-89DE-F50BFD901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5F833-2DCB-49AA-BD27-81904DC39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2EE3F-0F6F-4E88-8C75-F0218D368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B0969-272E-49FF-8798-ECEB8F8B8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DE1A5-A048-4776-81EA-1DDE2081C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D69A8DF-77B2-4BEC-8C44-309B4955D84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troducción a Matlab 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terial elaborado por el profesor Juan Alvarez del DCC y utilizado como material docente en el curso CC100 en 2007-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utilizado con autorización para el curso Sistemas Newtonian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Operadores “punto a punto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457200" y="1600200"/>
            <a:ext cx="8231040" cy="4525920"/>
            <a:chOff x="457200" y="1600200"/>
            <a:chExt cx="8231040" cy="4525920"/>
          </a:xfrm>
        </p:grpSpPr>
        <p:sp>
          <p:nvSpPr>
            <p:cNvPr id="115" name=""/>
            <p:cNvSpPr/>
            <p:nvPr/>
          </p:nvSpPr>
          <p:spPr>
            <a:xfrm>
              <a:off x="6629400" y="4994280"/>
              <a:ext cx="2057400" cy="11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(i,j) 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/ y(i,j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(i,j) 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\ y(i,j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572000" y="4994280"/>
              <a:ext cx="2057400" cy="11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 .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/ y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x .\ 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514600" y="4994280"/>
              <a:ext cx="2057400" cy="11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/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.\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" y="4994280"/>
              <a:ext cx="2057400" cy="11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divisió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629400" y="3863880"/>
              <a:ext cx="2057400" cy="11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(i,j) 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* y(i,j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572000" y="3863880"/>
              <a:ext cx="2057400" cy="11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 .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* 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514600" y="3863880"/>
              <a:ext cx="2057400" cy="11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*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57200" y="3863880"/>
              <a:ext cx="2057400" cy="11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product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629400" y="2732040"/>
              <a:ext cx="2057400" cy="11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(i,j) 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^ y(i,j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572000" y="2732040"/>
              <a:ext cx="2057400" cy="11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 .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^ 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514600" y="2732040"/>
              <a:ext cx="2057400" cy="11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^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57200" y="2732040"/>
              <a:ext cx="2057400" cy="11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potenci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629400" y="1600200"/>
              <a:ext cx="2057400" cy="11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expansió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572000" y="1600200"/>
              <a:ext cx="2057400" cy="11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ejempl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514600" y="1600200"/>
              <a:ext cx="2057400" cy="11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símbol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57200" y="1600200"/>
              <a:ext cx="2057400" cy="11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operació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57200" y="1600200"/>
              <a:ext cx="82296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57200" y="2732040"/>
              <a:ext cx="82296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57200" y="3863880"/>
              <a:ext cx="82296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57200" y="6124680"/>
              <a:ext cx="82296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57200" y="1600200"/>
              <a:ext cx="1440" cy="4524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514600" y="1600200"/>
              <a:ext cx="1440" cy="452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572000" y="1600200"/>
              <a:ext cx="1440" cy="452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629400" y="1600200"/>
              <a:ext cx="1440" cy="452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8686800" y="1600200"/>
              <a:ext cx="1440" cy="4524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57200" y="4994280"/>
              <a:ext cx="8229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Ejemp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&gt; a = 2*ones(2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&gt;b=[0,1;2,3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&gt;a .*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  %multiplicación elemento a elem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ns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0  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4  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&gt; a .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^ 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ns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  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4  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gt;&gt;a .\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ns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    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0  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0.5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.0000  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.5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trucción if/el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expresión lóg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%instrucciones MATLA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elseif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expresión2 %opc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%instruc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elseif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expresión3 %opc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%instruc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…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%otros elsei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%opc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%instruc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trucción if/else: ejemp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&gt;&gt;x=rand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&gt;&gt;</a:t>
            </a: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x&lt;1/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disp(‘piedra’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elseif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x&lt;2/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disp(‘papel’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disp(‘tijeras’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pap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" name=""/>
          <p:cNvGrpSpPr/>
          <p:nvPr/>
        </p:nvGrpSpPr>
        <p:grpSpPr>
          <a:xfrm>
            <a:off x="539640" y="333360"/>
            <a:ext cx="8220240" cy="6135840"/>
            <a:chOff x="539640" y="333360"/>
            <a:chExt cx="8220240" cy="6135840"/>
          </a:xfrm>
        </p:grpSpPr>
        <p:sp>
          <p:nvSpPr>
            <p:cNvPr id="148" name=""/>
            <p:cNvSpPr/>
            <p:nvPr/>
          </p:nvSpPr>
          <p:spPr>
            <a:xfrm>
              <a:off x="6659640" y="5924520"/>
              <a:ext cx="209844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279600" y="5924520"/>
              <a:ext cx="338004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39640" y="5924520"/>
              <a:ext cx="273996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asignació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659640" y="5383080"/>
              <a:ext cx="209844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279600" y="5383080"/>
              <a:ext cx="338004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|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39640" y="5383080"/>
              <a:ext cx="273996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O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59640" y="4840200"/>
              <a:ext cx="209844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279600" y="4840200"/>
              <a:ext cx="338004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&amp;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39640" y="4840200"/>
              <a:ext cx="273996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AN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659640" y="4299120"/>
              <a:ext cx="2098440" cy="54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279600" y="4299120"/>
              <a:ext cx="3380040" cy="54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&lt;  &lt;=  &gt;  &gt;=  ==  </a:t>
              </a:r>
              <a:r>
                <a:rPr b="1" lang="en-GB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~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39640" y="4299120"/>
              <a:ext cx="2739960" cy="54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relaciona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659640" y="3755880"/>
              <a:ext cx="2098440" cy="54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279600" y="3755880"/>
              <a:ext cx="3380040" cy="54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39640" y="3755880"/>
              <a:ext cx="2739960" cy="54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Operador :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659640" y="3214800"/>
              <a:ext cx="2098440" cy="54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279600" y="3214800"/>
              <a:ext cx="3380040" cy="54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+  -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39640" y="3214800"/>
              <a:ext cx="2739960" cy="54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Suma, rest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659640" y="2671920"/>
              <a:ext cx="209844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279600" y="2671920"/>
              <a:ext cx="338004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*   /   \   .*   ./   .\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39640" y="2671920"/>
              <a:ext cx="273996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mult, divisió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659640" y="2130480"/>
              <a:ext cx="209844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279600" y="2130480"/>
              <a:ext cx="338004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+  -  </a:t>
              </a:r>
              <a:r>
                <a:rPr b="1" lang="en-GB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~ (negación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39640" y="2130480"/>
              <a:ext cx="273996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unario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659640" y="1587600"/>
              <a:ext cx="209844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279600" y="1587600"/>
              <a:ext cx="338004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^  . ^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39640" y="1587600"/>
              <a:ext cx="273996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potenci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659640" y="1046160"/>
              <a:ext cx="209844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279600" y="1046160"/>
              <a:ext cx="338004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(  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39640" y="1046160"/>
              <a:ext cx="273996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(expresión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659640" y="333360"/>
              <a:ext cx="2098440" cy="71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priorida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279600" y="333360"/>
              <a:ext cx="3380040" cy="71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símbol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39640" y="333360"/>
              <a:ext cx="2739960" cy="71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Operado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39640" y="333360"/>
              <a:ext cx="8218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39640" y="1046160"/>
              <a:ext cx="8218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39640" y="1587600"/>
              <a:ext cx="8218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39640" y="2130480"/>
              <a:ext cx="8218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39640" y="2671920"/>
              <a:ext cx="8218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39640" y="3214800"/>
              <a:ext cx="8218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39640" y="3755880"/>
              <a:ext cx="8218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39640" y="4299120"/>
              <a:ext cx="8218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39640" y="4840200"/>
              <a:ext cx="8218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39640" y="5383080"/>
              <a:ext cx="8218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39640" y="5924520"/>
              <a:ext cx="8218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39640" y="6467400"/>
              <a:ext cx="821844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39640" y="333360"/>
              <a:ext cx="1800" cy="6134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279600" y="333360"/>
              <a:ext cx="1800" cy="613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659640" y="333360"/>
              <a:ext cx="1440" cy="613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758080" y="333360"/>
              <a:ext cx="1800" cy="6134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trucción whi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expresión lóg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% instrucciones MATL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jempl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i=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i&lt;=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disp(i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i=i+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68360" y="196560"/>
            <a:ext cx="7920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Instrucción f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39640" y="836280"/>
            <a:ext cx="822960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i=1:10 %for variable=ve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disp(i);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%instruc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a=1:1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i=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disp(i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a=1:1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i=1:length(a)  %largo de arreg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disp(i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0755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cript M-fi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rchivo con instrucciones o comandos MATL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mbre.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 crea con editor de MATLAB (u otr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jemplo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%Jalisco.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n=input(‘nº?’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disp(‘te gano con’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disp(n+1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jecució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Jalis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nº?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te gano c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471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cript M-fi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95280" y="981000"/>
            <a:ext cx="842472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%CuentaRegresiva.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for i=10:-1: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disp(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pause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&gt;&gt;CuentaRegresi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Not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ause(n): continúa después de n segun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ause: continúa cuando usuario presiona tec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(es equivalente a waitforbuttonpres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239400"/>
            <a:ext cx="8147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Archivos con funciones: M-fi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94920" y="907920"/>
            <a:ext cx="8497800" cy="61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%cuadrado(x): calcula x al cuadr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unction y=cuadrado(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=x.^2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cuadrado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s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cuadrado(0: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s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0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4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9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6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help cuadr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uadrado(x): calcula x al cuadr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394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MATLA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764640"/>
            <a:ext cx="8435880" cy="59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nguaje interpretado: instrucciones se ejecutan (interpretan) de inmedia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jempl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x = [1 2 3 ; 4 5 6]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x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ipo de dato fundamental: arreglo de reales de dos dimensiones (escalar es un arreglo de 1x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i = 10  %nombre a la Ja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unciones con varios resultad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%f23(x): calcula x al cuadrado y al cub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unction[xx,xxx] = f23(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xx = x.</a:t>
            </a:r>
            <a:r>
              <a:rPr b="0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^2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xxx =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x.</a:t>
            </a:r>
            <a:r>
              <a:rPr b="0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^3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vocac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&gt;&gt;[ a b ] = f23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&gt;&gt;f23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ns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unciones internas (local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0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%f23(x): calcula x al cuadrado y al cub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unction[xx,xxx] = f23(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xx = x.</a:t>
            </a:r>
            <a:r>
              <a:rPr b="0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^2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xxx = cubo(x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unction y=cubo(x) %visible en archiv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y =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x.</a:t>
            </a:r>
            <a:r>
              <a:rPr b="0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^3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unción polinom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507520" cy="47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%pol(A,X): evalua pol de coef A en arg 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unction y=pol(a,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xponentes=0:length(a)-1;  %0 1 … n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otencias=x.</a:t>
            </a:r>
            <a:r>
              <a:rPr b="0" lang="en-GB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^exponentes;  %x ^0, …,x ^(n-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y=sum(a.*potencias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gt;&gt;pol(1:3, 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ns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aices de ecuación de 2º gra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%raices(a,b,c): raíces de ax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x+bx+c=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unction[r1,r2] = raices(a,b,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 a==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error(‘no es de 2º grado’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=b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^2 -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4*a*c; %discrimina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 d &lt;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rror(‘raices imaginarias’) %abor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lseif d 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arning(‘raices siguales) %muestra mensa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1=(-b + sqrt(d))/(2*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2=(-b - sqrt(d))/(2*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rabar y leer arreg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%grabar arreg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atos=zeros(2,100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atos(1,:)=linspace(0,2*pi,100);%angul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atos(2,:)=sin(datos(1,:)); %senos de angul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ave da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%leer arreg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oad da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x=datos(1,: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=datos(2,: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lot(x,y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espuest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x=[1 2 3 4 5 6] %arreglo de una dimens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x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x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disp(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x=[1 2 3 4 5 6];  %suprime “eco” de la in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x=[1 2 3 4 5 6]; disp(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Arreglos(“Vectores”): inicializ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a=ones(1,5); disp(a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%1 fila de 5 columnas con un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a=zeros(1,5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% 1 fila de 5 columnas con ce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a=1: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a=1:2:9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%primero:incremento:últi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3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a=linspace(0,1,5)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%primero, último, nº pun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250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500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750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.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a=rand(1,5) %1 fila de 5 cols c/valores al azar en [0,1[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xxxx     0.xxxx     0.xxxx     0.xxxx     0.xxx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atrices”: inicializ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9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a = rand(2,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xxxx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0.xxxx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xxx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xxxx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0.xxxx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xxx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a =zeros(2,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a = ones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dexación si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a = [5 4 3 2 1]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 a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s =         “variable por omisión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 a(5)  % a(en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 a = [1 2  3 ; 4 5 6]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 a(2,3)    % arreglo(nºfila,nº column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dexación de partes (slic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&gt; a = [1 2 ; 3 4 ; 5 6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&gt;b=a(:,2)   %columna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 =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&gt;c=a(1, : )  %fila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&gt; d =a(1:2,1)  % primeras 2 filas de col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Operadores 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(para matrices y escalare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457200" y="1600200"/>
            <a:ext cx="8231040" cy="4527720"/>
            <a:chOff x="457200" y="1600200"/>
            <a:chExt cx="8231040" cy="4527720"/>
          </a:xfrm>
        </p:grpSpPr>
        <p:sp>
          <p:nvSpPr>
            <p:cNvPr id="65" name=""/>
            <p:cNvSpPr/>
            <p:nvPr/>
          </p:nvSpPr>
          <p:spPr>
            <a:xfrm>
              <a:off x="6629400" y="556092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572000" y="556092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 = 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514600" y="556092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57200" y="556092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asignació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629400" y="499428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0" y="499428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 - 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514600" y="499428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57200" y="499428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rest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629400" y="442908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572000" y="442908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 + 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514600" y="442908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57200" y="442908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sum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629400" y="386388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572000" y="386388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/y  =  y\x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514600" y="386388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/  \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57200" y="386388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divisió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629400" y="329724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572000" y="329724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*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514600" y="329724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7200" y="329724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product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629400" y="273204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572000" y="273204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^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514600" y="273204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^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57200" y="273204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potenci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629400" y="216540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572000" y="216540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(1+2)/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514600" y="216540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(…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57200" y="216540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exp intern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629400" y="160020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Priorida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572000" y="160020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Ejempl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514600" y="160020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Símbol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57200" y="160020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Operació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57200" y="1600200"/>
              <a:ext cx="82296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57200" y="2165400"/>
              <a:ext cx="8229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57200" y="2732040"/>
              <a:ext cx="82296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57200" y="3297240"/>
              <a:ext cx="8229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57200" y="3863880"/>
              <a:ext cx="82296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57200" y="4429080"/>
              <a:ext cx="82296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57200" y="4994280"/>
              <a:ext cx="8229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57200" y="5560920"/>
              <a:ext cx="82296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57200" y="6126120"/>
              <a:ext cx="822960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57200" y="1600200"/>
              <a:ext cx="1440" cy="4525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514600" y="1600200"/>
              <a:ext cx="1440" cy="452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572000" y="1600200"/>
              <a:ext cx="1440" cy="452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629400" y="1600200"/>
              <a:ext cx="1440" cy="452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686800" y="1600200"/>
              <a:ext cx="1440" cy="4525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Ejemp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a = 2 * ones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b=a/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5000   0.5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5000   0.5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a*b  %multiplicación de matrices!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s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alvarez</dc:creator>
  <dc:description/>
  <dc:language>en-US</dc:language>
  <cp:lastModifiedBy>jalvarez</cp:lastModifiedBy>
  <cp:revision>0</cp:revision>
  <dc:subject/>
  <dc:title>Programación en MATLAB</dc:title>
</cp:coreProperties>
</file>