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9FEC88A-F553-4121-A7D9-123031C002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FAF1-26C0-4E0D-9DF2-486EACF02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E6AD-313C-4AA8-9BED-F3ECFE1CF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38FD-550D-403F-BB51-80E764800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D2D6-4F4B-46FC-87CE-7607D3A2E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109C-D8DC-4407-A653-8EEF6C555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A050-85AD-4ADF-80DA-8F30395E7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706B-11EE-49C4-A71A-2A2C88412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1B0C-F2ED-4E4E-88C7-34BB5408B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2211-D62B-4AE1-8739-3E0C76F4E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254E-AF1F-496D-AC3C-7B83846C2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2727-C33A-4932-ABFE-B3046E32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7CCF-746F-40F6-9E55-B6C07A2B5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C4C0C11-EF43-4143-B09E-991BBE374AB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roducción a Matlab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terial elaborado por el profesor Juan Alvarez del DCC y utilizado como material docente en el curso CC100 en 2007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utilizado con autorización para el curso Sistemas Newtoni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peradores “punto a punto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57200" y="1600200"/>
            <a:ext cx="8231040" cy="4525920"/>
            <a:chOff x="457200" y="1600200"/>
            <a:chExt cx="8231040" cy="4525920"/>
          </a:xfrm>
        </p:grpSpPr>
        <p:sp>
          <p:nvSpPr>
            <p:cNvPr id="115" name=""/>
            <p:cNvSpPr/>
            <p:nvPr/>
          </p:nvSpPr>
          <p:spPr>
            <a:xfrm>
              <a:off x="66294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\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20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y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x .\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146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.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6294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720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146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2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oduc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6294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720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5146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572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6294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xpan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5720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jemp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146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572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160020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" y="273204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" y="38638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" y="612468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57200" y="1600200"/>
              <a:ext cx="1440" cy="452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5146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20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6294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686800" y="1600200"/>
              <a:ext cx="1440" cy="452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57200" y="499428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= 2*ones(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b=[0,1;2,3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a .*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  %multiplicación elemento a ele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.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 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a .\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.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000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if/el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 MAT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2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3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…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otros else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if/else: 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x=ra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x&lt;1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piedra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x&lt;2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papel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tijeras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pap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539640" y="333360"/>
            <a:ext cx="8220240" cy="6135840"/>
            <a:chOff x="539640" y="333360"/>
            <a:chExt cx="8220240" cy="6135840"/>
          </a:xfrm>
        </p:grpSpPr>
        <p:sp>
          <p:nvSpPr>
            <p:cNvPr id="148" name=""/>
            <p:cNvSpPr/>
            <p:nvPr/>
          </p:nvSpPr>
          <p:spPr>
            <a:xfrm>
              <a:off x="6659640" y="592452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79600" y="592452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39640" y="592452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asign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659640" y="538308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279600" y="538308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9640" y="538308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59640" y="484020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79600" y="484020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9640" y="484020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659640" y="4299120"/>
              <a:ext cx="20984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79600" y="4299120"/>
              <a:ext cx="33800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&lt;  &lt;=  &gt;  &gt;=  == 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39640" y="4299120"/>
              <a:ext cx="27399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relacion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59640" y="3755880"/>
              <a:ext cx="209844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279600" y="3755880"/>
              <a:ext cx="338004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9640" y="3755880"/>
              <a:ext cx="273996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dor 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659640" y="3214800"/>
              <a:ext cx="20984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79600" y="3214800"/>
              <a:ext cx="33800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  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9640" y="3214800"/>
              <a:ext cx="27399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uma, res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659640" y="267192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279600" y="267192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*   /   \   .*   ./   .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39640" y="267192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mult, 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659640" y="213048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279600" y="213048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  - 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 (negación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9640" y="213048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unario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659640" y="158760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279600" y="158760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 . 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9640" y="158760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659640" y="104616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279600" y="104616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  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9640" y="104616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expresión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659640" y="333360"/>
              <a:ext cx="20984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priorida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279600" y="333360"/>
              <a:ext cx="33800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9640" y="333360"/>
              <a:ext cx="273996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Operado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39640" y="333360"/>
              <a:ext cx="8218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39640" y="104616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9640" y="158760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39640" y="213048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39640" y="26719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9640" y="321480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9640" y="375588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39640" y="42991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9640" y="484020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39640" y="538308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39640" y="59245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39640" y="6467400"/>
              <a:ext cx="82184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39640" y="333360"/>
              <a:ext cx="1800" cy="613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279600" y="333360"/>
              <a:ext cx="1800" cy="613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659640" y="333360"/>
              <a:ext cx="1440" cy="613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758080" y="333360"/>
              <a:ext cx="1800" cy="613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w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 instrucciones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i=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&lt;=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=i+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96560"/>
            <a:ext cx="7920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strucción f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1:10 %for variable=v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1:length(a)  %largo de arreg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075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cript M-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vo con instrucciones o comandos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mbre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 crea con editor de MATLAB (u ot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Jalisco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=input(‘nº?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‘te gano con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n+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cució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Jalis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º?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e gano 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cript M-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42472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CuentaRegresiva.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for i=10:-1: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pause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CuentaRegres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use(n): continúa después de n segun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use: continúa cuando usuario presiona tec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es equivalente a waitforbuttonpr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39400"/>
            <a:ext cx="8147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chivos con funciones: M-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907920"/>
            <a:ext cx="8497800" cy="61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%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ction y=cuadrado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=x.^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cuadrado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cuadrado(0: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6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help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39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ATL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764640"/>
            <a:ext cx="8435880" cy="59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nguaje interpretado: instrucciones se ejecutan (interpretan) de inmedia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x = [1 2 3 ; 4 5 6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po de dato fundamental: arreglo de reales de dos dimensiones (escalar es un arreglo de 1x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i = 10  %nombre a la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ones con varios resul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%f23(x): calcula x al cuadrado y al cu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[xx,xxx] = f23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x = 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xx =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vo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[ a b ] = f23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f23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ones internas (local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0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%f23(x): calcula x al cuadrado y al cu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[xx,xxx] = f23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x = 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xx = cubo(x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unction y=cubo(x) %visible en arch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 =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polinom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7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%pol(A,X): evalua pol de coef A en arg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ction y=pol(a,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onentes=0:length(a)-1;  %0 1 … n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tencias=x.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exponentes;  %x ^0, …,x ^(n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=sum(a.*potencia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pol(1:3,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ices de ecuación de 2º gr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%raices(a,b,c): raíces de ax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+bx+c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nction[r1,r2] = raices(a,b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a==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rror(‘no es de 2º grado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=b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 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*a*c; %discrimin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d &l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rror(‘raices imaginarias’) %abo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lseif d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arning(‘raices siguales) %muestra mens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1=(-b + sqrt(d))/(2*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2=(-b - sqrt(d))/(2*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abar y leer arreg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%graba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=zeros(2,100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(1,:)=linspace(0,2*pi,100);%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(2,:)=sin(datos(1,:)); %senos de 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ve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%lee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ad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=datos(1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=datos(2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ot(x,y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spues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 %arreglo de una dimen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dis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;  %suprime “eco” de la in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; dis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reglos(“Vectores”): inicializ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ones(1,5); disp(a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1 fila de 5 columnas con u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zeros(1,5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 1 fila de 5 columnas con c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1: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1:2:9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primero:incremento:últi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linspace(0,1,5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primero, último, nº pu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25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75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rand(1,5) %1 fila de 5 cols c/valores al azar en [0,1[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     0.xxxx     0.xxxx     0.xxxx     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atrices”: inicial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9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rand(2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zeros(2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ones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xación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a = [5 4 3 2 1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         “variable por omisió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5)  % a(en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 = [1 2  3 ; 4 5 6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2,3)    % arreglo(nºfila,nº colum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xación de partes (slic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= [1 2 ; 3 4 ; 5 6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b=a(:,2)   %columna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c=a(1, : )  %fil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d =a(1:2,1)  % primeras 2 filas de col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peradores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(para matrices y escalar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57200" y="1600200"/>
            <a:ext cx="8231040" cy="4527720"/>
            <a:chOff x="457200" y="1600200"/>
            <a:chExt cx="8231040" cy="4527720"/>
          </a:xfrm>
        </p:grpSpPr>
        <p:sp>
          <p:nvSpPr>
            <p:cNvPr id="65" name=""/>
            <p:cNvSpPr/>
            <p:nvPr/>
          </p:nvSpPr>
          <p:spPr>
            <a:xfrm>
              <a:off x="66294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5720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=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5146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asign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6294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-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5146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572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res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6294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5720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+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5146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572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um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6294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5720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/y  =  y\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146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/  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72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294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720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*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5146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oduc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6294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5720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5146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6294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5720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1+2)/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146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…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572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xp intern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294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iorida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5720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jemp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5146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572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57200" y="160020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57200" y="216540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7200" y="273204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57200" y="329724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57200" y="38638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57200" y="44290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7200" y="499428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7200" y="556092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7200" y="6126120"/>
              <a:ext cx="82296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7200" y="1600200"/>
              <a:ext cx="1440" cy="452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5146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720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294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686800" y="1600200"/>
              <a:ext cx="1440" cy="452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2 * ones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b=a/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*b  %multiplicación de matrices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alvarez</dc:creator>
  <dc:description/>
  <dc:language>en-US</dc:language>
  <cp:lastModifiedBy>jalvarez</cp:lastModifiedBy>
  <cp:revision>0</cp:revision>
  <dc:subject/>
  <dc:title>Programación en MATLAB</dc:title>
</cp:coreProperties>
</file>