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EC3B-0CD1-435F-A719-768AB3B3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167E-111D-4274-B134-AD5BC198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602B-9D00-461E-941F-40459DE5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7573-1410-4605-9AC1-3E600287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81A3-8916-4DD9-A6D1-17DFCB07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547A-E573-474C-8FFE-E7923CE6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DA36-84F8-4763-BE65-9A8E7F0F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B0D3-42D2-40BB-92C5-4E5D53C0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18CF-1ACC-4A1F-8A60-A0C343F9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38DE-A310-4E55-994A-6FBBE4D6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96CF-D336-4EAC-ACF2-42227DE7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6DE1-0A76-4CE0-A04C-B3EA01F5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DA3D-139C-4A46-9293-BB48258E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B18B-D92C-4177-87CD-187C89EF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B57A-9860-47C5-9788-99435AC4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7E10-72AB-4BC1-92D5-ADBAD8D7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0240-D05B-455C-B839-79E6E29A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2976-5FA7-40CD-999D-C669B4F2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A262-BE8D-4CE8-A0F7-97C3E82D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8754-3294-452D-AFAC-7E66C6D9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8EF1-88B9-4C8B-8F42-FFAC9A69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8980-FB16-42CB-9526-C554DE4B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2051-03AB-405D-9567-C8E9A650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2BB5-EE97-4C2F-81FB-30E4C5E2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15DB-4717-4C0E-B43F-BEB9FD2031E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D7F0-2C24-4FA0-BE34-2F4E1B5351F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2714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rso de Formación General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007</a:t>
            </a:r>
            <a:br>
              <a:rPr sz="2800"/>
            </a:b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NCEPTOS Y PROBLEMAS FUNDAMENTALES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E ÉTICA Y BIOÉTIC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f. Raúl Villarroel y Equipo doc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Facultad de Filosofía y Human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Escudo U"/>
          <p:cNvPicPr/>
          <p:nvPr/>
        </p:nvPicPr>
        <p:blipFill>
          <a:blip r:embed="rId1"/>
          <a:stretch/>
        </p:blipFill>
        <p:spPr>
          <a:xfrm>
            <a:off x="826920" y="333360"/>
            <a:ext cx="628920" cy="11048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1476360" y="836640"/>
            <a:ext cx="4608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Facultad de Filosofía y Human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Unidad de Formación Gene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valua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Prueba de contenidos 1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Resolución de cuestionario con preguntas de respuesta breve relacionadas con las teorías éticas revis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Prueba de contenidos 2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Resolución de cuestionario con preguntas de respuesta breve relacionadas con los conceptos generales de Bio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Análisis de cas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Informe escrito de seguimiento y análisis de caso que involucre conflictos morales, principalmente bioé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Nota por asistenci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1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Examen de recup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Bibliografía fundament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istótele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a Nicóma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. Kant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Fundamentación de la Metafísica de las Costumb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. S. Mil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El Utilitar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. Cortina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Mín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. Haberma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Conciencia moral y Acción comunic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K. O. Ape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Teoría de la verdad y ética del discur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. Jona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El principio de respons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. Singer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Pr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. Escríbar, M. Pérez, R. Villarroe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Bioética: Fundamentos y Dimensión pr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cadémic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RAÚL VILLARROEL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(Coordinador)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rvillarr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rofesor de Filosofía (UCh) – Magíster en Filosofía (UCh) – Magíster en Bioética (UCh – U. Complutense de Madrid) – Doctor en Filosofía (UCh) – Postdoctorado en Filosofía (U. de Valenc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MANUEL PÉREZ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perez@clinicalascondes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o en Medicina (UCh) – Médico neurólogo (UCh) – Magíster en Bioética (UCh – U. Complutense de Madr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MARCELA FERRER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ferrer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a en Sociología (UCh) – Socióloga (UCh) – Master of Health Sciences (U. de Toron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PAMELA CHÁVEZ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chavez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Licenciada en Filosofía (UC) – Magíster en Filosofía (UCh) – Magíster en Bioética (UCh – U. Complutense de Madrid) – Máster en Educación en Valores (U. de Barcelon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CARLOS RIQUELME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(Ayudante)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lfonso6@gmail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o en Filosofía (UCh) – Magíster en Filosofía (U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5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Descripción gener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28760" y="18568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El curso aborda reflexivamente la revisión de los elementos centrales de la tradición ético-filosófica occidental, dando cuenta de los conceptos y problemas principales manejados por algunas de las más importantes corrientes, escuelas o teorías en la historia del pensamient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Se pretende con ello ofrecer una perspectiva de fundamentación para la posterior revisión y examen crítico de algunas de las problemáticas más relevantes y características del ámbito de la Bioétic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mpetenci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71468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COGNI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abstracción, análisis y sínt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comunicación oral y escr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investigación teó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, plantear y resolver probl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plicar conocimientos teóricos a la prá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mar decisiones fundadas racional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mpetenci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ACTITUDI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ilidad social y compromiso ciudad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é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aloración de la diversidad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aloración de la multicultur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con el medi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con los Derechos Hum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rograma de Curs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r los distintos elementos teóricos constitutivos de la tradición ético-filosófica occidental, mediante la revisión crítica de sus conceptos, teorías y perspectivas fundam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r y distinguir los diferentes elementos teóricos y los problemas principales constitutivos del ámbito de la ética aplic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plicar procedimientos de análisis y deliberación racional en relación con casos y dilemas característicos del mundo act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68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68" fill="hold"/>
                                        <p:tgtEl>
                                          <p:spTgt spid="5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tenidos: 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Módulo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roducción a la ética filosó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orías é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tele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deont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utilitar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procedi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de la responsa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tenidos: 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Módulo 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roducción a la Bio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incipios y Métodos de Bio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blemas del inicio de la v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blemas del final de la v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Problemas de Gé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Derechos Hu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Medio amb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ctividades relevan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5001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lases teóricas presen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visión bibliográ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álisis de ca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s de disc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4:32:54Z</dcterms:created>
  <dc:creator>Raúl Villarroel</dc:creator>
  <dc:description/>
  <dc:language>en-US</dc:language>
  <cp:lastModifiedBy> Raúl Villarroel</cp:lastModifiedBy>
  <dcterms:modified xsi:type="dcterms:W3CDTF">2007-08-22T16:33:44Z</dcterms:modified>
  <cp:revision>61</cp:revision>
  <dc:subject/>
  <dc:title>PROGRAMA ACADÉMICO DE  MAGÍSTER EN BIOÉTICA Ciclo de Bioética fundamental</dc:title>
</cp:coreProperties>
</file>