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0C99-9016-4DBB-9315-6D43FE61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1C0B-EB86-4407-BD7F-7B1303F9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30D4-F0C3-49A6-BDE4-BFFEC982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CD4C-9D18-4900-9C68-1BACA56F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9A30-E6B8-401C-A23C-BCC88FF8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3248-E231-42D0-883D-0CF428EA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DAE1-3DE3-4120-BB2D-64BC4D46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CA5F-9489-4437-BDE4-BE5758A7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BA1B-F2CE-4AC3-81D5-5C0351C8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E712-FF27-4E50-8422-C0334456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2CB0-03C7-45C0-90FF-E37F77F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9547-E472-4A02-BB3D-6234F440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F7F7-D398-4C86-89CA-2E96C6B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E550-8241-4990-B8B4-49508272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FEA1-B764-4E3E-8A7E-E3DB8433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4AD6-30A4-4382-8490-95CC9C56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9136-3B38-490B-B633-8BD46030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4526-91EC-44BB-8F42-AD22F765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8326-5F4F-4923-B6D5-26C0CD24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6A27-8971-4F06-95B8-AF6D7C52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A021-C0C7-447F-BC26-F87F429C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2119-E75D-43CE-AD8F-E758009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3073-6C9D-4A90-8B4E-0298A20C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F427-09B9-4433-8F1A-F92F399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0F69-619A-47E4-B3FA-0F5D8D0C4CA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03C2-9E65-4D82-AE1D-A77C18EF726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271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rso de Formación General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007</a:t>
            </a:r>
            <a:br>
              <a:rPr sz="28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CEPTOS Y PROBLEMAS FUNDAMENTALES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E ÉTICA Y BIOÉTIC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f. Raúl Villarroel y Equip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Escudo U"/>
          <p:cNvPicPr/>
          <p:nvPr/>
        </p:nvPicPr>
        <p:blipFill>
          <a:blip r:embed="rId1"/>
          <a:stretch/>
        </p:blipFill>
        <p:spPr>
          <a:xfrm>
            <a:off x="826920" y="333360"/>
            <a:ext cx="628920" cy="11048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476360" y="836640"/>
            <a:ext cx="4608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dad de Formación Gen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valu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1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as teorías éticas revi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2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os conceptos generales de Bio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Análisis de cas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Informe escrito de seguimiento y análisis de caso que involucre conflictos morales, principalmente bio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Nota por asistenci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Examen de recup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Bibliografía fundament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istótele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a Nicóma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. Kant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Fundamentación de la Metafísica de las Costumb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S. Mil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Utilitar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Cortina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Mín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Haberm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Conciencia moral y Acción comunic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K. O. Ap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eoría de la verdad y ética del discu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. Jon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principio de respons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. Singer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Escríbar, M. Pérez, R. Villarro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Bioética: Fundamentos y Dimensión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adémic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RAÚL VILLARRO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Coordinador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rvillar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fesor de Filosofía (UCh) – Magíster en Filosofía (UCh) – Magíster en Bioética (UCh – U. Complutense de Madrid) – Doctor en Filosofía (UCh) – Postdoctorado en Filosofía (U. de Valenc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NUEL PÉREZ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perez@clinicalascondes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Medicina (UCh) – Médico neurólogo (UCh) – Magíster en Bioética (UCh – U. Complutense de Madr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RCELA FERRER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ferre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a en Sociología (UCh) – Socióloga (UCh) – Master of Health Sciences (U. de Toron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PAMELA CHÁVEZ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chavez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Licenciada en Filosofía (UC) – Magíster en Filosofía (UCh) – Magíster en Bioética (UCh – U. Complutense de Madrid) – Máster en Educación en Valores (U. de Barcelon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CARLOS RIQUELM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Ayudante)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lfonso6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Filosofía (UCh) – Magíster en Filosofía (U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Descripción gener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28760" y="18568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El curso aborda reflexivamente la revisión de los elementos centrales de la tradición ético-filosófica occidental, dando cuenta de los conceptos y problemas principales manejados por algunas de las más importantes corrientes, escuelas o teorías en la historia del pensamient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Se pretende con ello ofrecer una perspectiva de fundamentación para la posterior revisión y examen crítico de algunas de las problemáticas más relevantes y características del ámbito de la Bioétic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71468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COGNI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abstracción, análisis y sín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comunicación oral y escr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investigación teó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, plantear y resolver probl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plicar conocimientos teóricos a la prá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mar decisiones fundadas racional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ACTITUD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ilidad social y compromiso ciudad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é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aloración de la divers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oración de la multicultur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el 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los Derechos Hum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rograma de Curs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los distintos elementos teóricos constitutivos de la tradición ético-filosófica occidental, mediante la revisión crítica de sus conceptos, teorías y perspectiva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y distinguir los diferentes elementos teóricos y los problemas principales constitutivos del ámbito de la ética aplic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plicar procedimientos de análisis y deliberación racional en relación con casos y dilemas característicos del mundo ac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ética filosó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orías é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tele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ont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utilitar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procedi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 la respons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incipios y Métodos de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inicio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final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Problema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Derech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Medio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tividades relevan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500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lases teóricas presen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s de disc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32:54Z</dcterms:created>
  <dc:creator>Raúl Villarroel</dc:creator>
  <dc:description/>
  <dc:language>en-US</dc:language>
  <cp:lastModifiedBy> Raúl Villarroel</cp:lastModifiedBy>
  <dcterms:modified xsi:type="dcterms:W3CDTF">2007-08-22T16:33:44Z</dcterms:modified>
  <cp:revision>61</cp:revision>
  <dc:subject/>
  <dc:title>PROGRAMA ACADÉMICO DE  MAGÍSTER EN BIOÉTICA Ciclo de Bioética fundamental</dc:title>
</cp:coreProperties>
</file>