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3F6B1-56D2-42FA-A8F3-A4A3480AF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F8263-E922-454A-8CC8-06C85D9D3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2BC97-DDDE-4B90-A0DB-6B94A7663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3DE13-2B25-4FED-8B13-71DD29AC5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C1AFC-136C-41E7-A74D-530493E3D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27006-6298-47BC-8278-ABB056FBD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F45D2-CC85-439E-A5A4-56E389297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C2E6F-541C-4444-93B6-A04282E2B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13864-404D-4BD3-8247-9D42979AC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993DC-108D-4FF4-BDCB-ABF58E114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1F398-21F5-43B5-9F4A-1D873BC9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53481-6E6C-4F84-9704-D6997A286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3DE2A-1596-4903-B8CC-E9E4B323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87295-64D7-4552-A97B-95557CE8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22317-AD8D-4887-8E8D-74D9DD916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0FBCE-C972-4270-BC5B-603A14AD1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1833A-CCFF-4C64-A965-F8C391F4E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91BD5-73D8-41EE-A4A3-09A599B5F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F925E-0711-44A1-9125-FDE71D7AA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23FE9-D8FA-4E56-952E-AA9674767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CE277-EF52-4A93-A900-003563B42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AB3A6-FA46-4BF3-AE6D-52C87BCD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3075F-82CF-4529-9400-F80A9D52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3919D-FB25-4EB8-9C66-A628F5BF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CF8FE-7F2B-4E5A-9828-68B33A99C7A9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300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B2309-DDB2-4CF8-AB02-C1164933BBC3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0" y="1856880"/>
            <a:ext cx="9144000" cy="27147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urso de Formación General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2007</a:t>
            </a:r>
            <a:br>
              <a:rPr sz="2800"/>
            </a:b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CONCEPTOS Y PROBLEMAS FUNDAMENTALES 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DE ÉTICA Y BIOÉTICA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0" y="45720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Prof. Raúl Villarroel y Equipo doc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99"/>
                </a:solidFill>
                <a:latin typeface="Arial"/>
              </a:rPr>
              <a:t>Facultad de Filosofía y Human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Picture 4" descr="Escudo U"/>
          <p:cNvPicPr/>
          <p:nvPr/>
        </p:nvPicPr>
        <p:blipFill>
          <a:blip r:embed="rId1"/>
          <a:stretch/>
        </p:blipFill>
        <p:spPr>
          <a:xfrm>
            <a:off x="826920" y="333360"/>
            <a:ext cx="628920" cy="1104840"/>
          </a:xfrm>
          <a:prstGeom prst="rect">
            <a:avLst/>
          </a:prstGeom>
          <a:ln w="0">
            <a:noFill/>
          </a:ln>
        </p:spPr>
      </p:pic>
      <p:sp>
        <p:nvSpPr>
          <p:cNvPr id="517" name="Text Box 5"/>
          <p:cNvSpPr/>
          <p:nvPr/>
        </p:nvSpPr>
        <p:spPr>
          <a:xfrm>
            <a:off x="1476360" y="836640"/>
            <a:ext cx="46083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99"/>
                </a:solidFill>
                <a:latin typeface="Arial"/>
              </a:rPr>
              <a:t>Universidad de Chi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99"/>
                </a:solidFill>
                <a:latin typeface="Arial"/>
              </a:rPr>
              <a:t>Facultad de Filosofía y Humanidad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99"/>
                </a:solidFill>
                <a:latin typeface="Arial"/>
              </a:rPr>
              <a:t>Unidad de Formación Gener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Evaluación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000"/>
                </a:solidFill>
                <a:latin typeface="Arial"/>
              </a:rPr>
              <a:t>Prueba de contenidos 1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(30%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99"/>
                </a:solidFill>
                <a:latin typeface="Arial"/>
              </a:rPr>
              <a:t>Resolución de cuestionario con preguntas de respuesta breve relacionadas con las teorías éticas revisad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000"/>
                </a:solidFill>
                <a:latin typeface="Arial"/>
              </a:rPr>
              <a:t>Prueba de contenidos 2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(30%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99"/>
                </a:solidFill>
                <a:latin typeface="Arial"/>
              </a:rPr>
              <a:t>Resolución de cuestionario con preguntas de respuesta breve relacionadas con los conceptos generales de Bioét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000"/>
                </a:solidFill>
                <a:latin typeface="Arial"/>
              </a:rPr>
              <a:t>Análisis de caso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(30%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99"/>
                </a:solidFill>
                <a:latin typeface="Arial"/>
              </a:rPr>
              <a:t>Informe escrito de seguimiento y análisis de caso que involucre conflictos morales, principalmente bioétic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000"/>
                </a:solidFill>
                <a:latin typeface="Arial"/>
              </a:rPr>
              <a:t>Nota por asistencia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(10%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000"/>
                </a:solidFill>
                <a:latin typeface="Arial"/>
              </a:rPr>
              <a:t>Examen de recuper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Bibliografía fundamental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ristóteles. </a:t>
            </a:r>
            <a:r>
              <a:rPr b="0" i="1" lang="es-ES" sz="2400" spc="-1" strike="noStrike" u="sng">
                <a:solidFill>
                  <a:srgbClr val="ffff00"/>
                </a:solidFill>
                <a:uFillTx/>
                <a:latin typeface="Arial"/>
              </a:rPr>
              <a:t>Ética a Nicóma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. Kant. </a:t>
            </a:r>
            <a:r>
              <a:rPr b="0" i="1" lang="es-ES" sz="2400" spc="-1" strike="noStrike" u="sng">
                <a:solidFill>
                  <a:srgbClr val="ffff00"/>
                </a:solidFill>
                <a:uFillTx/>
                <a:latin typeface="Arial"/>
              </a:rPr>
              <a:t>Fundamentación de la Metafísica de las Costumb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J. S. Mill. </a:t>
            </a:r>
            <a:r>
              <a:rPr b="0" i="1" lang="es-ES" sz="2400" spc="-1" strike="noStrike" u="sng">
                <a:solidFill>
                  <a:srgbClr val="ffff00"/>
                </a:solidFill>
                <a:uFillTx/>
                <a:latin typeface="Arial"/>
              </a:rPr>
              <a:t>El Utilitaris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. Cortina. </a:t>
            </a:r>
            <a:r>
              <a:rPr b="0" i="1" lang="es-ES" sz="2400" spc="-1" strike="noStrike" u="sng">
                <a:solidFill>
                  <a:srgbClr val="ffff00"/>
                </a:solidFill>
                <a:uFillTx/>
                <a:latin typeface="Arial"/>
              </a:rPr>
              <a:t>Ética Míni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J. Habermas. </a:t>
            </a:r>
            <a:r>
              <a:rPr b="0" i="1" lang="es-ES" sz="2400" spc="-1" strike="noStrike" u="sng">
                <a:solidFill>
                  <a:srgbClr val="ffff00"/>
                </a:solidFill>
                <a:uFillTx/>
                <a:latin typeface="Arial"/>
              </a:rPr>
              <a:t>Conciencia moral y Acción comunicati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K. O. Apel. </a:t>
            </a:r>
            <a:r>
              <a:rPr b="0" i="1" lang="es-ES" sz="2400" spc="-1" strike="noStrike" u="sng">
                <a:solidFill>
                  <a:srgbClr val="ffff00"/>
                </a:solidFill>
                <a:uFillTx/>
                <a:latin typeface="Arial"/>
              </a:rPr>
              <a:t>Teoría de la verdad y ética del discur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H. Jonas. </a:t>
            </a:r>
            <a:r>
              <a:rPr b="0" i="1" lang="es-ES" sz="2400" spc="-1" strike="noStrike" u="sng">
                <a:solidFill>
                  <a:srgbClr val="ffff00"/>
                </a:solidFill>
                <a:uFillTx/>
                <a:latin typeface="Arial"/>
              </a:rPr>
              <a:t>El principio de responsabi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. Singer. </a:t>
            </a:r>
            <a:r>
              <a:rPr b="0" i="1" lang="es-ES" sz="2400" spc="-1" strike="noStrike" u="sng">
                <a:solidFill>
                  <a:srgbClr val="ffff00"/>
                </a:solidFill>
                <a:uFillTx/>
                <a:latin typeface="Arial"/>
              </a:rPr>
              <a:t>Ética Prác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. Escríbar, M. Pérez, R. Villarroel. </a:t>
            </a:r>
            <a:r>
              <a:rPr b="0" i="1" lang="es-ES" sz="2400" spc="-1" strike="noStrike" u="sng">
                <a:solidFill>
                  <a:srgbClr val="ffff00"/>
                </a:solidFill>
                <a:uFillTx/>
                <a:latin typeface="Arial"/>
              </a:rPr>
              <a:t>Bioética: Fundamentos y Dimensión prác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Académico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0" y="1428840"/>
            <a:ext cx="89647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000"/>
                </a:solidFill>
                <a:latin typeface="Arial"/>
              </a:rPr>
              <a:t>RAÚL VILLARROEL 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(Coordinador)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      rvillarr@uchile.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66"/>
                </a:solidFill>
                <a:latin typeface="Arial"/>
              </a:rPr>
              <a:t>Profesor de Filosofía (UCh) – Magíster en Filosofía (UCh) – Magíster en Bioética (UCh – U. Complutense de Madrid) – Doctor en Filosofía (UCh) – Postdoctorado en Filosofía (U. de Valenci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000"/>
                </a:solidFill>
                <a:latin typeface="Arial"/>
              </a:rPr>
              <a:t>MANUEL PÉREZ                  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mperez@clinicalascondes.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66"/>
                </a:solidFill>
                <a:latin typeface="Arial"/>
              </a:rPr>
              <a:t>Licenciado en Medicina (UCh) – Médico neurólogo (UCh) – Magíster en Bioética (UCh – U. Complutense de Madr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000"/>
                </a:solidFill>
                <a:latin typeface="Arial"/>
              </a:rPr>
              <a:t>MARCELA FERRER             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mferrer@uchile.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66"/>
                </a:solidFill>
                <a:latin typeface="Arial"/>
              </a:rPr>
              <a:t>Licenciada en Sociología (UCh) – Socióloga (UCh) – Master of Health Sciences (U. de Toront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just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000"/>
                </a:solidFill>
                <a:latin typeface="Arial"/>
              </a:rPr>
              <a:t>PAMELA CHÁVEZ                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chavez@uchile.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99"/>
                </a:solidFill>
                <a:latin typeface="Arial"/>
              </a:rPr>
              <a:t>Licenciada en Filosofía (UC) – Magíster en Filosofía (UCh) – Magíster en Bioética (UCh – U. Complutense de Madrid) – Máster en Educación en Valores (U. de Barcelona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just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000"/>
                </a:solidFill>
                <a:latin typeface="Arial"/>
              </a:rPr>
              <a:t>CARLOS RIQUELME 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(Ayudante)            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alfonso6@gmail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66"/>
                </a:solidFill>
                <a:latin typeface="Arial"/>
              </a:rPr>
              <a:t>Licenciado en Filosofía (UCh) – Magíster en Filosofía (UC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768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768" fill="hold"/>
                                        <p:tgtEl>
                                          <p:spTgt spid="5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" dur="768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" dur="768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5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5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Descripción general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428760" y="1856880"/>
            <a:ext cx="8229600" cy="45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649"/>
              </a:spcBef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El curso aborda reflexivamente la revisión de los elementos centrales de la tradición ético-filosófica occidental, dando cuenta de los conceptos y problemas principales manejados por algunas de las más importantes corrientes, escuelas o teorías en la historia del pensamiento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spcBef>
                <a:spcPts val="649"/>
              </a:spcBef>
              <a:buSzPct val="1266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Se pretende con ello ofrecer una perspectiva de fundamentación para la posterior revisión y examen crítico de algunas de las problemáticas más relevantes y características del ámbito de la Bioética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Competencia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57200" y="1714680"/>
            <a:ext cx="86868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000"/>
                </a:solidFill>
                <a:latin typeface="Arial"/>
              </a:rPr>
              <a:t>COGNITIV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pacidad de abstracción, análisis y sínte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pacidad de comunicación oral y escri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pacidad de investigación teó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dentificar, plantear y resolver proble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plicar conocimientos teóricos a la práct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omar decisiones fundadas racionalm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Competencia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457200" y="1600200"/>
            <a:ext cx="86868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000"/>
                </a:solidFill>
                <a:latin typeface="Arial"/>
              </a:rPr>
              <a:t>ACTITUDIN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sponsabilidad social y compromiso ciudada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mpromiso ét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aloración de la diversidad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Valoración de la multicultural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mpromiso con el medio amb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mpromiso con los Derechos Human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Programa de Curs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28760" y="1357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Arial"/>
              </a:rPr>
              <a:t>Obje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>
              <a:spcBef>
                <a:spcPts val="601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dentificar los distintos elementos teóricos constitutivos de la tradición ético-filosófica occidental, mediante la revisión crítica de sus conceptos, teorías y perspectivas fundament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dentificar y distinguir los diferentes elementos teóricos y los problemas principales constitutivos del ámbito de la ética aplica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plicar procedimientos de análisis y deliberación racional en relación con casos y dilemas característicos del mundo act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768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768" fill="hold"/>
                                        <p:tgtEl>
                                          <p:spTgt spid="5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" dur="768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" dur="768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Contenidos: </a:t>
            </a: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Módulo 1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ntroducción a la ética filosóf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eorías étic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Ética teleológ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Ética deontológ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Ética utilitaris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Ética procedimen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Ética de la responsabil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Contenidos: </a:t>
            </a: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Módulo 2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ntroducción a la Bioét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rincipios y Métodos de Bioét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roblemas del inicio de la vi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roblemas del final de la vi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Bioética y Problemas de Gén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Bioética y Derechos Human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Bioética y Medio ambi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Actividades relevant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500040" y="150012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lases teóricas presenci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Revisión bibliográf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nálisis de cas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Grupos de discus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7T14:32:54Z</dcterms:created>
  <dc:creator>Raúl Villarroel</dc:creator>
  <dc:description/>
  <dc:language>en-US</dc:language>
  <cp:lastModifiedBy> Raúl Villarroel</cp:lastModifiedBy>
  <dcterms:modified xsi:type="dcterms:W3CDTF">2007-08-22T16:33:44Z</dcterms:modified>
  <cp:revision>61</cp:revision>
  <dc:subject/>
  <dc:title>PROGRAMA ACADÉMICO DE  MAGÍSTER EN BIOÉTICA Ciclo de Bioética fundamental</dc:title>
</cp:coreProperties>
</file>