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DD18-467C-4D23-B502-0EAD96FD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BE1F-DED1-459C-9F24-193D7AE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7046-49C7-468E-8BEA-8846D88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C85C-2872-4C8B-A123-05CBCB7D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7AB2-48E0-4BB3-94C3-EF49E90F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6237-1E88-49ED-9A69-1A55BB1C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4723-4CEC-4907-9AA6-73ABCE2B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D960-48EC-4BDA-A640-64741730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504-6588-47C4-AE0D-5684B2C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871-A35B-4D57-9510-EA7716BF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7C4B-7B2A-4DA2-A6FF-5856AFC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163F-9065-4609-95E1-00FE5B01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EF5A-BC2A-477C-A505-1406F0E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E773-0529-409F-90C5-51389E1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B9FF-293B-4720-975F-C7EC4A8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FAC9-57EA-4297-95C2-EF72834A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78F2-6B2E-4502-BC74-033030BC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6109-D297-4319-A45A-D5BB29E8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CA35-E831-4756-9934-021C22AE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2C1C-42DC-41ED-9EF5-7A0CDC6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CF1A-37AF-477F-BE4E-C39F53BA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CD87-EC90-4C20-BBD8-362C787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4FAB-12AA-4112-B041-ADD5B41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8495-5677-4675-A97F-FCFC611A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2DD4-AA41-40B2-8F37-832BDDD0D15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57E-62E5-4998-BD99-D762D3DB8AA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so de Formación General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007</a:t>
            </a:r>
            <a:br>
              <a:rPr sz="2800"/>
            </a:b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CEPTOS Y PROBLEMAS FUNDAMENTALES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E ÉTICA Y BIOÉTIC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f. Raúl Villarroel y Equipo doc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Escudo U"/>
          <p:cNvPicPr/>
          <p:nvPr/>
        </p:nvPicPr>
        <p:blipFill>
          <a:blip r:embed="rId1"/>
          <a:stretch/>
        </p:blipFill>
        <p:spPr>
          <a:xfrm>
            <a:off x="826920" y="333360"/>
            <a:ext cx="628920" cy="1104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476360" y="836640"/>
            <a:ext cx="46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Facultad de Filosofía y Human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Unidad de Formación Gene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1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as teorías éticas revis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Prueba de contenidos 2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Resolución de cuestionario con preguntas de respuesta breve relacionadas con los conceptos generales de Bio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Análisis de cas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3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Informe escrito de seguimiento y análisis de caso que involucre conflictos morales, principalmente bio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Nota por asistenci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Examen de recup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 fundament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istótele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a Nicóma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. Kant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Fundamentación de la Metafísica de las Costumb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S. Mil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Utilita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Cortina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Mín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J. Haberm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Conciencia moral y Acción comunic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K. O. Ap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eoría de la verdad y ética del dis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. Jonas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El principio de respons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. Singer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Étic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. Escríbar, M. Pérez, R. Villarroel. </a:t>
            </a:r>
            <a:r>
              <a:rPr b="0" i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oética: Fundamentos y Dimensión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adémic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RAÚL VILLARRO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Coordinador)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rvillar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fesor de Filosofía (UCh) – Magíster en Filosofía (UCh) – Magíster en Bioética (UCh – U. Complutense de Madrid) – Doctor en Filosofía (UCh) – Postdoctorado en Filosofía (U. de Valenc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NUEL PÉREZ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perez@clinicalascondes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Medicina (UCh) – Médico neurólogo (UCh) – Magíster en Bioética (UCh – U. Complutense de Madr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MARCELA FERRER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ferrer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a en Sociología (UCh) – Socióloga (UCh) – Master of Health Sciences (U. de Toron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PAMELA CHÁVEZ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chavez@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99"/>
                </a:solidFill>
                <a:latin typeface="Arial"/>
              </a:rPr>
              <a:t>Licenciada en Filosofía (UC) – Magíster en Filosofía (UCh) – Magíster en Bioética (UCh – U. Complutense de Madrid) – Máster en Educación en Valores (U. de Barcelon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Arial"/>
              </a:rPr>
              <a:t>CARLOS RIQUELM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(Ayudante)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lfonso6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icenciado en Filosofía (UCh) – Magíster en Filosofía (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Descripción gene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8568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El curso aborda reflexivamente la revisión de los elementos centrales de la tradición ético-filosófica occidental, dando cuenta de los conceptos y problemas principales manejados por algunas de las más importantes corrientes, escuelas o teorías en la historia del pensa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e pretende con ello ofrecer una perspectiva de fundamentación para la posterior revisión y examen crítico de algunas de las problemáticas más relevantes y características del ámbito de la Bioétic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7146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COGN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abstracción, análisis y sínt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comunicación oral y escr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pacidad de investigación teó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, plantear y resolver probl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plicar conocimientos teóricos a la prá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mar decisiones fundadas racion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mpetenci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ACTITUD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ilidad social y compromiso ciudad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é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aloración de la divers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oración de la multicultur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el 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romiso con los Derechos Hu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Programa de Curs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los distintos elementos teóricos constitutivos de la tradición ético-filosófica occidental, mediante la revisión crítica de sus conceptos, teorías y perspectiva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r y distinguir los diferentes elementos teóricos y los problemas principales constitutivos del ámbito de la ética apl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plicar procedimientos de análisis y deliberación racional en relación con casos y dilemas característicos del mundo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5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ética filosó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orías é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tele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ont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utilitar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procedi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Ética de la respons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: 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Módulo 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la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incipios y Métodos de Bioé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inicio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blemas d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Problema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Derech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ioética y Medio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ctividade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500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lases teóricas presen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upos de disc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32:54Z</dcterms:created>
  <dc:creator>Raúl Villarroel</dc:creator>
  <dc:description/>
  <dc:language>en-US</dc:language>
  <cp:lastModifiedBy> Raúl Villarroel</cp:lastModifiedBy>
  <dcterms:modified xsi:type="dcterms:W3CDTF">2007-08-22T16:33:44Z</dcterms:modified>
  <cp:revision>61</cp:revision>
  <dc:subject/>
  <dc:title>PROGRAMA ACADÉMICO DE  MAGÍSTER EN BIOÉTICA Ciclo de Bioética fundamental</dc:title>
</cp:coreProperties>
</file>