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49D-40BC-46A2-A4BE-7A1E9A01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38B-0913-4CB3-ACB7-1648EB69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F0C-023B-4808-B6E7-5B7C3379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356-ACB3-4862-8186-03040358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A73-E0CE-4B52-9B6B-D288CFA8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FA3-6AB2-4B6C-91F9-8A9513C3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CD6-D549-4500-8F59-3468C265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4C7-5367-49BA-979A-F54FE2A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C33-D36D-478B-ACAB-DEF10136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D30-ADBC-4ED0-9332-C121B85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231-0CBA-4E0D-A0AA-6E88F9D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E50-AA3A-4C56-B033-2B3BDCAB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E3C0-21BD-434F-974C-7695BA08D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EM753</a:t>
            </a:r>
            <a:br>
              <a:rPr sz="4000"/>
            </a:b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troducción al Procesamiento Digital de Imáge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Víctor Castañe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: Gaussian Mixture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un modelo del fondo (un modelo Gaussiano para cada pixe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zonas de movimiento son los píxeles que no se asemejan al model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dapta al fondo (para pequeñas variacione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to para imágenes grand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basado en Image Subst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WindowsMediaPlayer1"/>
          <p:cNvGraphicFramePr/>
          <p:nvPr/>
        </p:nvGraphicFramePr>
        <p:xfrm>
          <a:off x="2341440" y="2886120"/>
          <a:ext cx="50230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2886120"/>
                    <a:ext cx="50230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Se discretiza el movimiento - se considera una secuencia de imágenes “estáticas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incipal reto es el apareamiento o match de puntos correspondientes en imágenes consecutiv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iderando que el movimiento entre imágenes consecutivas es pequeño, se pueden aplicar las siguientes lógicas para el seguimient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sición Cerca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locidad y distancia máx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rcia, cambios pequeños en velocid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mú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stenc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noci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ta información se utiliza para el seguir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consiste en determinar la posición y velocidad de un punto (región, objeto) en una imagen, dada su posición y velocidad en una secuencia anterior de imáge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 dificultad del seguimiento es el reconocimiento del objeto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se puede realizar en base 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tridimensionales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aracterísticas de la imagen (puntos, línea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deformab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Reg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xisten diversos métodos para tracking, entre estos se encuentra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iltros de Kalm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de simulación (condensació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heurístic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jemplo: seguimiento en base a co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680" y="42667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localiza la mano en base a color y se segmenta una región aproximada (rectángulo interio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región en la siguiente imagen en una vecindad a la región previa (rectángulo exterior) – heurísticas de velocidad y distancia máxi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71600" y="1371600"/>
            <a:ext cx="5715000" cy="2365200"/>
            <a:chOff x="1371600" y="1371600"/>
            <a:chExt cx="5715000" cy="23652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371600" y="1371600"/>
              <a:ext cx="57150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1371600" y="1371600"/>
              <a:ext cx="5715000" cy="23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628640"/>
            <a:ext cx="8153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genera un modelo en el espacio de colores del objeto a segui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posición del modelo más parecido al modelo en una vecindad de la posición del objeto en el frame anteri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modelo debe ser entregado como inform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 independiente del fond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nsible a la variación de color o iluminación del 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WindowsMediaPlayer1"/>
          <p:cNvGraphicFramePr/>
          <p:nvPr/>
        </p:nvGraphicFramePr>
        <p:xfrm>
          <a:off x="1527120" y="2100240"/>
          <a:ext cx="6089760" cy="40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2100240"/>
                    <a:ext cx="60897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 y Seguimiento (Track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800" y="2514240"/>
            <a:ext cx="5410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Ejemp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l análisis de una secuencia de imágenes permite obtener información del movimiento de obje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l problema básico es integrar la información de dos o más imágenes dentro de una secuenc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rmalmente se considera que pasa poco tiempo entre las imágenes, de forma que imágenes consecutivas son simila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ueden existir diferentes movimient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el obje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la cáma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n amb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oblema básico es detectar las zonas de la imagen que tiene variación de un frame a otro =&gt;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xisten dos tendencias para detectar movimiento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Almacenan los frames con movimiento en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empo, con una suma ponderada de las detecciones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conjun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596124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11760" y="586116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1840" y="57736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9600" y="56674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58972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724280"/>
            <a:ext cx="93636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8520" y="5157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380360" y="5229360"/>
            <a:ext cx="431640" cy="50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3440" y="2349360"/>
            <a:ext cx="4570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e restan dos imágenes consecutiv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Las variaciones son resaltadas para la selección de las zonas de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a variaciones en forma rápida (resta de imágen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ita fondo fijo para funcionar bi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le al ruido de la cáma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5705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17:57:02Z</dcterms:created>
  <dc:creator>Programa Portátiles ITESM</dc:creator>
  <dc:description/>
  <dc:language>en-US</dc:language>
  <cp:lastModifiedBy>User</cp:lastModifiedBy>
  <dcterms:modified xsi:type="dcterms:W3CDTF">2007-10-09T22:04:56Z</dcterms:modified>
  <cp:revision>175</cp:revision>
  <dc:subject/>
  <dc:title>Procesamiento de Imágenes y Visión Computacional</dc:title>
</cp:coreProperties>
</file>