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697-E6F1-477A-B655-712201AA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2C4-4182-4DA0-B276-EF61332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AA5-DDAC-4E42-A555-B126C5C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13D-B173-47D3-B6BF-B99F2379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5B4-4536-45D5-BCB7-083062E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0A9-F21A-491B-A766-515B7A6A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9F2-3A89-42F2-A0F1-37BA19A3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D6C-E1B7-4C1D-A8DC-AF690E87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F74-FD45-4C69-BF84-9EBF7DD1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838-5944-4989-952F-7CE5167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6EB-9429-4A07-AB2F-64CB9EF5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1CD-57FA-4E5E-BA24-D4BE9424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D368-0B85-4083-B9E7-B23AD68BB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EM753</a:t>
            </a:r>
            <a:br>
              <a:rPr sz="4000"/>
            </a:b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troducción al Procesamiento Digital de Imáge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Víctor Castañe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: Gaussian Mixture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un modelo del fondo (un modelo Gaussiano para cada pixe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zonas de movimiento son los píxeles que no se asemejan al model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dapta al fondo (para pequeñas variacione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to para imágenes gran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basado en Image Subst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WindowsMediaPlayer1"/>
          <p:cNvGraphicFramePr/>
          <p:nvPr/>
        </p:nvGraphicFramePr>
        <p:xfrm>
          <a:off x="2341440" y="2886120"/>
          <a:ext cx="50230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1440" y="2886120"/>
                    <a:ext cx="50230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Se discretiza el movimiento - se considera una secuencia de imágenes “estáticas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incipal reto es el apareamiento o match de puntos correspondientes en imágenes consecutiv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iderando que el movimiento entre imágenes consecutivas es pequeño, se pueden aplicar las siguientes lógicas para el seguimient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sición Cerca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locidad y distancia máx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ercia, cambios pequeños en velocid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mú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stenc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vimiento conoci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ta información se utiliza para el seguir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consiste en determinar la posición y velocidad de un punto (región, objeto) en una imagen, dada su posición y velocidad en una secuencia anterior de imáge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 dificultad del seguimiento es el reconocimiento del objeto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seguimiento se puede realizar en base 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tridimensionales de objet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aracterísticas de la imagen (puntos, línea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odelos deformab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Reg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xisten diversos métodos para tracking, entre estos se encuentra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iltros de Kalm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de simulación (condensació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Técnicas heurístic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jemplo: seguimiento en base a co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680" y="42667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localiza la mano en base a color y se segmenta una región aproximada (rectángulo interio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región en la siguiente imagen en una vecindad a la región previa (rectángulo exterior) – heurísticas de velocidad y distancia máxi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71600" y="1371600"/>
            <a:ext cx="5715000" cy="2365200"/>
            <a:chOff x="1371600" y="1371600"/>
            <a:chExt cx="5715000" cy="2365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371600"/>
              <a:ext cx="57150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1371600" y="1371600"/>
              <a:ext cx="5715000" cy="23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628640"/>
            <a:ext cx="81532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genera un modelo en el espacio de colores del objeto a segui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 busca la posición del modelo más parecido al modelo en una vecindad de la posición del objeto en el frame anteri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l modelo debe ser entregado como inform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Es independiente del fond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Sensible a la variación de color o iluminación del obje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jemplo: Mean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WindowsMediaPlayer1"/>
          <p:cNvGraphicFramePr/>
          <p:nvPr/>
        </p:nvGraphicFramePr>
        <p:xfrm>
          <a:off x="1527120" y="2100240"/>
          <a:ext cx="60897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2100240"/>
                    <a:ext cx="60897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 y Seguimiento (Track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2514240"/>
            <a:ext cx="5410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Seguimiento (Tracking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Ejemp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l análisis de una secuencia de imágenes permite obtener información del movimiento de obje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 problema básico es integrar la información de dos o más imágenes dentro de una secuenc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rmalmente se considera que pasa poco tiempo entre las imágenes, de forma que imágenes consecutivas son simila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ueden existir diferentes movimiento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el obje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 la cáma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mueven amb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l problema básico es detectar las zonas de la imagen que tiene variación de un frame a otro =&gt; Movi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Times New Roman"/>
              </a:rPr>
              <a:t>Existen dos tendencias para detectar movimiento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Almacenan los frames con movimiento en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empo, con una suma ponderada de las detecciones en cada fra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iene la historia del movimien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conju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596124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11760" y="586116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11840" y="57736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9600" y="566748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589720"/>
            <a:ext cx="93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724280"/>
            <a:ext cx="93636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5157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380360" y="5229360"/>
            <a:ext cx="43164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otion History Im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3440" y="2349360"/>
            <a:ext cx="457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e restan dos imágenes consecutiv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Las variaciones son resaltadas para la selección de las zonas de movimie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a variaciones en forma rápida (resta de imágen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ita fondo fijo para funcionar bi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le al ruido de la cáma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65"/>
            </a:gs>
            <a:gs pos="5000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tección de Movimient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Image Subst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2349360"/>
            <a:ext cx="4570560" cy="365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5705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7:57:02Z</dcterms:created>
  <dc:creator>Programa Portátiles ITESM</dc:creator>
  <dc:description/>
  <dc:language>en-US</dc:language>
  <cp:lastModifiedBy>User</cp:lastModifiedBy>
  <dcterms:modified xsi:type="dcterms:W3CDTF">2007-10-09T22:04:56Z</dcterms:modified>
  <cp:revision>175</cp:revision>
  <dc:subject/>
  <dc:title>Procesamiento de Imágenes y Visión Computacional</dc:title>
</cp:coreProperties>
</file>