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612C-2CA0-45FD-B215-2312AA4E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099-EBA1-4C59-86E4-90424452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04F-3CC4-41FD-B082-3849F95A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FAAE-937B-44C6-96A8-07EAF23F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6A1-1798-422A-99EF-B15ED9F6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0BF5-0B07-4DC5-BFB6-D12EDEF8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C76-F5F4-49F2-AA0D-A0493112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EDA-FA0D-40AE-863E-C211772E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CCE-7389-4173-A2C8-6B954043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AE0-3218-48CC-872C-AEAA9786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1053-EB59-43B1-B3A5-506D4077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D644-93D5-4BE1-B654-253C6B86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FAA7-25F3-4D27-B076-7B352E813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EM753</a:t>
            </a:r>
            <a:br>
              <a:rPr sz="4000"/>
            </a:b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Introducción al Procesamiento Digital de Imágen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imes New Roman"/>
              </a:rPr>
              <a:t>Víctor Castañed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M: Gaussian Mixture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 un modelo del fondo (un modelo Gaussiano para cada pixel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zonas de movimiento son los píxeles que no se asemejan al modelo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adapta al fondo (para pequeñas variacione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to para imágenes grand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basado en Image Substra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" name="WindowsMediaPlayer1"/>
          <p:cNvGraphicFramePr/>
          <p:nvPr/>
        </p:nvGraphicFramePr>
        <p:xfrm>
          <a:off x="2341440" y="2886120"/>
          <a:ext cx="502308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1440" y="2886120"/>
                    <a:ext cx="502308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eguimiento (Tracking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Times New Roman"/>
              </a:rPr>
              <a:t>Se discretiza el movimiento - se considera una secuencia de imágenes “estáticas”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Times New Roman"/>
              </a:rPr>
              <a:t>El principal reto es el apareamiento o match de puntos correspondientes en imágenes consecutiva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eguimiento (Tracking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nsiderando que el movimiento entre imágenes consecutivas es pequeño, se pueden aplicar las siguientes lógicas para el seguimiento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osición Cercan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elocidad y distancia máxim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ercia, cambios pequeños en velocida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vimiento comú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istenc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vimiento conocid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eguimiento (Tracking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sta información se utiliza para el seguir de objeto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l seguimiento consiste en determinar la posición y velocidad de un punto (región, objeto) en una imagen, dada su posición y velocidad en una secuencia anterior de imágen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La dificultad del seguimiento es el reconocimiento del objeto en cada fram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eguimiento (Tracking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l seguimiento se puede realizar en base a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Modelos tridimensionales de objeto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Características de la imagen (puntos, línea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Modelos deformabl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Region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xisten diversos métodos para tracking, entre estos se encuentran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Filtros de Kalma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Técnicas de simulación (condensación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Técnicas heurística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Ejemplo: seguimiento en base a col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1680" y="42667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Se localiza la mano en base a color y se segmenta una región aproximada (rectángulo interio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Se busca la región en la siguiente imagen en una vecindad a la región previa (rectángulo exterior) – heurísticas de velocidad y distancia máxim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71600" y="1371600"/>
            <a:ext cx="5715000" cy="2365200"/>
            <a:chOff x="1371600" y="1371600"/>
            <a:chExt cx="5715000" cy="23652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1371600" y="1371600"/>
              <a:ext cx="571500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 txBox="1"/>
            <p:nvPr/>
          </p:nvSpPr>
          <p:spPr>
            <a:xfrm>
              <a:off x="1371600" y="1371600"/>
              <a:ext cx="5715000" cy="236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Ejemplo: MeanShif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680" y="1628640"/>
            <a:ext cx="81532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Se genera un modelo en el espacio de colores del objeto a seguir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Se busca la posición del modelo más parecido al modelo en una vecindad de la posición del objeto en el frame anteri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l modelo debe ser entregado como informació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s independiente del fond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Sensible a la variación de color o iluminación del obje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Ejemplo: MeanShif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WindowsMediaPlayer1"/>
          <p:cNvGraphicFramePr/>
          <p:nvPr/>
        </p:nvGraphicFramePr>
        <p:xfrm>
          <a:off x="1527120" y="2100240"/>
          <a:ext cx="6089760" cy="40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2100240"/>
                    <a:ext cx="608976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Detección de Movimiento y Seguimiento (Tracking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828800" y="2514240"/>
            <a:ext cx="5410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Introducció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Seguimiento (Tracking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Ejempl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l análisis de una secuencia de imágenes permite obtener información del movimiento de objet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l problema básico es integrar la información de dos o más imágenes dentro de una secuenc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rmalmente se considera que pasa poco tiempo entre las imágenes, de forma que imágenes consecutivas son simila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ueden existir diferentes movimientos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e mueve el objet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e mueve la cáma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e mueven amb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Times New Roman"/>
              </a:rPr>
              <a:t>El problema básico es detectar las zonas de la imagen que tiene variación de un frame a otro =&gt; Movimient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Times New Roman"/>
              </a:rPr>
              <a:t>Existen dos tendencias para detectar movimiento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Motion History Imag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Image Substrac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429264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Motion History Imag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Almacenan los frames con movimiento en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iempo, con una suma ponderada de las detecciones en cada fram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iene la historia del movimien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: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iene la historia del movimient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a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ción conjunt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29320" y="5961240"/>
            <a:ext cx="9367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11760" y="5861160"/>
            <a:ext cx="9367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11840" y="5773680"/>
            <a:ext cx="9367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9600" y="5667480"/>
            <a:ext cx="9367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77080" y="5589720"/>
            <a:ext cx="9367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96360" y="4724280"/>
            <a:ext cx="93636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8520" y="51577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380360" y="5229360"/>
            <a:ext cx="431640" cy="504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Motion History Im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0" y="2349360"/>
            <a:ext cx="4570560" cy="3656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3440" y="2349360"/>
            <a:ext cx="4570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Image Substrac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Se restan dos imágenes consecutiva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Las variaciones son resaltadas para la selección de las zonas de movimien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Pro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a variaciones en forma rápida (resta de imágene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a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esita fondo fijo para funcionar bie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ble al ruido de la cámar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Image Subst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40" y="2349360"/>
            <a:ext cx="4570560" cy="3656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0" y="2349360"/>
            <a:ext cx="457056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1T17:57:02Z</dcterms:created>
  <dc:creator>Programa Portátiles ITESM</dc:creator>
  <dc:description/>
  <dc:language>en-US</dc:language>
  <cp:lastModifiedBy>User</cp:lastModifiedBy>
  <dcterms:modified xsi:type="dcterms:W3CDTF">2007-10-09T22:04:56Z</dcterms:modified>
  <cp:revision>175</cp:revision>
  <dc:subject/>
  <dc:title>Procesamiento de Imágenes y Visión Computacional</dc:title>
</cp:coreProperties>
</file>