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91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250920" y="9216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Depto. Ingeniería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Área de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85840" y="6442200"/>
            <a:ext cx="8605800" cy="0"/>
          </a:xfrm>
          <a:prstGeom prst="line">
            <a:avLst/>
          </a:prstGeom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8200" y="915840"/>
            <a:ext cx="8605800" cy="0"/>
          </a:xfrm>
          <a:prstGeom prst="line">
            <a:avLst/>
          </a:prstGeom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300720" y="6424560"/>
            <a:ext cx="3780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EM736 2007  Profs.: F. Aguirre-Leo, C. Herman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Aux.: Ricardo Fuentes 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CV%2025-07-%202006.xls" TargetMode="External"/><Relationship Id="rId2" Type="http://schemas.openxmlformats.org/officeDocument/2006/relationships/hyperlink" Target="file:///TCV%2025-07-%202006.xls" TargetMode="External"/><Relationship Id="rId3" Type="http://schemas.openxmlformats.org/officeDocument/2006/relationships/hyperlink" Target="file:///../../borrar/SCN_20060804170412.pdf" TargetMode="External"/><Relationship Id="rId4" Type="http://schemas.openxmlformats.org/officeDocument/2006/relationships/hyperlink" Target="file:///TCV%2025-07-%202007.xls" TargetMode="External"/><Relationship Id="rId5" Type="http://schemas.openxmlformats.org/officeDocument/2006/relationships/hyperlink" Target="file:///Cmg%20real%20enero-julio%202006.rpt_prom_cmg_mensual.xls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roblema_a_resolver_v2.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125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99"/>
                </a:solidFill>
                <a:uFillTx/>
                <a:latin typeface="Trebuchet MS"/>
              </a:rPr>
              <a:t>AUXILIAR 1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: Programación de la operación y transferencia de energía entre empresas integrantes de los CD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¿Qué es un CDEC? (Art. 225 DFL4/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04960" y="2468520"/>
            <a:ext cx="7534080" cy="2533680"/>
            <a:chOff x="804960" y="2468520"/>
            <a:chExt cx="7534080" cy="25336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804960" y="2468520"/>
              <a:ext cx="7534080" cy="25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4960" y="4076640"/>
              <a:ext cx="7534080" cy="9255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8360" y="2468520"/>
            <a:ext cx="1654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rebuchet MS"/>
              </a:rPr>
              <a:t>Artículo 225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052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¿ Cómo los CDEC`s debe efectuar la programación de la operación de las unidades generadoras</a:t>
            </a: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? </a:t>
            </a: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(Art. 137 DFL4/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8480" y="3284640"/>
            <a:ext cx="7643880" cy="29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8480" y="3284640"/>
            <a:ext cx="7643880" cy="360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52760"/>
            <a:ext cx="176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rebuchet MS"/>
              </a:rPr>
              <a:t>Artículo 137º</a:t>
            </a: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52640"/>
            <a:ext cx="864216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Ejemplo de Tabla de Costo Variable 25 de julio de 2006 del SING (Lista de Mér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    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cv250706 </a:t>
            </a:r>
            <a:r>
              <a:rPr b="0" lang="es-ES_tradnl" sz="1000" spc="-1" strike="noStrike">
                <a:solidFill>
                  <a:srgbClr val="000000"/>
                </a:solidFill>
                <a:latin typeface="Trebuchet MS"/>
              </a:rPr>
              <a:t>(Fuente: CDEC-S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Ejemplo de Tabla de Costo Variable 25 de julio de 2006 del SING (Lista de Mér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   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cv250707</a:t>
            </a: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Trebuchet MS"/>
              </a:rPr>
              <a:t>(Fuente: CDEC-S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Evolución CMg promedio mensual 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Trebuchet MS"/>
                <a:hlinkClick r:id="rId5"/>
              </a:rPr>
              <a:t>Cmg_Prom_Mensual</a:t>
            </a:r>
            <a:r>
              <a:rPr b="0" lang="es-ES_tradnl" sz="1000" spc="-1" strike="noStrike">
                <a:solidFill>
                  <a:srgbClr val="000000"/>
                </a:solidFill>
                <a:latin typeface="Trebuchet MS"/>
              </a:rPr>
              <a:t> (Fuente: CDEC-S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52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¿ Qué son y cómo se efectúan las transferencia de energía entre las empresas integrantes de los CDEC`s? (Art. 256 y 257 DS327/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24040" y="1900080"/>
            <a:ext cx="7495920" cy="3057840"/>
            <a:chOff x="824040" y="1900080"/>
            <a:chExt cx="7495920" cy="30578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24040" y="1900080"/>
              <a:ext cx="7495920" cy="30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24040" y="2997360"/>
              <a:ext cx="7495920" cy="431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4040" y="4292640"/>
              <a:ext cx="7495920" cy="665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55640" y="1771560"/>
            <a:ext cx="7412040" cy="2017800"/>
            <a:chOff x="755640" y="1771560"/>
            <a:chExt cx="7412040" cy="20178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798480" y="1771560"/>
              <a:ext cx="736920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755640" y="2921040"/>
              <a:ext cx="735804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55640" y="2424240"/>
              <a:ext cx="7412040" cy="13651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48000" y="12445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(Art. 149 DFL4/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2360" y="1700280"/>
            <a:ext cx="172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rebuchet MS"/>
              </a:rPr>
              <a:t>Artículo 149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39040" y="1700280"/>
            <a:ext cx="878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rebuchet MS"/>
              </a:rPr>
              <a:t>147º </a:t>
            </a: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5800" y="2852640"/>
            <a:ext cx="115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rebuchet MS"/>
              </a:rPr>
              <a:t>137º, </a:t>
            </a: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será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67680" y="2565360"/>
            <a:ext cx="0" cy="8636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052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jemplo de valorización de transferencia de energía entre ge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0800" y="2030400"/>
            <a:ext cx="1167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Ejemp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1082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cuación negocio gen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3716280"/>
          <a:ext cx="6121440" cy="14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716280"/>
                    <a:ext cx="6121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5:55:58Z</dcterms:created>
  <dc:creator/>
  <dc:description/>
  <dc:language>en-US</dc:language>
  <cp:lastModifiedBy/>
  <dcterms:modified xsi:type="dcterms:W3CDTF">2007-07-30T23:16:07Z</dcterms:modified>
  <cp:revision>102</cp:revision>
  <dc:subject/>
  <dc:title>Diapositiva 1</dc:title>
</cp:coreProperties>
</file>