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907588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40" y="0"/>
            <a:ext cx="9949680" cy="7000560"/>
            <a:chOff x="-3240" y="0"/>
            <a:chExt cx="9949680" cy="7000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465200" y="182520"/>
              <a:ext cx="8440920" cy="63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3240" y="762120"/>
              <a:ext cx="9906120" cy="56116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906120" cy="762120"/>
            </a:xfrm>
            <a:prstGeom prst="rect">
              <a:avLst/>
            </a:prstGeom>
            <a:gradFill rotWithShape="0">
              <a:gsLst>
                <a:gs pos="0">
                  <a:srgbClr val="c0d8c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73800"/>
              <a:ext cx="9906120" cy="48420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6ca6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79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014960" y="6359400"/>
              <a:ext cx="2931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</a:rPr>
                <a:t>EL67F Gestión de la Distribución de Energía Eléct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</a:rPr>
                <a:t>Juan Alberto Bravo Cer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</a:rPr>
                <a:t>Depto. de Ingeniería Eléct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ffffff"/>
                  </a:solidFill>
                  <a:latin typeface="Arial"/>
                </a:rPr>
                <a:t>Universidad de Chile  /  primavera 200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217080" indent="0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Univer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29600" y="2418840"/>
            <a:ext cx="47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0"/>
                </a:solidFill>
                <a:latin typeface="Comic Sans MS"/>
              </a:rPr>
              <a:t>GESTIÓN DE LA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0"/>
                </a:solidFill>
                <a:latin typeface="Comic Sans MS"/>
              </a:rPr>
              <a:t>DE ENERGÍA ELÉ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56440" y="18936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L67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040" y="5293080"/>
            <a:ext cx="806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emestre primavera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lase3:  martes 31 de ju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2480" y="1398240"/>
            <a:ext cx="81662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1959:  DFL N°4 - Tercera Ley General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rea régimen de concesiones que faciliten las inversiones pri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agregan las servidumbres a favor de concesionarios de servicio público y priv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reación de la Comisión de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fija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rea indexación respecto al IPC, ISS y P</a:t>
            </a:r>
            <a:r>
              <a:rPr b="0" lang="es-ES_tradnl" sz="2000" spc="-1" strike="noStrike" baseline="-25000">
                <a:solidFill>
                  <a:srgbClr val="006600"/>
                </a:solidFill>
                <a:latin typeface="Comic Sans MS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ropone al Ministerio de Economía tarifas con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  rentabilidad máxima de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hace reajustabilidad automática del capital inmov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Fijación anual de tarifas y provisionales si IPC, ISS o Precio del Combustible varían más de un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3" name=""/>
          <p:cNvSpPr/>
          <p:nvPr/>
        </p:nvSpPr>
        <p:spPr>
          <a:xfrm>
            <a:off x="3678120" y="5696640"/>
            <a:ext cx="57121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Desarrollo del sistema pero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37200"/>
            <a:ext cx="790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1966:  Ley 16.464 - Sobre Fijación de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Las tarifas quedan sujetas a aprobación del Ministeri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88" name=""/>
          <p:cNvSpPr/>
          <p:nvPr/>
        </p:nvSpPr>
        <p:spPr>
          <a:xfrm>
            <a:off x="2481120" y="3270600"/>
            <a:ext cx="5712120" cy="25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Fijación política de las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La capacidad de generación del país llega a un 4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ntre 1970 y 1973 no se autorizan reajustes de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Desfinanciamiento de las empresas eléc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l Fisco asume los dé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35200" y="1346040"/>
            <a:ext cx="6658200" cy="494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2 El D.F.L. N°1 de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37600" y="800640"/>
            <a:ext cx="8502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iclo vicioso de una incorrecta asignación de costos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2 El D.F.L. N°1 de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040" y="1456200"/>
            <a:ext cx="790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22 de junio de1982:  DFL N°1 - Cuarta Ley General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Regula Gx, Tx y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Reconoce la existencia de competencia en G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Asume monopolio en actividades ligadas a redes (Tx y D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Introduce criterios marginalistas para fijar tari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para los precios en regulados y libres (P&gt;2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97" name=""/>
          <p:cNvSpPr/>
          <p:nvPr/>
        </p:nvSpPr>
        <p:spPr>
          <a:xfrm>
            <a:off x="2451240" y="3876840"/>
            <a:ext cx="5711760" cy="192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strategia energética que busca la eficiencia econó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l Estado asume un rol subsidiario.  Incentivo al rol emprendedor de los p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s el que rige hasta nuestros días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2 El D.F.L. N°1 de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1040" y="1537200"/>
            <a:ext cx="790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1985:  DS 6 - Reglamento de Centros de Despacho Económico y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Establece mecanismos de coordinación de la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reación de los C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2929320"/>
            <a:ext cx="57121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Busca la seguridad, operación a mínimo costo y acceso a la 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560" y="3904200"/>
            <a:ext cx="790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1999:  Ley 19.613 - Ley “del racionamien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Modifica el Art. 99 del DFL N°1 y obliga a las Gx a compensar a todo evento (elimina causas de Fuerza May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Introduce compensaciones en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Aumenta poder de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81600" y="5290200"/>
            <a:ext cx="328608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la veremos en est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stá en el siti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45640" y="1365120"/>
            <a:ext cx="850284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Decreto Supremo 327/97- Reglamento Eléctrico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plica algunos conceptos ya establecidos en la Ley Eléctrica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rofundiza en: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eaje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alidad de Servicio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06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2 El D.F.L. N°1 de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4091400"/>
            <a:ext cx="850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Lo veremos más ade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l texto también es de acces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3 Lo más 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6360" y="700920"/>
            <a:ext cx="8502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Modificaciones a la Ley Eléctric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cor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3 de marzo de 2004 – Ley 19.940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rear condiciones de incentivo a la construcción de nuevas obra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Reconocer condiciones especiales que dan valor pero hoy no se están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nsiderando en las tarifa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Dar apertura a la competencia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eaje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omercialización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-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e han ido agregando nuevos requerimiento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ultracor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 de mayo de 2005 – Ley 20.018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de subsidi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9 de julio de 2005 - Ley 20.040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3 Lo más 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45640" y="1822320"/>
            <a:ext cx="371340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Larg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emitió borrador en 1999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5" name=""/>
          <p:cNvSpPr/>
          <p:nvPr/>
        </p:nvSpPr>
        <p:spPr>
          <a:xfrm>
            <a:off x="955800" y="3772080"/>
            <a:ext cx="3205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C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-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ublicada en 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arz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808520" y="1909800"/>
            <a:ext cx="4792680" cy="3306600"/>
            <a:chOff x="4808520" y="1909800"/>
            <a:chExt cx="4792680" cy="3306600"/>
          </a:xfrm>
        </p:grpSpPr>
        <p:sp>
          <p:nvSpPr>
            <p:cNvPr id="117" name=""/>
            <p:cNvSpPr/>
            <p:nvPr/>
          </p:nvSpPr>
          <p:spPr>
            <a:xfrm>
              <a:off x="4808520" y="4317840"/>
              <a:ext cx="4792680" cy="898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STITUCIÓN DE LA RE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8320" y="3489480"/>
              <a:ext cx="3954600" cy="826920"/>
            </a:xfrm>
            <a:prstGeom prst="rect">
              <a:avLst/>
            </a:prstGeom>
            <a:solidFill>
              <a:srgbClr val="ffcc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LE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37440" y="1909800"/>
              <a:ext cx="1877760" cy="739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NOR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77000" y="2660760"/>
              <a:ext cx="2757240" cy="826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REGLAM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21040" y="2583000"/>
            <a:ext cx="1050840" cy="23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2 Lo más 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02800" y="1489320"/>
            <a:ext cx="850284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Subida del archivo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Ley eléctrica y su Reglamento son algo básico para este curso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versión ampliada de la Ley en nuestra página del curso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24" name=""/>
          <p:cNvSpPr/>
          <p:nvPr/>
        </p:nvSpPr>
        <p:spPr>
          <a:xfrm>
            <a:off x="939960" y="3443400"/>
            <a:ext cx="85024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Qué conceptos hay de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ectura obligatoria – grup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Centrarse en 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catar las pregu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verá en clases a fines de ag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41400" y="1247040"/>
            <a:ext cx="76136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. Módulo 2: Legislación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b2b2b2"/>
                </a:solidFill>
                <a:latin typeface="Comic Sans MS"/>
              </a:rPr>
              <a:t>2.1.1 Reseña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b2b2b2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b2b2b2"/>
                </a:solidFill>
                <a:latin typeface="Comic Sans MS"/>
              </a:rPr>
              <a:t>2.1.2 El D.F.L. N°1 de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b2b2b2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b2b2b2"/>
                </a:solidFill>
                <a:latin typeface="Comic Sans MS"/>
              </a:rPr>
              <a:t>2.1.3 Perspectivas a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2.1 D.S. 3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2.2 Ley 19.6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2.3 Otras legislaciones en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EL - 6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20920" y="2048040"/>
            <a:ext cx="732924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ont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ntrol 1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jueves 30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Control 2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jueves 18 de octu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Visit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quipamiento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ediados de 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Subestación de poder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ediados septi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Despacho de Dx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inicios de octu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T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3146400"/>
                <a:tab algn="l" pos="39117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  <a:tab algn="l" pos="7183440"/>
                <a:tab algn="l" pos="7470720"/>
                <a:tab algn="l" pos="7758000"/>
                <a:tab algn="l" pos="8045280"/>
                <a:tab algn="l" pos="8332920"/>
                <a:tab algn="l" pos="8620200"/>
                <a:tab algn="l" pos="8907480"/>
                <a:tab algn="l" pos="9194760"/>
                <a:tab algn="l" pos="94820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Trabajos grup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2040" y="11372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Fech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L 67F Gestión de la Distribución de Energía Elé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1 Decreto Supremo 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02800" y="935280"/>
            <a:ext cx="8502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Reglamento Eléctrico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32" name=""/>
          <p:cNvSpPr/>
          <p:nvPr/>
        </p:nvSpPr>
        <p:spPr>
          <a:xfrm>
            <a:off x="644400" y="1556640"/>
            <a:ext cx="844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Reemplaza una serie de disposiciones dispers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.S. N° 385 - 1934 del Min. del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.S. N° 3.386 de 1935 del Min. del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.S. N° 1.280 de 1971 del Min. del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.S. N°6 de 1985 del Min. de Min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.S. N° 34 de 1994 del Min. de Min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200" y="3873960"/>
            <a:ext cx="844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Las resume en un solo cuerpo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Complementa las materias normadas en la Ley General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Reescribe parte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Incluye aspectos nue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e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alidad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54640" y="5263200"/>
            <a:ext cx="4022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Se verá más ade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5760" y="878040"/>
            <a:ext cx="8502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Si se modifica la Ley, deberá modificarse el reglamento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36" name=""/>
          <p:cNvSpPr/>
          <p:nvPr/>
        </p:nvSpPr>
        <p:spPr>
          <a:xfrm>
            <a:off x="4808520" y="4317840"/>
            <a:ext cx="4792680" cy="898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TITUCIÓN DE LA RE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78320" y="3489480"/>
            <a:ext cx="3954600" cy="82692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37440" y="1909800"/>
            <a:ext cx="1877760" cy="739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77000" y="2660760"/>
            <a:ext cx="2757240" cy="8269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1 Decreto Supremo 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6400" y="3451320"/>
            <a:ext cx="3205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C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omic Sans MS"/>
              <a:buChar char="-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ublicada en 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arz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6000" y="1822680"/>
            <a:ext cx="3713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Ley L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emitió borrador en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87520" y="8578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nspiración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45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9560" y="859680"/>
            <a:ext cx="56404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9080" indent="-289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Rol regulador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Fortalecer atribuciones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risis de gen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Garantizar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rotección de los derechos de los ciudad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mp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50760" y="4096080"/>
            <a:ext cx="838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51040" indent="-85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89 - se agrega 99 bis al DFL N°1 por crisis de gene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1040" indent="-85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95 - se propone nuevo regl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1040" indent="-85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98 - se publica D.S. 327 y ra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1040" indent="-85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99 - falla en Azopardo - B.A. Argentina y se profundizan los co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1040" indent="-85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999 - nueva Ley  (Comisión Mix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6960" y="336276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64800" y="1460880"/>
            <a:ext cx="83818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olicitar información a personas y empresas + las relacionadas (sólo referida a las transacciones comunes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Requerir Auditorías Técnicas.  Aprobado por SEC y siempre a costa del fiscalizado. 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itar a declarar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Libre acceso.  Ministros de fe (presunción legal - reserva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51" name=""/>
          <p:cNvSpPr/>
          <p:nvPr/>
        </p:nvSpPr>
        <p:spPr>
          <a:xfrm>
            <a:off x="587520" y="8578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Atribuciones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9120" y="354240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efine el monto de las multas según la clasificación de la infracción (gravísimas, graves y leves) y la evaluación subjetiva dentro de cada catego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ará lugar o rechazará las medidas prob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creditar el pago de la multa (10 dí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00080" y="1212840"/>
            <a:ext cx="7693200" cy="19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70800" indent="-37080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Nueva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942840" indent="-1821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ultas ante Infracciones (Art. 16 A) - Gx, Tx,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1821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mpensaciones de Dx (Art. 16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0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370800" indent="-37080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odifica el DFL N°1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942840" indent="-1821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mpensaciones de Gx (Art. 99 b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520" y="8578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3 exig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60900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Destino de los recurs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3680" y="401652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ultas a benefici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rt. 18 de la Ley 18.4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loración subje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mpensaciones a beneficio de los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la propia ley lo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loración obje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04520" y="1128600"/>
            <a:ext cx="83818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- 10.000 UTA  (MMUS$ 6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rias causas: provocar muerte o lesión grave, información falseada, afectar a la generalidad de los usuarios en forma significativa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fectar la continuidad, calidad o seguridad a 5% de los usuarios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Reiteración de infracciones graves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2" name=""/>
          <p:cNvSpPr/>
          <p:nvPr/>
        </p:nvSpPr>
        <p:spPr>
          <a:xfrm>
            <a:off x="587520" y="8578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Multas gravís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9040" y="383256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- 5.000 UTA  (MMUS$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rias causas: otras lesiones, daño a bienes de un número significativo de usuarios, pongan en peligro la seguridad, continuidad o seguridad del servicio, no acatar órdenes o negativa de entregar información, alteración de precios o cantidades suminist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demás: persistentes infracciones le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6880" y="331848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Multa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47360" y="1860840"/>
            <a:ext cx="83818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1-500 UTA (MUS$ 300 = MM$ 500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ausas:  Todo el resto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3402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Multas l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3908880"/>
            <a:ext cx="7456680" cy="192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n 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iscrecionalidad de la SEC en la aplicación de las mul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agaderas por ev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í permite ap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2240" y="1382040"/>
            <a:ext cx="2924280" cy="17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No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No necesariamente las multas gravísimas ( o graves) son mayores que las l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04520" y="1899000"/>
            <a:ext cx="838188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n condiciones de racionamiento: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e compensa kWh de déficit  sobre la base de los consumos normales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nsumo Normal: en el mismo período de un año del último año sin racionamiento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lorado a : Costo de racionamiento - Precio básico de la energía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Traspaso del monto recibido a los clientes (Núm. 219 - abril de 1999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3402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ompensaciones en 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4320" y="4891680"/>
            <a:ext cx="838224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jemplo en el 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agan EMELARI, ELIQSA y ELECDA por blackout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18920" y="1906920"/>
            <a:ext cx="8381880" cy="25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185040" indent="-18504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e compensa por el duplo de la energía no suministrada (ENS)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185040" indent="-18504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alorizada a Costo de racionamiento (62,572 $/kWh - Art.219 de abril 99)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185040" indent="-18504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interrupción o suspensión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no autorizada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en conformidad a la ley y reglamentos”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6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Interpre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descontar los 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a nivel de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3402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ompensaciones en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studi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0280" y="1282680"/>
            <a:ext cx="8991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7800" indent="-577800">
              <a:lnSpc>
                <a:spcPct val="100000"/>
              </a:lnSpc>
              <a:buClr>
                <a:srgbClr val="000090"/>
              </a:buClr>
              <a:buFont typeface="Comic Sans MS"/>
              <a:buAutoNum type="arabicParenR"/>
              <a:tabLst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Leer apun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“</a:t>
            </a: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El costo y el control de la Regulació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2) Revisar conceptos económicos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- costos 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- costos marg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11397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80680" y="1508400"/>
            <a:ext cx="94107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Informar y empresas relacionadas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Auditorías técnicas (siempre paga concesionario)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Libre acceso (ministros de fe)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nsignación de 25%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ermite el reclamo a la Corte Suprema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ago de multas por responsabilidad de Dx. y de compensaciones de Dx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Traspaso de compensaciones de Gx sin claridad por el reembolso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5" name=""/>
          <p:cNvSpPr/>
          <p:nvPr/>
        </p:nvSpPr>
        <p:spPr>
          <a:xfrm>
            <a:off x="641520" y="411048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mplicancias en 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6200" y="46234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ocializa el déficit de Gx según la proporción de los compromi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Obliga a mayor inversión en Gx para permitir holg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No hay claridad de reconocimiento tarif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Desincentivo a contratar a futuro (licit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5000" y="114660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Implicancias en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20280" y="1584000"/>
            <a:ext cx="8859960" cy="25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Legisla en crisis y en elecciones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ás responsabilidad sin retribución.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ás exigente que en Ley S.S.S. (98):</a:t>
            </a: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  <a:p>
            <a:pPr lvl="1" marL="768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igual multa máxima pero por no cumplir plan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ulta de 1.000 UTA por no dar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in con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n déficit las tarifas su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9943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Críticas a la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040" y="42422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Multa depende de la capac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El distribuidor tiene el derecho a repetir en contra de terceros responsables exige provisión de c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2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46240" y="1401840"/>
            <a:ext cx="9351720" cy="3233520"/>
            <a:chOff x="246240" y="1401840"/>
            <a:chExt cx="9351720" cy="3233520"/>
          </a:xfrm>
        </p:grpSpPr>
        <p:sp>
          <p:nvSpPr>
            <p:cNvPr id="196" name=""/>
            <p:cNvSpPr/>
            <p:nvPr/>
          </p:nvSpPr>
          <p:spPr>
            <a:xfrm>
              <a:off x="246240" y="1401840"/>
              <a:ext cx="9351720" cy="32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9160" y="1720800"/>
              <a:ext cx="8312040" cy="2906280"/>
              <a:chOff x="569160" y="1720800"/>
              <a:chExt cx="8312040" cy="2906280"/>
            </a:xfrm>
          </p:grpSpPr>
          <p:sp>
            <p:nvSpPr>
              <p:cNvPr id="198" name=""/>
              <p:cNvSpPr/>
              <p:nvPr/>
            </p:nvSpPr>
            <p:spPr>
              <a:xfrm>
                <a:off x="3617280" y="4311360"/>
                <a:ext cx="2133360" cy="315720"/>
              </a:xfrm>
              <a:prstGeom prst="downArrow">
                <a:avLst>
                  <a:gd name="adj1" fmla="val 45713"/>
                  <a:gd name="adj2" fmla="val 69444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1280" y="2049120"/>
                <a:ext cx="1593360" cy="1681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07720" y="2049120"/>
                <a:ext cx="5973480" cy="168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06000" y="2538000"/>
                <a:ext cx="6748200" cy="168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31280" y="3027240"/>
                <a:ext cx="1593360" cy="1677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07720" y="3027240"/>
                <a:ext cx="4007880" cy="167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14520" y="3027240"/>
                <a:ext cx="1939680" cy="16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31280" y="3516120"/>
                <a:ext cx="1593360" cy="1677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07720" y="3516120"/>
                <a:ext cx="5944680" cy="16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31280" y="4006440"/>
                <a:ext cx="1593360" cy="1663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07720" y="4006440"/>
                <a:ext cx="3206160" cy="166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12800" y="4006440"/>
                <a:ext cx="2738160" cy="166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40400" y="17301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230 K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02520" y="17301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220 K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02920" y="173016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30 K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41000" y="173016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23 K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9520" y="2049120"/>
                <a:ext cx="59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8840" y="204912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mis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9200" y="204912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9160" y="253800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44080" y="2538000"/>
                <a:ext cx="343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Distribución e Instalaciones de Conexión a la Red Bási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9160" y="3027240"/>
                <a:ext cx="309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88840" y="302724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mis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47480" y="3027240"/>
                <a:ext cx="1739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porte (Subtransmisió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52600" y="302724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9160" y="3516120"/>
                <a:ext cx="57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88840" y="351612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mis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16960" y="3516120"/>
                <a:ext cx="2202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Distribución y Transmisión Reg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520" y="40064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Per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88840" y="400644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mis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89760" y="4006440"/>
                <a:ext cx="22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porte (Transmisión Secundari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52640" y="400644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41600" y="2061720"/>
                <a:ext cx="252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93400" y="2526840"/>
                <a:ext cx="23400" cy="19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95120" y="206172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841600" y="2550960"/>
                <a:ext cx="252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95120" y="303984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41600" y="3039840"/>
                <a:ext cx="252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95120" y="352872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841600" y="3528720"/>
                <a:ext cx="252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95120" y="401760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841600" y="4017600"/>
                <a:ext cx="252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03360" y="303984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101640" y="4017600"/>
                <a:ext cx="23400" cy="16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31280" y="2037960"/>
                <a:ext cx="75387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31280" y="2203200"/>
                <a:ext cx="753876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31280" y="2526840"/>
                <a:ext cx="753876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31280" y="2692080"/>
                <a:ext cx="75387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31280" y="3016080"/>
                <a:ext cx="75387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31280" y="3180960"/>
                <a:ext cx="75387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31280" y="3504960"/>
                <a:ext cx="75387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31280" y="3669840"/>
                <a:ext cx="75387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31280" y="3993840"/>
                <a:ext cx="75387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1280" y="4159080"/>
                <a:ext cx="753876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31280" y="2543040"/>
                <a:ext cx="755280" cy="161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75920" y="253656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ransmis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54600" y="17208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500 K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205080" y="4187880"/>
              <a:ext cx="282852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2.3 Otras legislaciones e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2 Complementos a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2360" y="8071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Definición de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483440"/>
            <a:ext cx="949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&gt; 230 kV siempre es 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Brasil, Chile y Perú tienen etapa intermedia con costos diferen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o con etapa intermedia rentan a través de cargos por acceso y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uso, pagados por los usuari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ectura oblig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1282680"/>
            <a:ext cx="89917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1) Leer Ley 19.6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Estará disponible en la página del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- Comenzar a leer, identificando lo antes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- destacar conceptos que no se entiendan para 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6600"/>
                </a:solidFill>
                <a:latin typeface="Comic Sans MS"/>
              </a:rPr>
              <a:t>consultarlos en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765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1120" y="168840"/>
            <a:ext cx="282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Noticia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488360" y="-152280"/>
            <a:ext cx="2417760" cy="971280"/>
            <a:chOff x="7488360" y="-152280"/>
            <a:chExt cx="2417760" cy="97128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7639200" y="-152280"/>
              <a:ext cx="22669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7488360" y="-152280"/>
              <a:ext cx="152280" cy="89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553080" y="279360"/>
            <a:ext cx="48420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29600" y="2418840"/>
            <a:ext cx="47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0"/>
                </a:solidFill>
                <a:latin typeface="Comic Sans MS"/>
              </a:rPr>
              <a:t>GESTIÓN DE LA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0"/>
                </a:solidFill>
                <a:latin typeface="Comic Sans MS"/>
              </a:rPr>
              <a:t>DE ENERGÍA ELÉ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56440" y="18936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L67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1040" y="5293080"/>
            <a:ext cx="806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Semestre primavera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Clase3:  martes 31 de ju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39680" y="831960"/>
            <a:ext cx="79153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1: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1 Qué es la gestión de la Dx de Energía Eléctr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1.1 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Parte de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1.2 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1.3 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Servicio de utilidad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2 Cómo se pueden comparar las empresas de Dx de 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2.1 Tam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2.2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2.3 Percepción de su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El entorno de una distribui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3.1 Frente a los propie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     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3.2 Frente a los reguladore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     </a:t>
            </a: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1.3.3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Repaso Módulo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EL - 6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4400" y="1919160"/>
            <a:ext cx="4358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. Módulo 2: Legislación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2.1.1 Reseña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2.1.2 El D.F.L. N°1 de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2.1.3 Lo más 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EL - 6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45640" y="1944360"/>
            <a:ext cx="8502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Jerarquía Legal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13120" y="4348080"/>
            <a:ext cx="4792680" cy="898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TITUCIÓN DE LA RE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2920" y="3519360"/>
            <a:ext cx="3954600" cy="82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42040" y="1940040"/>
            <a:ext cx="1877760" cy="739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1600" y="2690640"/>
            <a:ext cx="2757600" cy="82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02800" y="935280"/>
            <a:ext cx="8502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7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400" y="1708560"/>
            <a:ext cx="844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4 de agosto de 1904:  Ley 1.665 - Prescripciones para la concesión de permisos para la instalación de empresas eléct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normas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uso de la propiedad pública vía concesiones de carácter    defin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exige vigilar a las empresas eléc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8160" y="1395360"/>
            <a:ext cx="790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13 de febrero de 1925:  Decreto 252 - Primera Ley General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El Estado asume rol Regu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establece sistema de concesiones por prime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a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entrales y líneas Tx y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rvidu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establece sistema de tarifas con criterio contable (activos fijos) y rentabilidad del 15% sobre el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Se amplia la instituci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Consejo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Fija tarifas y resuelve controversias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Dirección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Vigila la explotación de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Fondo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Paga suel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2.1.1 Reseñ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2.1 La Ley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9720" y="1344960"/>
            <a:ext cx="7907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* 30 de mayo de 1931:  DFL 244 -Segunda Ley General de Servici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Aumenta el control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Distingue entre concesiones de servicio privado y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Elimina la fórmula de index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- Permite solicitar al gobierno nuevos pliegos tarifarios en caso que por más de 3 años no alcanzan rentabilidades sobre el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74800" y="843480"/>
            <a:ext cx="8502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Evolución de la Legislación Eléctrica Chilena</a:t>
            </a:r>
            <a:endParaRPr b="1" lang="en-US" sz="24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78" name=""/>
          <p:cNvSpPr/>
          <p:nvPr/>
        </p:nvSpPr>
        <p:spPr>
          <a:xfrm>
            <a:off x="2424240" y="4424760"/>
            <a:ext cx="627516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Crisis de los años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Se desincentiva la inversión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00"/>
                </a:solidFill>
                <a:latin typeface="Comic Sans MS"/>
              </a:rPr>
              <a:t>· estancamiento gradual de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Juan Alberto Bravo C.</cp:lastModifiedBy>
  <cp:lastPrinted>2002-03-19T14:47:00Z</cp:lastPrinted>
  <dcterms:modified xsi:type="dcterms:W3CDTF">2007-08-01T03:01:01Z</dcterms:modified>
  <cp:revision>851</cp:revision>
  <dc:subject/>
  <dc:title>Titel der Folie</dc:title>
</cp:coreProperties>
</file>