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AE84-1BC6-45C6-B255-B8B42AC31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3B97-7519-499E-982D-6FAD899A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6430-97EA-417C-9B84-D0F39452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04A2-FD5D-4EEB-ADF0-9FF8F6650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76BA-0258-4460-9F17-8BE55630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B9FC-DB07-4F1B-93D1-13192080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00AF-741D-4E84-AA42-10C5184B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479A-D4D2-455E-8D40-2FA45627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8EDF-A68C-41DF-9D62-B17A40A3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5F6B-7951-4D4D-A25F-849666D6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D9A2-A04B-477A-90B3-5B90E15C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3777-7AE7-4C3B-93B5-7703CC77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AE4D-F3A2-45AE-B616-5E9DA570B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Gestión de Empresas de Telecomunicaciones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L 65J</a:t>
            </a:r>
            <a:br>
              <a:rPr sz="44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Apunte 2 final</a:t>
            </a:r>
            <a:br>
              <a:rPr sz="30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Gestión Comer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José Miguel Torres T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mestre Primavera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1676520"/>
            <a:ext cx="5029200" cy="3809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1337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24382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30481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28954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6040" y="18288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48360" y="3317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14440" y="401004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0240" y="5715000"/>
            <a:ext cx="76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Existen criterios de segmentación más eficientes que ot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65920" y="322884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46200" y="3124080"/>
            <a:ext cx="200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er me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15240" y="3032280"/>
            <a:ext cx="21333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riables d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aís, ciudad, reg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dad, GSE, nivel educacional, raza,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sic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reses bus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spi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nsidad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Ocasión de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po de usu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Grado de lealt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38800" y="3216240"/>
            <a:ext cx="417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Cómo determinar los crite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de segmentación más eficie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1320" y="4267080"/>
            <a:ext cx="1600200" cy="838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33880" y="524664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ESTUDIOS DE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preguntas aplicadas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móvi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pago/Post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s/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gmentaría los siguiente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et de banda an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tos corpo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 de compu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30960" y="222552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Cuál es su opinió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s la única maner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16120" y="3444840"/>
            <a:ext cx="244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xisten otros criteri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ENTE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SMART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reflexiones sobr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gmentación no es más que descomponer el mercado en oportunidades de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iene una connotación estratégica clave la elección del mercado al cual voy a ser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conveniente usar varias varias de segmentación a la vez para perfeccionar la predicción del comportamiento de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idado con la complejidad exce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cto de diseñar la imagen y productos de la empresa de modo tal que los consumidores preciban su diferencia en relación a la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a estrategia de posicionamiento consta de los siguientes p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r posibles 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leccionar las ventajas adecuadas y alcanz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a diferenciación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rlo eficazmente a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ótese la importancia de la variable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D05552_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20574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n resumen, el posicionamiento es una IMAGEN MENTAL de mi marca y mi producto en la cabeza del cl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o necesito cualquier imagen mental, necesito aquella que MOTIVA LA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lo anterior, Posicionamiento y Segmentación están rela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2280" y="534996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Imaginamos a los buses Mercades Benz como de luj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Tiene ENTEL la misma imagen en un Gerente de IT que en un jo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Recordemos que en estrategia hablamos de que la elección estratégica al final determina asignación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eso no siempre voy a ser eficiente en servir todos los mercados de la mejor manera ni en tener la imagen de marca más recordada en todos los seg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 anterior cuesta $$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ducta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D06663_" descr=""/>
          <p:cNvPicPr/>
          <p:nvPr/>
        </p:nvPicPr>
        <p:blipFill>
          <a:blip r:embed="rId1"/>
          <a:stretch/>
        </p:blipFill>
        <p:spPr>
          <a:xfrm>
            <a:off x="3309840" y="3073320"/>
            <a:ext cx="1727280" cy="1498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61760" y="23464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Punto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640" y="44956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Fami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90800" y="228600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Marketing/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5200" y="5699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Ami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91800" y="54100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His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8320" y="144792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V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36920" y="4800600"/>
            <a:ext cx="1523880" cy="6094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436920" y="2209680"/>
            <a:ext cx="1523880" cy="6098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3048120"/>
            <a:ext cx="335304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25600" y="449568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Influencias 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sumidor: Modelo de Comport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1676520"/>
            <a:ext cx="7162920" cy="350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2209680"/>
            <a:ext cx="3429000" cy="2514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4280" y="182880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2800" y="15238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ext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29400" y="339084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8600" y="2936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ím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77840" y="29718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uc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97880" y="2657520"/>
            <a:ext cx="1197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ercep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no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prendiza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mo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tiv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4160" y="3084480"/>
            <a:ext cx="90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Inter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 rot="5400000">
            <a:off x="5354640" y="3249720"/>
            <a:ext cx="952560" cy="218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TENCIÓN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5181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cuencia es: Detectar la necesidad, propiciar el estímulo correcto para generar la conducta deseada (COMP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43520" y="343368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iclo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e acuerdo a lo anterior, ento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BD06663_" descr=""/>
          <p:cNvPicPr/>
          <p:nvPr/>
        </p:nvPicPr>
        <p:blipFill>
          <a:blip r:embed="rId1"/>
          <a:stretch/>
        </p:blipFill>
        <p:spPr>
          <a:xfrm>
            <a:off x="4010040" y="1905120"/>
            <a:ext cx="1727280" cy="1498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295280" y="1752480"/>
            <a:ext cx="2133720" cy="83844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2971800"/>
            <a:ext cx="2133720" cy="838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2133720"/>
            <a:ext cx="2133720" cy="10666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ion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228600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581280" y="320004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26668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4267080"/>
            <a:ext cx="8077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n embargo, usualmente “no estamos solos” en el proceso de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5486400"/>
            <a:ext cx="175248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5288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5486400"/>
            <a:ext cx="167652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y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5334120"/>
            <a:ext cx="8077320" cy="1218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05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09520" y="3263760"/>
            <a:ext cx="2333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lugar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me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Qué es la Dirección Comerci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10080" y="179388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PROCESO DE CREACIÓN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3200" y="2900160"/>
            <a:ext cx="26863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Escog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lección de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ifere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62240" y="2900160"/>
            <a:ext cx="26672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rove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Serv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aloración (Prec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abr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gística/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2900520"/>
            <a:ext cx="266688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omunica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mo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R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3840" y="5257800"/>
            <a:ext cx="67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l esfuerzo de marketing es un esfuerzo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ntro de una compañ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fluencias Exter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fluencias cultu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milia, ética, trabajo, igualdad de los sexos, religión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riables so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de referencia (familia, amigos, colegas, soc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aspiracionales (deportistas de elite, modelos, artistas de cine, grandes empresar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aceptación social y el sentido de pertenencia son claves en el comportamiento de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080" y="5578560"/>
            <a:ext cx="81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pasó con las empresas celulares cuando el mercado nací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os celulares de “palo”? ¿por qué pasab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racterísticas personales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dad y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cupación y prof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ilos de vida (actitudes, intereses u opin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rce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ors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actores motiv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ala de Maslow (desde las necesidades básicas a las necesidades de trascendencia y autorealiz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40600" y="3657600"/>
            <a:ext cx="445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a segment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La demografía es insuficiente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caracterizar a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romiso con la decisión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ompromiso de la decisión de compra se encuentra en función de los siguientes fa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sic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de desemp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mayor riesgo, mayor compromiso y mayor racionalidad en la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iense en la diferencia que existe entre comprar un “Super8” frente a decisiones de consumo claves como elegir una carrera universitaria o comprar una c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vestigación de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nente de un sistema gerencial de información con el objetivo de reducir y optimizar la asignación de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principales tipos de estudios de merc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ocus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udios cualitativos sobre lanzamientos o características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No entregan información numérica pero orientan sobre temas específicos a profundizar con un estudio cuantit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udios cuant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miten obtener información cuantitativa respecto a aspectos específicos relativos a un producto o lanz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elen estar construidos sobre entrevistas presenciales o telefó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diversas técnicas estadísticas que permiten analizar los resultados entregando índices de confiabilidad y representa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Mezcla Comer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ado el posicionamiento y la segmentación, ¿Qué maneja el Director Comercial para llegar al merca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2767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411480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495288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57913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895480"/>
            <a:ext cx="3124080" cy="38862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E01846_" descr=""/>
          <p:cNvPicPr/>
          <p:nvPr/>
        </p:nvPicPr>
        <p:blipFill>
          <a:blip r:embed="rId1"/>
          <a:stretch/>
        </p:blipFill>
        <p:spPr>
          <a:xfrm>
            <a:off x="5784840" y="3870360"/>
            <a:ext cx="2292480" cy="1006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334120" y="50292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on una idea de mi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05400" y="327672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A un mercado: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41911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153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son esencialmente satisfactores de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pueden ser clasificados de la siguiente man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3657600"/>
            <a:ext cx="609840" cy="2057400"/>
          </a:xfrm>
          <a:prstGeom prst="downArrow">
            <a:avLst>
              <a:gd name="adj1" fmla="val 50000"/>
              <a:gd name="adj2" fmla="val 843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90680" y="5737320"/>
            <a:ext cx="27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complej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8640" y="3733920"/>
            <a:ext cx="3352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no plan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nven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3733920"/>
            <a:ext cx="37335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simple insp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re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lasificación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no planifi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n compras impuls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sumidor posee poc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 a la marca si la encu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formación de háb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entrado en satisfacción de necesidades bá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m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yor compromiso y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rol del distribuidor y del me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quiere de información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tad de marca inform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ecesidad de información por alto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tribución 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95600" y="158436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uper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21760" y="29098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arjeta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51080" y="425124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Kit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55440" y="554688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stema de factu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ect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34200" y="1438200"/>
            <a:ext cx="242892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38880" y="27147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57960" y="40719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5424480"/>
            <a:ext cx="26668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 ampli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2133720"/>
            <a:ext cx="304812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09640" y="3124080"/>
            <a:ext cx="990720" cy="99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úc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5040" y="5330880"/>
            <a:ext cx="33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e del producto (producto en sí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6002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 ampli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523880" y="411444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20574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1828800"/>
            <a:ext cx="4724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 ampliado: Prestaciones adicionales, tangibles e intangibles, que agregan valor al núcleo bá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 partir de 1 núcleo o producto central pueden diseñarse diversos productos ampl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 de post-venta y garantías son estrategias de producto ampl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pregunta es: ¿te dan realmente una ventaja o son hoy día un derecho adquirido de los clien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53000" y="5851440"/>
            <a:ext cx="77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s posible realizar estrategias de producto ampliado en telefonía celul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ix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binación de todas las líneas de productos y servicios de l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objetivo es optimizar el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00200"/>
            <a:ext cx="495288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288144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814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1964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5788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198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482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80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48960" y="25052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32623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37195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41767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471024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62680" y="289548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05800" y="48006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76240" y="478620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03240" y="28954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67240"/>
            <a:ext cx="228600" cy="1066680"/>
          </a:xfrm>
          <a:prstGeom prst="downArrow">
            <a:avLst>
              <a:gd name="adj1" fmla="val 50000"/>
              <a:gd name="adj2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1257120" y="2385360"/>
            <a:ext cx="228600" cy="1067040"/>
          </a:xfrm>
          <a:prstGeom prst="downArrow">
            <a:avLst>
              <a:gd name="adj1" fmla="val 50000"/>
              <a:gd name="adj2" fmla="val 116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2920" y="24382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8360" y="3780000"/>
            <a:ext cx="14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un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3200" y="5316480"/>
            <a:ext cx="565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struya esta matriz para las siguientes líneas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rga Dis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Mó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23200" y="530208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3720" y="219384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28200" y="2671920"/>
            <a:ext cx="365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2133720"/>
            <a:ext cx="3733560" cy="9903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sofisticado y exi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yor sensibilidad a precio y al good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ortalecimiento del segmento C2C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or tiempo para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ujer irrumpe en la fuerza lab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informado y selecivo en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aturado de información ma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240" y="5521320"/>
            <a:ext cx="89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enfrentan este tema las empresas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tiempo dedica el cliente a “pensar” en un producto cuando compr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D06784_" descr=""/>
          <p:cNvPicPr/>
          <p:nvPr/>
        </p:nvPicPr>
        <p:blipFill>
          <a:blip r:embed="rId1"/>
          <a:stretch/>
        </p:blipFill>
        <p:spPr>
          <a:xfrm>
            <a:off x="7543800" y="3048120"/>
            <a:ext cx="129060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03560" y="1593720"/>
            <a:ext cx="1773360" cy="1094040"/>
          </a:xfrm>
          <a:custGeom>
            <a:avLst/>
            <a:gdLst/>
            <a:ahLst/>
            <a:rect l="l" t="t" r="r" b="b"/>
            <a:pathLst>
              <a:path w="1117" h="689">
                <a:moveTo>
                  <a:pt x="0" y="689"/>
                </a:moveTo>
                <a:cubicBezTo>
                  <a:pt x="18" y="683"/>
                  <a:pt x="37" y="681"/>
                  <a:pt x="53" y="672"/>
                </a:cubicBezTo>
                <a:cubicBezTo>
                  <a:pt x="60" y="668"/>
                  <a:pt x="63" y="658"/>
                  <a:pt x="70" y="654"/>
                </a:cubicBezTo>
                <a:cubicBezTo>
                  <a:pt x="100" y="635"/>
                  <a:pt x="142" y="631"/>
                  <a:pt x="175" y="619"/>
                </a:cubicBezTo>
                <a:cubicBezTo>
                  <a:pt x="185" y="616"/>
                  <a:pt x="192" y="606"/>
                  <a:pt x="201" y="602"/>
                </a:cubicBezTo>
                <a:cubicBezTo>
                  <a:pt x="218" y="594"/>
                  <a:pt x="253" y="584"/>
                  <a:pt x="253" y="584"/>
                </a:cubicBezTo>
                <a:cubicBezTo>
                  <a:pt x="259" y="578"/>
                  <a:pt x="264" y="571"/>
                  <a:pt x="271" y="567"/>
                </a:cubicBezTo>
                <a:cubicBezTo>
                  <a:pt x="279" y="562"/>
                  <a:pt x="290" y="564"/>
                  <a:pt x="297" y="558"/>
                </a:cubicBezTo>
                <a:cubicBezTo>
                  <a:pt x="311" y="546"/>
                  <a:pt x="319" y="528"/>
                  <a:pt x="332" y="515"/>
                </a:cubicBezTo>
                <a:cubicBezTo>
                  <a:pt x="351" y="458"/>
                  <a:pt x="386" y="423"/>
                  <a:pt x="428" y="384"/>
                </a:cubicBezTo>
                <a:cubicBezTo>
                  <a:pt x="451" y="314"/>
                  <a:pt x="417" y="398"/>
                  <a:pt x="463" y="340"/>
                </a:cubicBezTo>
                <a:cubicBezTo>
                  <a:pt x="469" y="333"/>
                  <a:pt x="467" y="322"/>
                  <a:pt x="471" y="314"/>
                </a:cubicBezTo>
                <a:cubicBezTo>
                  <a:pt x="476" y="305"/>
                  <a:pt x="483" y="297"/>
                  <a:pt x="489" y="288"/>
                </a:cubicBezTo>
                <a:cubicBezTo>
                  <a:pt x="505" y="241"/>
                  <a:pt x="537" y="191"/>
                  <a:pt x="585" y="174"/>
                </a:cubicBezTo>
                <a:cubicBezTo>
                  <a:pt x="598" y="154"/>
                  <a:pt x="678" y="82"/>
                  <a:pt x="707" y="78"/>
                </a:cubicBezTo>
                <a:cubicBezTo>
                  <a:pt x="739" y="73"/>
                  <a:pt x="771" y="72"/>
                  <a:pt x="803" y="69"/>
                </a:cubicBezTo>
                <a:cubicBezTo>
                  <a:pt x="870" y="6"/>
                  <a:pt x="960" y="6"/>
                  <a:pt x="1047" y="0"/>
                </a:cubicBezTo>
                <a:cubicBezTo>
                  <a:pt x="1112" y="8"/>
                  <a:pt x="1088" y="8"/>
                  <a:pt x="1117" y="8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2662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05520" y="1752480"/>
            <a:ext cx="4038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pliaciones de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ermiten “relanzar” un producto, evitando cerrar 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343040" y="2514600"/>
            <a:ext cx="6094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atriz de Anso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95480" y="2320920"/>
            <a:ext cx="457200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23209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95480" y="3797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29400" y="2619360"/>
            <a:ext cx="19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etra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27360" y="262584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84440" y="431640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32000" y="429732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67360" y="144792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2000" y="358128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14960" y="192888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2400" y="192708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29880" y="425592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25840" y="283212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86400" y="5638680"/>
            <a:ext cx="400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ha hecho Carlos Slim en Chi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especula el mercado que hará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de Trading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ínea de productos con un producto de entrada atractivo para cierto segmento que sirve para generar consumo futuro en productos de mayor margen (superiores en la líne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liente es educado para que luego consuma los productos que le interesan a la compañ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s objetivos de esta estrategia de producto 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ar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r a conocer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ealtad (“cautivar”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43920" y="5334120"/>
            <a:ext cx="532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tomóviles: Peugeot =&gt; 106, 206, 307, 406, 6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ancos: Cuenta jo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hacer un trading-up en la industria móvil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495680" y="3962520"/>
            <a:ext cx="4343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de oportun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con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trib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de proceso de venta: distribución y log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-testeo (experim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steo (mercado de prue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roducción y lanz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operación de la cad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valuación y administración d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94640" y="1852560"/>
            <a:ext cx="58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ventaja tiene acelerar el lanzamient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desventaja tiene probar exhaustivamente los product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92080" y="4003560"/>
            <a:ext cx="429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desarrollo de productos es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mplio que “hacer”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BS00559_" descr=""/>
          <p:cNvPicPr/>
          <p:nvPr/>
        </p:nvPicPr>
        <p:blipFill>
          <a:blip r:embed="rId1"/>
          <a:stretch/>
        </p:blipFill>
        <p:spPr>
          <a:xfrm>
            <a:off x="6692760" y="5035680"/>
            <a:ext cx="1994040" cy="11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tributo intangible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lave y determinante en la percepción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esencial en apoyar las estrategias de diferenciación y muy importante en productos de cre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magine Microsoft llamándose “Software para el hogar” o Coca Cola vendiéndose como “Jarabe refrescan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marca es un activo intangible de gran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 ejemplo, en la compra de BellSouth Latinoamérica por Telefónica Móviles no se incluyó la adquisición de la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strategia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Corporativ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corporaciones (HP, Telefónica, Quiñenco, Cencosud, D&amp;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 Paragu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 utilizadas transversalmente para diferentes tipos de productos y/o unidades de negocio (Telefó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flanquedor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secundarias que permiten copar el mercado para proteger la marca principal (Dolca, Fina Selección, Deca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genéricas/blanc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grandes canales que se usan en diferentes categorías de productos (Cola Lí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priv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propias creadas por el canal para productos específicos (Jumbo 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76920" y="4114800"/>
            <a:ext cx="2743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14960" y="4038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8640" y="40813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86400" y="40672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35000" y="402264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copa 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 objetivo esencial es alcanzar otros segmentos interesantes de expl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1484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27560" y="40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86040" y="2271600"/>
            <a:ext cx="1676520" cy="8384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86040" y="5710320"/>
            <a:ext cx="167652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fol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29000" y="323388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343400" y="511956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 rot="16200000">
            <a:off x="5714640" y="414252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 rot="5400000">
            <a:off x="3057480" y="418140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2048040"/>
            <a:ext cx="2514600" cy="4724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49640" y="5448240"/>
            <a:ext cx="323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ver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Upgrade/Downgrade 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basan en la marc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n esta no se susten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5400" y="5448240"/>
            <a:ext cx="370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horiz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apoya 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se sinergiza con o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cambio de calidad no es neces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8080" y="3495600"/>
            <a:ext cx="7620120" cy="1828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jemplos de extensiones de marca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Horizo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rategia de puente: Levi’s y Doc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tfolio de marcas (cobranding): HP Intel in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erti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permarca: Citi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bmarca: Santa Carolina Reserva Famil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40960" y="5241960"/>
            <a:ext cx="579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estrategia de marca puede usted disting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 el mercado de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ambiaría la marca de una empresa recién fusiona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n base a qué parámetros tomaría la deci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657600" y="3429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91320" y="281952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10080" y="4648320"/>
            <a:ext cx="152424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4572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38680" y="165744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52480" y="2666880"/>
            <a:ext cx="152424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495680" y="2590920"/>
            <a:ext cx="763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352680" y="411480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5105520" y="419112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5257800" y="33526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3526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13560" y="594360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versos factores influyen en la determinación d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BS00508_" descr=""/>
          <p:cNvPicPr/>
          <p:nvPr/>
        </p:nvPicPr>
        <p:blipFill>
          <a:blip r:embed="rId1"/>
          <a:stretch/>
        </p:blipFill>
        <p:spPr>
          <a:xfrm>
            <a:off x="6781680" y="914400"/>
            <a:ext cx="1575000" cy="1662120"/>
          </a:xfrm>
          <a:prstGeom prst="rect">
            <a:avLst/>
          </a:prstGeom>
          <a:ln w="0">
            <a:noFill/>
          </a:ln>
        </p:spPr>
      </p:pic>
      <p:pic>
        <p:nvPicPr>
          <p:cNvPr id="324" name="BS02064_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versus tác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838080" y="20574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600200" y="36576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23880" y="2743200"/>
            <a:ext cx="5403960" cy="2714760"/>
          </a:xfrm>
          <a:custGeom>
            <a:avLst/>
            <a:gdLst/>
            <a:ahLst/>
            <a:rect l="l" t="t" r="r" b="b"/>
            <a:pathLst>
              <a:path w="3404" h="1710">
                <a:moveTo>
                  <a:pt x="0" y="1710"/>
                </a:moveTo>
                <a:cubicBezTo>
                  <a:pt x="7" y="1660"/>
                  <a:pt x="19" y="1618"/>
                  <a:pt x="35" y="1571"/>
                </a:cubicBezTo>
                <a:cubicBezTo>
                  <a:pt x="43" y="1514"/>
                  <a:pt x="59" y="1461"/>
                  <a:pt x="70" y="1405"/>
                </a:cubicBezTo>
                <a:cubicBezTo>
                  <a:pt x="79" y="1357"/>
                  <a:pt x="77" y="1318"/>
                  <a:pt x="114" y="1283"/>
                </a:cubicBezTo>
                <a:cubicBezTo>
                  <a:pt x="126" y="1259"/>
                  <a:pt x="136" y="1231"/>
                  <a:pt x="157" y="1213"/>
                </a:cubicBezTo>
                <a:cubicBezTo>
                  <a:pt x="173" y="1199"/>
                  <a:pt x="195" y="1193"/>
                  <a:pt x="210" y="1178"/>
                </a:cubicBezTo>
                <a:cubicBezTo>
                  <a:pt x="216" y="1172"/>
                  <a:pt x="219" y="1163"/>
                  <a:pt x="227" y="1160"/>
                </a:cubicBezTo>
                <a:cubicBezTo>
                  <a:pt x="244" y="1154"/>
                  <a:pt x="262" y="1155"/>
                  <a:pt x="280" y="1152"/>
                </a:cubicBezTo>
                <a:cubicBezTo>
                  <a:pt x="374" y="1161"/>
                  <a:pt x="353" y="1149"/>
                  <a:pt x="402" y="1195"/>
                </a:cubicBezTo>
                <a:cubicBezTo>
                  <a:pt x="419" y="1251"/>
                  <a:pt x="475" y="1310"/>
                  <a:pt x="524" y="1344"/>
                </a:cubicBezTo>
                <a:cubicBezTo>
                  <a:pt x="530" y="1338"/>
                  <a:pt x="534" y="1330"/>
                  <a:pt x="541" y="1326"/>
                </a:cubicBezTo>
                <a:cubicBezTo>
                  <a:pt x="549" y="1321"/>
                  <a:pt x="561" y="1325"/>
                  <a:pt x="568" y="1318"/>
                </a:cubicBezTo>
                <a:cubicBezTo>
                  <a:pt x="575" y="1311"/>
                  <a:pt x="570" y="1299"/>
                  <a:pt x="576" y="1291"/>
                </a:cubicBezTo>
                <a:cubicBezTo>
                  <a:pt x="614" y="1240"/>
                  <a:pt x="616" y="1265"/>
                  <a:pt x="637" y="1222"/>
                </a:cubicBezTo>
                <a:cubicBezTo>
                  <a:pt x="678" y="1139"/>
                  <a:pt x="701" y="1050"/>
                  <a:pt x="742" y="968"/>
                </a:cubicBezTo>
                <a:cubicBezTo>
                  <a:pt x="768" y="916"/>
                  <a:pt x="800" y="849"/>
                  <a:pt x="856" y="820"/>
                </a:cubicBezTo>
                <a:cubicBezTo>
                  <a:pt x="883" y="806"/>
                  <a:pt x="922" y="804"/>
                  <a:pt x="952" y="794"/>
                </a:cubicBezTo>
                <a:cubicBezTo>
                  <a:pt x="975" y="721"/>
                  <a:pt x="1111" y="767"/>
                  <a:pt x="1170" y="776"/>
                </a:cubicBezTo>
                <a:cubicBezTo>
                  <a:pt x="1239" y="824"/>
                  <a:pt x="1317" y="848"/>
                  <a:pt x="1397" y="872"/>
                </a:cubicBezTo>
                <a:cubicBezTo>
                  <a:pt x="1436" y="912"/>
                  <a:pt x="1465" y="930"/>
                  <a:pt x="1519" y="942"/>
                </a:cubicBezTo>
                <a:cubicBezTo>
                  <a:pt x="1564" y="936"/>
                  <a:pt x="1598" y="927"/>
                  <a:pt x="1641" y="916"/>
                </a:cubicBezTo>
                <a:cubicBezTo>
                  <a:pt x="1676" y="881"/>
                  <a:pt x="1667" y="859"/>
                  <a:pt x="1693" y="820"/>
                </a:cubicBezTo>
                <a:cubicBezTo>
                  <a:pt x="1700" y="794"/>
                  <a:pt x="1707" y="747"/>
                  <a:pt x="1720" y="724"/>
                </a:cubicBezTo>
                <a:cubicBezTo>
                  <a:pt x="1740" y="690"/>
                  <a:pt x="1767" y="661"/>
                  <a:pt x="1789" y="628"/>
                </a:cubicBezTo>
                <a:cubicBezTo>
                  <a:pt x="1855" y="645"/>
                  <a:pt x="1799" y="621"/>
                  <a:pt x="1842" y="672"/>
                </a:cubicBezTo>
                <a:cubicBezTo>
                  <a:pt x="1849" y="680"/>
                  <a:pt x="1860" y="682"/>
                  <a:pt x="1868" y="689"/>
                </a:cubicBezTo>
                <a:cubicBezTo>
                  <a:pt x="1916" y="728"/>
                  <a:pt x="1947" y="752"/>
                  <a:pt x="2008" y="768"/>
                </a:cubicBezTo>
                <a:cubicBezTo>
                  <a:pt x="2017" y="765"/>
                  <a:pt x="2029" y="767"/>
                  <a:pt x="2034" y="759"/>
                </a:cubicBezTo>
                <a:cubicBezTo>
                  <a:pt x="2042" y="746"/>
                  <a:pt x="2040" y="730"/>
                  <a:pt x="2042" y="715"/>
                </a:cubicBezTo>
                <a:cubicBezTo>
                  <a:pt x="2046" y="674"/>
                  <a:pt x="2048" y="634"/>
                  <a:pt x="2051" y="593"/>
                </a:cubicBezTo>
                <a:cubicBezTo>
                  <a:pt x="2086" y="628"/>
                  <a:pt x="2095" y="669"/>
                  <a:pt x="2112" y="715"/>
                </a:cubicBezTo>
                <a:cubicBezTo>
                  <a:pt x="2118" y="733"/>
                  <a:pt x="2130" y="768"/>
                  <a:pt x="2130" y="768"/>
                </a:cubicBezTo>
                <a:cubicBezTo>
                  <a:pt x="2133" y="788"/>
                  <a:pt x="2133" y="849"/>
                  <a:pt x="2138" y="829"/>
                </a:cubicBezTo>
                <a:cubicBezTo>
                  <a:pt x="2148" y="786"/>
                  <a:pt x="2143" y="742"/>
                  <a:pt x="2147" y="698"/>
                </a:cubicBezTo>
                <a:cubicBezTo>
                  <a:pt x="2153" y="641"/>
                  <a:pt x="2185" y="587"/>
                  <a:pt x="2200" y="532"/>
                </a:cubicBezTo>
                <a:cubicBezTo>
                  <a:pt x="2228" y="432"/>
                  <a:pt x="2251" y="334"/>
                  <a:pt x="2304" y="244"/>
                </a:cubicBezTo>
                <a:cubicBezTo>
                  <a:pt x="2316" y="185"/>
                  <a:pt x="2358" y="130"/>
                  <a:pt x="2409" y="96"/>
                </a:cubicBezTo>
                <a:cubicBezTo>
                  <a:pt x="2482" y="132"/>
                  <a:pt x="2575" y="139"/>
                  <a:pt x="2653" y="166"/>
                </a:cubicBezTo>
                <a:cubicBezTo>
                  <a:pt x="2682" y="176"/>
                  <a:pt x="2724" y="200"/>
                  <a:pt x="2749" y="218"/>
                </a:cubicBezTo>
                <a:cubicBezTo>
                  <a:pt x="2759" y="225"/>
                  <a:pt x="2764" y="240"/>
                  <a:pt x="2776" y="244"/>
                </a:cubicBezTo>
                <a:cubicBezTo>
                  <a:pt x="2815" y="257"/>
                  <a:pt x="2858" y="254"/>
                  <a:pt x="2898" y="262"/>
                </a:cubicBezTo>
                <a:cubicBezTo>
                  <a:pt x="2965" y="295"/>
                  <a:pt x="2965" y="287"/>
                  <a:pt x="3055" y="279"/>
                </a:cubicBezTo>
                <a:cubicBezTo>
                  <a:pt x="3105" y="203"/>
                  <a:pt x="3169" y="136"/>
                  <a:pt x="3221" y="61"/>
                </a:cubicBezTo>
                <a:cubicBezTo>
                  <a:pt x="3237" y="9"/>
                  <a:pt x="3259" y="26"/>
                  <a:pt x="3308" y="35"/>
                </a:cubicBezTo>
                <a:cubicBezTo>
                  <a:pt x="3334" y="32"/>
                  <a:pt x="3361" y="35"/>
                  <a:pt x="3386" y="26"/>
                </a:cubicBezTo>
                <a:cubicBezTo>
                  <a:pt x="3396" y="22"/>
                  <a:pt x="3404" y="0"/>
                  <a:pt x="34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78760" y="5222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3886200" y="51811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66400" y="34909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ác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5138640" y="342864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ciente (interna y exte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mpetidores atacan nich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compite más por procesos que por productos (ejemplo: servicio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 el marketing confrontacional (¿se acuerdan de la guerra del multicarrier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urgen alianzas estratégicas y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usiones y adquisiciones d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D04972_" descr=""/>
          <p:cNvPicPr/>
          <p:nvPr/>
        </p:nvPicPr>
        <p:blipFill>
          <a:blip r:embed="rId1"/>
          <a:stretch/>
        </p:blipFill>
        <p:spPr>
          <a:xfrm>
            <a:off x="7072200" y="1219320"/>
            <a:ext cx="1919520" cy="1438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52600" y="5410080"/>
            <a:ext cx="81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Existe espacio de competencia en el mercado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Por qué se regulan algunos mercado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Métodos de determinación de preci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l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ntabilidad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rva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 inve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 modif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nálisis de valor versus valor en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conomét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gu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ic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BS00561_" descr=""/>
          <p:cNvPicPr/>
          <p:nvPr/>
        </p:nvPicPr>
        <p:blipFill>
          <a:blip r:embed="rId1"/>
          <a:stretch/>
        </p:blipFill>
        <p:spPr>
          <a:xfrm>
            <a:off x="5403960" y="1600200"/>
            <a:ext cx="290196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Qué busca el pre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URAR EL MÁXIMO VALOR CR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= Beneficios -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057400" y="3124080"/>
            <a:ext cx="1600200" cy="228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57400" y="5410080"/>
            <a:ext cx="16002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38480" y="312408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52880" y="34434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52880" y="37386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39360" y="31194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- en 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44920" y="338616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s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87680" y="369108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+ ga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733920" y="31240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33920" y="411480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24"/>
                </a:lnTo>
                <a:cubicBezTo>
                  <a:pt x="10800" y="10024"/>
                  <a:pt x="16200" y="10924"/>
                  <a:pt x="21600" y="10924"/>
                </a:cubicBezTo>
                <a:cubicBezTo>
                  <a:pt x="16200" y="10924"/>
                  <a:pt x="10800" y="11824"/>
                  <a:pt x="10800" y="1272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3124080"/>
            <a:ext cx="76320" cy="2286000"/>
          </a:xfrm>
          <a:custGeom>
            <a:avLst/>
            <a:gdLst>
              <a:gd name="textAreaLeft" fmla="*/ 48960 w 76320"/>
              <a:gd name="textAreaRight" fmla="*/ 76320 w 763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28800" y="54864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520" y="388620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pos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0680" y="5470560"/>
            <a:ext cx="150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re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38760" y="4894200"/>
            <a:ext cx="200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821560" y="326088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neg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74200" y="5699160"/>
            <a:ext cx="392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si los costos son may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que el valor de referenc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percib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explíc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percib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ímbolos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cio como señalador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onibilidad de otros indic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ersión de precios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ferencias de percepción de calidad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imientos de los Precios por 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Rol de los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ás que los niveles de costos, importa saber cómo ellos cambian ante cambios en ventas por decisiones de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relevantes son los costos futuros, incrementales y evitables (costos fijos no, costos variables s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debieran definir el piso de los precios. El precio final vendrá asociado al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é costos consider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mejor competidor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competidor pot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prop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74680" y="4556160"/>
            <a:ext cx="514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puede imponer barrera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trada una empresa realizando inver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se relaciona esto con el 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stratégic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xisten incentivos en una industria intensiva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stos fijos para generar guerras de preci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en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BD06982_" descr=""/>
          <p:cNvPicPr/>
          <p:nvPr/>
        </p:nvPicPr>
        <p:blipFill>
          <a:blip r:embed="rId1"/>
          <a:stretch/>
        </p:blipFill>
        <p:spPr>
          <a:xfrm>
            <a:off x="5718240" y="3600360"/>
            <a:ext cx="18208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demand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clave es tratar de controlar la elasticidad precio de la demanda de manera de insensibilizar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10 factores de control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unicidad (atributo único relevante para el consumid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fin último (situación uso/consumo, costo relativo a to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gasto total (términos absolutos, situación relati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publ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ntario (corto plazo, expectativas futur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sto compart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nocimiento de altern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dificultad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rsión pas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292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281640" y="468144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291360" y="5505480"/>
            <a:ext cx="14475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48440" y="6248520"/>
            <a:ext cx="35812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s de insensibilización a 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competenci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o de competencia =&gt; Aumento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iénes finalmente son mis competid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que tienen la CAPACIDAD y VOLUNTAD de re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 B baja el precio, ¿estará dispuesto a hacerlo 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72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139760" y="4325760"/>
            <a:ext cx="1554120" cy="2588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447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9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04120" y="432756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53200" y="37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43360" y="438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9528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iciones que favorecen la competencia vía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5410080"/>
            <a:ext cx="4191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 sensibilidad a precios entre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as barreras de ingreso a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s barreras de salida de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05520" y="5410080"/>
            <a:ext cx="3962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ducto en etapa de madur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ructura de la industria (compañías de tamaño simil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6576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809880" y="3341520"/>
            <a:ext cx="2552760" cy="9842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451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04160" y="417996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53600" y="3341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81640" y="4179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496200" y="2666880"/>
            <a:ext cx="228600" cy="2133720"/>
          </a:xfrm>
          <a:custGeom>
            <a:avLst/>
            <a:gdLst>
              <a:gd name="textAreaLeft" fmla="*/ 0 w 228600"/>
              <a:gd name="textAreaRight" fmla="*/ 82440 w 2286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11120" y="2743200"/>
            <a:ext cx="23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s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96080" y="365760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21200" y="422928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Ñ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os distribuidor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 aumenta el poder de los distribu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seen injherencia en el precio final y asumen una posición activa frente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crea valor el ca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lítica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s en el punto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cursos humanos cal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stema logístico: cuándo, dónde, cuá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biente/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sea, los canales permiten llegar a los clientes, ofrecer productos ampliados y ser un medio de 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precio es eficiente como herramienta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o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volun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n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57913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13240" y="5459400"/>
            <a:ext cx="286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scriminación de Pre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empo/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81480" y="5467320"/>
            <a:ext cx="30481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ena de valor agre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52480" y="2590920"/>
            <a:ext cx="5791320" cy="685800"/>
          </a:xfrm>
          <a:custGeom>
            <a:avLst/>
            <a:gdLst>
              <a:gd name="textAreaLeft" fmla="*/ 723960 w 5791320"/>
              <a:gd name="textAreaRight" fmla="*/ 5067720 w 57913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5640" y="26668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e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90360" y="246384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76360" y="232740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590920" y="4038480"/>
            <a:ext cx="304560" cy="38124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954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20040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90920" y="3809880"/>
            <a:ext cx="304560" cy="38124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05520" y="4025880"/>
            <a:ext cx="30456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10080" y="402588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3200400" y="2895480"/>
            <a:ext cx="457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95680" y="2895480"/>
            <a:ext cx="457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512440" y="345456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yor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28800" y="345456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inor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472428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cadena del distribuidor incluye a proveedor y consumidor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lo tanto, las cadenas COMPI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aración de cade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1447920"/>
            <a:ext cx="6553080" cy="8380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2666880"/>
            <a:ext cx="6553080" cy="83844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47000" y="16606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184920" y="16606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g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866920" y="16606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7000" y="281952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68360" y="281952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84920" y="28195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as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05120" y="1752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00600" y="29718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81080" y="29718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48320" y="1752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iferencias 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ven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ormas de 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ugares de 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rvicios Asoci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BD06663_" descr=""/>
          <p:cNvPicPr/>
          <p:nvPr/>
        </p:nvPicPr>
        <p:blipFill>
          <a:blip r:embed="rId1"/>
          <a:stretch/>
        </p:blipFill>
        <p:spPr>
          <a:xfrm>
            <a:off x="5862600" y="4008600"/>
            <a:ext cx="1928880" cy="16729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5097600" y="5851440"/>
            <a:ext cx="355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La decisión de compra no está 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sólo determinada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162920" y="1143000"/>
            <a:ext cx="304560" cy="2590920"/>
          </a:xfrm>
          <a:custGeom>
            <a:avLst/>
            <a:gdLst>
              <a:gd name="textAreaLeft" fmla="*/ 0 w 304560"/>
              <a:gd name="textAreaRight" fmla="*/ 109800 w 3045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529400" y="181296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PE01561_" descr=""/>
          <p:cNvPicPr/>
          <p:nvPr/>
        </p:nvPicPr>
        <p:blipFill>
          <a:blip r:embed="rId2"/>
          <a:stretch/>
        </p:blipFill>
        <p:spPr>
          <a:xfrm>
            <a:off x="7543800" y="2819520"/>
            <a:ext cx="122544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Cómo llegar a ell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guntas cla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uándo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Dónde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respuestas varían dependiendo de los segmentos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andes corpo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y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mento 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demás se deben determinar los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rvicios más valorado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(no siempre para tener ventaja sino que para estar en la categorí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jeta de crédito para super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oporte y garantías en tecnologías de misión cr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E01562_" descr=""/>
          <p:cNvPicPr/>
          <p:nvPr/>
        </p:nvPicPr>
        <p:blipFill>
          <a:blip r:embed="rId1"/>
          <a:stretch/>
        </p:blipFill>
        <p:spPr>
          <a:xfrm>
            <a:off x="7086600" y="3124080"/>
            <a:ext cx="1357200" cy="1428840"/>
          </a:xfrm>
          <a:prstGeom prst="rect">
            <a:avLst/>
          </a:prstGeom>
          <a:ln w="0">
            <a:noFill/>
          </a:ln>
        </p:spPr>
      </p:pic>
      <p:pic>
        <p:nvPicPr>
          <p:cNvPr id="435" name="PE01476_" descr=""/>
          <p:cNvPicPr/>
          <p:nvPr/>
        </p:nvPicPr>
        <p:blipFill>
          <a:blip r:embed="rId2"/>
          <a:stretch/>
        </p:blipFill>
        <p:spPr>
          <a:xfrm>
            <a:off x="4800600" y="1066680"/>
            <a:ext cx="12063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lealtad de marca se ve erosio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roliferación de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ridad percibida en el producto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oducto ampliado cada vez más 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iclos de vida del producto más co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ducción en tiempo-espacio-materia en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47960" y="5562720"/>
            <a:ext cx="535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duró Internet Conmutad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Qué pasó con el boom de la larga distanci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l fue la apuesta estratégica de ENTEL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ucturación del ca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os servicios más valorados deben definirse TAREAS, sus alcances y los AGENTES que las realiza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ea: Dar crédito en el punto de venta ¿administro mi propio medio de pago? ¿acepto medios de pago de terceros? ¿ofrezco las mismas facilidades de pag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tareas en el canal determinan el costo operativo asociado ($ y tiemp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ótese que puntos de venta masivos pueden ser muy costos de administ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ada tarea debe ser remunerada de acuerdo a su aporte en la cadena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canal puede obtener una importante porción del precio al usuario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lo debe ser consistente con su aporte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924680" y="528336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061840" y="5119560"/>
            <a:ext cx="9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P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064000" y="64612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Pfab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077320" y="548640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214840" y="580536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PE01616_" descr=""/>
          <p:cNvPicPr/>
          <p:nvPr/>
        </p:nvPicPr>
        <p:blipFill>
          <a:blip r:embed="rId1"/>
          <a:stretch/>
        </p:blipFill>
        <p:spPr>
          <a:xfrm>
            <a:off x="7391520" y="3048120"/>
            <a:ext cx="101124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dministración de canales de distrib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xisten diversas formas de organizar canales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pietarios (integración ver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rat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ranqui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lab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pacitación, financiamiento, elementos de venta, merchandising, contabilidad, control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 existe un camino ú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idado con los costos de transacción y los costos de agencia, sobretodo en la organización de fuerzas de v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5448240" y="2870280"/>
            <a:ext cx="3581640" cy="1828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unicación Integr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 más allá de la conocida “publicida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integra íntimamente al posicionamiento del producto a la identidad de marca y al potenciamiento de las demás variables comer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ases de imple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percibe o piensa 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 acuerdo a eso, qué hace 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jetivos (situación esper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quiero  que piensen los clientes 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quiero que hagan los clientes 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 seguimiento debe ser planteado a través de objetivos numé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lementación de la estrategia comunic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981400" y="297180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atego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42280" y="32004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tributos valor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21400" y="3429000"/>
            <a:ext cx="165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tributos percib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713920" y="36576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arcas percib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2800" y="388620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aracterísticas percib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79560" y="4114800"/>
            <a:ext cx="20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osicionamiento percib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636880" y="4343400"/>
            <a:ext cx="176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ctitud hacias mar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478280" y="30481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ctitud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440480" y="3276720"/>
            <a:ext cx="164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Dificultad de ac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565040" y="350532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eferente so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720920" y="373392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stu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480440" y="2882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PE01496_" descr=""/>
          <p:cNvPicPr/>
          <p:nvPr/>
        </p:nvPicPr>
        <p:blipFill>
          <a:blip r:embed="rId1"/>
          <a:stretch/>
        </p:blipFill>
        <p:spPr>
          <a:xfrm>
            <a:off x="6781680" y="2527200"/>
            <a:ext cx="627120" cy="743040"/>
          </a:xfrm>
          <a:prstGeom prst="rect">
            <a:avLst/>
          </a:prstGeom>
          <a:ln w="0">
            <a:noFill/>
          </a:ln>
        </p:spPr>
      </p:pic>
      <p:pic>
        <p:nvPicPr>
          <p:cNvPr id="462" name="PE01549_" descr=""/>
          <p:cNvPicPr/>
          <p:nvPr/>
        </p:nvPicPr>
        <p:blipFill>
          <a:blip r:embed="rId2"/>
          <a:stretch/>
        </p:blipFill>
        <p:spPr>
          <a:xfrm>
            <a:off x="8001000" y="4038480"/>
            <a:ext cx="669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09480" y="1752480"/>
            <a:ext cx="25146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mplementación de estrateg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895120" y="327672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s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recuencia/Cober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or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867280" y="1752480"/>
            <a:ext cx="25146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T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2133720"/>
            <a:ext cx="1523880" cy="38088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683160" y="253368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rategia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BD05537_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2023920" cy="2641680"/>
          </a:xfrm>
          <a:prstGeom prst="rect">
            <a:avLst/>
          </a:prstGeom>
          <a:ln w="0">
            <a:noFill/>
          </a:ln>
        </p:spPr>
      </p:pic>
      <p:pic>
        <p:nvPicPr>
          <p:cNvPr id="470" name="BD06517_" descr=""/>
          <p:cNvPicPr/>
          <p:nvPr/>
        </p:nvPicPr>
        <p:blipFill>
          <a:blip r:embed="rId2"/>
          <a:stretch/>
        </p:blipFill>
        <p:spPr>
          <a:xfrm>
            <a:off x="6705720" y="5181480"/>
            <a:ext cx="1803240" cy="1189080"/>
          </a:xfrm>
          <a:prstGeom prst="rect">
            <a:avLst/>
          </a:prstGeom>
          <a:ln w="0">
            <a:noFill/>
          </a:ln>
        </p:spPr>
      </p:pic>
      <p:pic>
        <p:nvPicPr>
          <p:cNvPr id="471" name="BS02064_" descr=""/>
          <p:cNvPicPr/>
          <p:nvPr/>
        </p:nvPicPr>
        <p:blipFill>
          <a:blip r:embed="rId3"/>
          <a:stretch/>
        </p:blipFill>
        <p:spPr>
          <a:xfrm>
            <a:off x="6629400" y="33526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rácter del mensa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209680" y="1828800"/>
            <a:ext cx="5791320" cy="3048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49600" y="1181160"/>
            <a:ext cx="21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form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educación, ra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37600" y="1181160"/>
            <a:ext cx="22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m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sensorial, emo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49880" y="24526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iesgo 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49880" y="37479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iesgo A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029200" y="18288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09680" y="335268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972160" y="236232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spir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Deterg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43920" y="362592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C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quipos/Sist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887080" y="2362320"/>
            <a:ext cx="12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Beb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Cosmét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85200" y="3824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utos de lu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66400" y="5029200"/>
            <a:ext cx="58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3333cc"/>
                </a:solidFill>
                <a:latin typeface="Times New Roman"/>
              </a:rPr>
              <a:t>¿Dónde sitúa ustedes a los productos de telecomunicacion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da cuadrante requiere distintos me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nsa es adecuada para mensajes inform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TV es adecuada para mensajes de im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Tipos de forma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o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mociones asociadas a la m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isociación de eventos y m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acción del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ov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inamismo, co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ercado objetivo principal los ni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ar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sentar ventaja frente a la compe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JO con las trabas legales y prác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spaldo de person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Vocero de peso relaci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lación al producto y posicio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esen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Vocero v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levante para la categor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ímbo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lementos de fuerte significado cole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ucha información en poco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50320" y="129528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Carabineros de Chile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visos de accidentes de tráns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51400" y="245268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Dragon Ball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349960" y="3244680"/>
            <a:ext cx="33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Pepsi, nueva gen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Líder los precios + bajos siemp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350320" y="4205160"/>
            <a:ext cx="36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Nicolás Massú y Telefó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49600" y="504360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Andrea Molina y Telm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477120" y="5791320"/>
            <a:ext cx="838080" cy="7617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7736400" y="5905440"/>
            <a:ext cx="443160" cy="531360"/>
            <a:chOff x="7736400" y="5905440"/>
            <a:chExt cx="443160" cy="531360"/>
          </a:xfrm>
        </p:grpSpPr>
        <p:sp>
          <p:nvSpPr>
            <p:cNvPr id="495" name=""/>
            <p:cNvSpPr/>
            <p:nvPr/>
          </p:nvSpPr>
          <p:spPr>
            <a:xfrm>
              <a:off x="7973640" y="5905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73280" y="6212520"/>
              <a:ext cx="206280" cy="22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7736400" y="6208200"/>
              <a:ext cx="223920" cy="20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5353200" y="595800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503240" y="5448240"/>
            <a:ext cx="457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imes New Roman"/>
              </a:rPr>
              <a:t>OJO con quedar atrapado en el presentador y respal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l segmento elegi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le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fortaleza es la cobertura (capacidad de cubrir el merc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debilidad es la capacidad de entrega de mensajes especí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¿Saben cómo se mide el rat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 lo menos es discutible como metodolog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Sin embargo es relevante en cuanto decide el presupuesto de inver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recuencia de repetición del mensaje (medida de “ataque” al segm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GRP (Gross rating point) = FRECUENCIA x COBERTURA (costo por contac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 términos de costos y de selección de estrategia existe un trade-off entre frecuencia y cober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 la práctica las preguntas son: Definir qué mercado y cómo llegar a é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a cobertura y frecuencia deben determinarse de acuerdo a los objetivos de la campaña, al segmento objetivo, los atributos del producto y el formato selecci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nsa escr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fortaleza es la capacidad de entrega de mensajes r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 menos eficiente en la entrega de mensajes emo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utilización se mide por el concepto de cm-colum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sto por contacto efec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¿Cuánto cuesta llegar efectivamente a quién se quiere llega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523880" y="3504960"/>
            <a:ext cx="1219320" cy="533160"/>
            <a:chOff x="1523880" y="3504960"/>
            <a:chExt cx="1219320" cy="533160"/>
          </a:xfrm>
        </p:grpSpPr>
        <p:sp>
          <p:nvSpPr>
            <p:cNvPr id="505" name=""/>
            <p:cNvSpPr/>
            <p:nvPr/>
          </p:nvSpPr>
          <p:spPr>
            <a:xfrm flipV="1">
              <a:off x="1523880" y="3504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3880" y="35053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2743200" y="2971440"/>
            <a:ext cx="1219320" cy="533160"/>
            <a:chOff x="2743200" y="2971440"/>
            <a:chExt cx="1219320" cy="533160"/>
          </a:xfrm>
        </p:grpSpPr>
        <p:sp>
          <p:nvSpPr>
            <p:cNvPr id="508" name=""/>
            <p:cNvSpPr/>
            <p:nvPr/>
          </p:nvSpPr>
          <p:spPr>
            <a:xfrm flipV="1">
              <a:off x="2743200" y="297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43200" y="2971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962520" y="2437920"/>
            <a:ext cx="1218960" cy="533160"/>
            <a:chOff x="3962520" y="2437920"/>
            <a:chExt cx="1218960" cy="533160"/>
          </a:xfrm>
        </p:grpSpPr>
        <p:sp>
          <p:nvSpPr>
            <p:cNvPr id="511" name=""/>
            <p:cNvSpPr/>
            <p:nvPr/>
          </p:nvSpPr>
          <p:spPr>
            <a:xfrm flipV="1">
              <a:off x="3962520" y="2437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962520" y="2438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181480" y="1904760"/>
            <a:ext cx="1219320" cy="533160"/>
            <a:chOff x="5181480" y="1904760"/>
            <a:chExt cx="1219320" cy="533160"/>
          </a:xfrm>
        </p:grpSpPr>
        <p:sp>
          <p:nvSpPr>
            <p:cNvPr id="514" name=""/>
            <p:cNvSpPr/>
            <p:nvPr/>
          </p:nvSpPr>
          <p:spPr>
            <a:xfrm flipV="1">
              <a:off x="5181480" y="19047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81480" y="1905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6400800" y="1371240"/>
            <a:ext cx="1219320" cy="533160"/>
            <a:chOff x="6400800" y="1371240"/>
            <a:chExt cx="1219320" cy="533160"/>
          </a:xfrm>
        </p:grpSpPr>
        <p:sp>
          <p:nvSpPr>
            <p:cNvPr id="517" name=""/>
            <p:cNvSpPr/>
            <p:nvPr/>
          </p:nvSpPr>
          <p:spPr>
            <a:xfrm flipV="1">
              <a:off x="6400800" y="1371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00800" y="1371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1584360" y="36194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ercado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805120" y="30862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sp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099680" y="251460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teres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19720" y="19699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ue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536520" y="142236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dopción y lealt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4008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os To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057400" y="302256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15000" y="144792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95680" y="1981080"/>
            <a:ext cx="533520" cy="381240"/>
          </a:xfrm>
          <a:custGeom>
            <a:avLst/>
            <a:gdLst>
              <a:gd name="textAreaLeft" fmla="*/ 0 w 533520"/>
              <a:gd name="textAreaRight" fmla="*/ 533880 w 5335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174840" y="251460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BD04972_" descr=""/>
          <p:cNvPicPr/>
          <p:nvPr/>
        </p:nvPicPr>
        <p:blipFill>
          <a:blip r:embed="rId1"/>
          <a:stretch/>
        </p:blipFill>
        <p:spPr>
          <a:xfrm>
            <a:off x="4800600" y="2895480"/>
            <a:ext cx="1447920" cy="10843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685800" y="44197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Nótese que el cálculo por contacto efectivo es mayor que la inversión en medios mas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No sólo tengo que generar “awareness” en el cliente sino que generar la prueba del producto, su adopción y mantener la fide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caso contrario el esfuerzo es infructu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Presupuesto de comunic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¿Es la comunicación una INVERSIÓN o un GAST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de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de Finan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Usar un porcentaje de las ventas como presupuesto de publicidad no es un buen método ¿Por qué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iense en el ciclo de vida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mecanismos de asignación correctos deben estar orientados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atisfacer objetivos y tareas (relación con estrateg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lación con la 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námica líder-segu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justarse a presupuestos real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mación de esfuerzos para alcanzar objetivo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BD05299_" descr=""/>
          <p:cNvPicPr/>
          <p:nvPr/>
        </p:nvPicPr>
        <p:blipFill>
          <a:blip r:embed="rId1"/>
          <a:stretch/>
        </p:blipFill>
        <p:spPr>
          <a:xfrm>
            <a:off x="7010280" y="1447920"/>
            <a:ext cx="175284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nales de 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as formas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oder de los intermedi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an construido marca, manejan información y localización privilegi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concentración de la prop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segmentación de los for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so intensivo de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57880" y="248292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&amp;S y s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istribu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080" y="5638680"/>
            <a:ext cx="695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se venden los productos de telecomunicaciones ho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Basta poner un comercial en la TV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Infraestructura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tele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netración de la computación 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sistemas de cor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os medios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cursos de mayor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JO que las telecomunicaciones en si son importantes en el proceso de creación de valor de cualquier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BD05679_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52388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clave: VAL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romiso beneficios versu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28600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Tang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ercib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57200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¿Cómo agregar val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mentar los benef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minuir los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2440" y="3124080"/>
            <a:ext cx="51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¿qué pasa en una situación de consu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BD05584_" descr=""/>
          <p:cNvPicPr/>
          <p:nvPr/>
        </p:nvPicPr>
        <p:blipFill>
          <a:blip r:embed="rId1"/>
          <a:stretch/>
        </p:blipFill>
        <p:spPr>
          <a:xfrm>
            <a:off x="2514600" y="3581280"/>
            <a:ext cx="7412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ción de grupos de consumidores que tengan en común ciertas características que determinen comportamientos de compra 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características anteriores se agrupan en variables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anterior nos permite diferenciar la OFERTA y entender mejor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, comportamiento de compra = f(variables de segment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lmente se utilizan varias variables de segmentación para caracterizar adecuadamente a un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67360" y="5791320"/>
            <a:ext cx="399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significa caracter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adecuadamente a un mer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7:01:47Z</dcterms:created>
  <dc:creator>JMTORRES</dc:creator>
  <dc:description/>
  <dc:language>en-US</dc:language>
  <cp:lastModifiedBy>jtorrest</cp:lastModifiedBy>
  <dcterms:modified xsi:type="dcterms:W3CDTF">2006-09-12T20:53:54Z</dcterms:modified>
  <cp:revision>14</cp:revision>
  <dc:subject/>
  <dc:title>Gestión de Empresas de Telecomunicaciones EL 65J Apunte 3 Gestión Comercial</dc:title>
</cp:coreProperties>
</file>