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6A3-BE1A-410D-B5B8-CFC29622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C71-3125-454B-A844-244029C1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4A0-A128-4DF7-A72C-ADEC59CF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5AF-45DD-40E7-883D-899D4F60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4E8-5C11-4E58-89F4-E9BB3CD0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A73-ADC2-4B19-884F-5FED3C7D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520-707C-4822-9C62-1B369F3D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8BF2-7E56-40B8-AE02-A8972ABF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572-8A07-4E53-912A-1FE2A92A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EC3-BC14-4E45-8424-356461FC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2D7-C2F4-42A2-87E7-B19A50A2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81F-5CF0-4B9A-8334-FEA188FD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3971-C569-4C6E-875A-8D076E056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D06663_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E01561_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E01562_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PE01476_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E01616_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E01496_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E01549_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BD05537_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BD06517_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BS02064_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D04972_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BD05299_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torrest</cp:lastModifiedBy>
  <dcterms:modified xsi:type="dcterms:W3CDTF">2006-09-12T20:53:54Z</dcterms:modified>
  <cp:revision>14</cp:revision>
  <dc:subject/>
  <dc:title>Gestión de Empresas de Telecomunicaciones EL 65J Apunte 3 Gestión Comercial</dc:title>
</cp:coreProperties>
</file>