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3BD-BE8D-40AD-AF53-4C930F50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40C-4F8F-4F2A-A35C-9C0B7A28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739-A418-4B00-944F-E5BAD9F4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2C1-B2C4-4991-BDA5-113D6FF4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D04-CBB1-4E34-8284-E5736A39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8B2-790A-487B-B52E-B5558DEB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844-41B8-4954-871A-52C8537D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B9B-95A3-447B-A383-53612C22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313-6745-4502-976B-0EC6AFA3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20C-C932-4E29-81B0-BB09FAAD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1783-57E3-4131-AB19-EC6B0844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B5B-1C95-4007-BF12-7DDB4271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F890-8765-4606-A382-7453A8A4B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6-09-12T20:53:54Z</dcterms:modified>
  <cp:revision>14</cp:revision>
  <dc:subject/>
  <dc:title>Gestión de Empresas de Telecomunicaciones EL 65J Apunte 3 Gestión Comercial</dc:title>
</cp:coreProperties>
</file>