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05720" y="6248520"/>
            <a:ext cx="2438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117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28600" y="632448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Página N° </a:t>
            </a:r>
            <a:fld id="{95EF8FFB-D98E-43C0-94E2-BA0C324AFC88}" type="slidenum">
              <a:rPr b="0" lang="en-US" sz="12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14600" y="639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Diseño de Sistemas basado en 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U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187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3"/>
            <a:endCxn id="161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3"/>
            <a:endCxn id="162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2" idx="3"/>
            <a:endCxn id="163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3" idx="3"/>
            <a:endCxn id="164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5" idx="3"/>
            <a:endCxn id="166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3"/>
            <a:endCxn id="165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6" idx="3"/>
            <a:endCxn id="173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038480" y="4592520"/>
            <a:ext cx="4496040" cy="2014200"/>
          </a:xfrm>
          <a:prstGeom prst="borderCallout1">
            <a:avLst>
              <a:gd name="adj1" fmla="val 18750"/>
              <a:gd name="adj2" fmla="val -8333"/>
              <a:gd name="adj3" fmla="val -17976"/>
              <a:gd name="adj4" fmla="val -1450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detalla completament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caso necesario se realizan pruebas de los conceptos apli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teoría es independiente de la herramienta, pero en la práctica se hace para el conjunto de herramientas a utili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Ingeniería de Deta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7" idx="3"/>
            <a:endCxn id="178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8" idx="3"/>
            <a:endCxn id="179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9" idx="3"/>
            <a:endCxn id="180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3"/>
            <a:endCxn id="181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3"/>
            <a:endCxn id="183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1" idx="3"/>
            <a:endCxn id="182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3" idx="3"/>
            <a:endCxn id="190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04920" y="53586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499550"/>
              <a:gd name="adj4" fmla="val 1214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odifica toda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mplementa el SW y HW de la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4" idx="3"/>
            <a:endCxn id="195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5" idx="3"/>
            <a:endCxn id="196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6" idx="3"/>
            <a:endCxn id="197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7" idx="3"/>
            <a:endCxn id="198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3"/>
            <a:endCxn id="200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9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0" idx="3"/>
            <a:endCxn id="207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914400" y="472896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105171"/>
              <a:gd name="adj4" fmla="val 11305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alizan todas las pruebas pertinentes (unitarias, sistema, integración, performance, errore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pretende encontrar defectos, no que el sistema esté bu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ara el diseño (lógico) con lo constru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1" idx="3"/>
            <a:endCxn id="212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2" idx="3"/>
            <a:endCxn id="213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3" idx="3"/>
            <a:endCxn id="214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4" idx="3"/>
            <a:endCxn id="215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7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5" idx="3"/>
            <a:endCxn id="216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914400" y="4732200"/>
            <a:ext cx="4495680" cy="1739880"/>
          </a:xfrm>
          <a:prstGeom prst="borderCallout1">
            <a:avLst>
              <a:gd name="adj1" fmla="val 18750"/>
              <a:gd name="adj2" fmla="val -8333"/>
              <a:gd name="adj3" fmla="val -53430"/>
              <a:gd name="adj4" fmla="val 124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aliza la prueba de aceptación (por el usu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capacita a todos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ga inicial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a blanca (ambiente control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esta en régi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7" idx="3"/>
            <a:endCxn id="22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8" idx="3"/>
            <a:endCxn id="22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9" idx="3"/>
            <a:endCxn id="23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0" idx="3"/>
            <a:endCxn id="23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1" idx="3"/>
            <a:endCxn id="23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3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914400" y="5209200"/>
            <a:ext cx="4495680" cy="642600"/>
          </a:xfrm>
          <a:prstGeom prst="borderCallout1">
            <a:avLst>
              <a:gd name="adj1" fmla="val 18750"/>
              <a:gd name="adj2" fmla="val -8333"/>
              <a:gd name="adj3" fmla="val -99606"/>
              <a:gd name="adj4" fmla="val 14759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mantiene el sistema a fin de resolver los nuevos requerimientos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34" idx="3"/>
            <a:endCxn id="24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un modelo monolítico,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 una relación favorable al desarrollador, al congelar las decisiones “rápidamen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pasa a la actividad siguiente sin haber aprobado la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 esfuerzo de abstracción muy alto al princi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a la naturaleza cambiante de los requisitos y el costo de cambios a medida que se avanza en el desarrollo, este modelo está dejando de ser usado en su forma p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ún es válido para implementación de sistemas empaquetados, pero en su mayoría se adaptan mejor al modelo de prototipos que veremos a conti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257800"/>
            <a:ext cx="8610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émicamente es el mejor, ya que permite estudiar cada fase en forma ais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que usaremos en el cu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Estructur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es un equipo de trabajo j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Jefe de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s Encargados de Á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cada área un grupo de perso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de llegar a tener varios niveles, dependiendo de la complejidad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niveles superiores de la jerarquía no tienen responsabilidad técnica, si no administr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 - Ro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típicas en este tipo de mod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a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actúan con e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écnic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eño detallado y cod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el proyecto no es muy grande, se mezclan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ingenieros con más experiencia (capacidad) participan en las primeras fases princip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ués se van incorporando ingenieros y técnicos de menos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2" idx="3"/>
            <a:endCxn id="253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4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4" idx="3"/>
            <a:endCxn id="255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5" idx="3"/>
            <a:endCxn id="256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7" idx="3"/>
            <a:endCxn id="258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56" idx="3"/>
            <a:endCxn id="257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3"/>
            <a:endCxn id="265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68" idx="3"/>
            <a:endCxn id="269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69" idx="3"/>
            <a:endCxn id="270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0" idx="3"/>
            <a:endCxn id="271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1" idx="3"/>
            <a:endCxn id="272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3"/>
            <a:endCxn id="274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2" idx="3"/>
            <a:endCxn id="273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3"/>
            <a:endCxn id="281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3" name=""/>
          <p:cNvSpPr/>
          <p:nvPr/>
        </p:nvSpPr>
        <p:spPr>
          <a:xfrm>
            <a:off x="990720" y="2286000"/>
            <a:ext cx="4190760" cy="2438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19520" y="5028840"/>
            <a:ext cx="5867280" cy="916920"/>
          </a:xfrm>
          <a:prstGeom prst="borderCallout1">
            <a:avLst>
              <a:gd name="adj1" fmla="val 18750"/>
              <a:gd name="adj2" fmla="val -8333"/>
              <a:gd name="adj3" fmla="val -74212"/>
              <a:gd name="adj4" fmla="val -245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análisis de requerimientos y el diseño se realiza mediante una técnica especial: La construcción de prototi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 Prototipo es una simulación del sistema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de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os altern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pos de cada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racterística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la participación activa del usuario, al revisar cada 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de una herramienta de desarrollo que permita construir prototipos rápid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gran ventaja es que el usuario está estrechamente ligado al desarrollo, construyéndose un sistema que realmente le es ú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 la “tentación” de usar el prototipo como la solución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uidado en este caso, puede ser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el prototipo normalmente se pasan por alto muchas consideraciones que deben ser agregadas posterior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prototipo, al ser iterativo, puede ir incorporando situaciones para su rápido desarrollo, no para ser solución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2: Modelo de prototipos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y similar al de casc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incorpora desde el principio personas con capacidad para desarrollar el prot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ción directa de los usuarios en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mos el modelo de 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ye no sólo la definición de las etapas, sino todas las funciones del desarrol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de variables crí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os de 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ila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has provisionales (por etap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definida y respons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ción basada en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ega por ver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5366520"/>
            <a:ext cx="2438280" cy="642600"/>
          </a:xfrm>
          <a:prstGeom prst="borderCallout1">
            <a:avLst>
              <a:gd name="adj1" fmla="val 18750"/>
              <a:gd name="adj2" fmla="val -8333"/>
              <a:gd name="adj3" fmla="val -311810"/>
              <a:gd name="adj4" fmla="val 18436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ición del objetivo y alcanc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5073120"/>
            <a:ext cx="2819160" cy="1191240"/>
          </a:xfrm>
          <a:prstGeom prst="borderCallout1">
            <a:avLst>
              <a:gd name="adj1" fmla="val 18750"/>
              <a:gd name="adj2" fmla="val -8333"/>
              <a:gd name="adj3" fmla="val -1115"/>
              <a:gd name="adj4" fmla="val 14362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alle suficiente para la constr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visan los compromisos, recursos y tiem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15000" y="480528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93046"/>
              <a:gd name="adj4" fmla="val -8570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 el código está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 que no está hecho es para una siguiente 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hace un análisis del sistema y de las fases de entr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Fechas provisional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734280" y="2895480"/>
            <a:ext cx="167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33200" y="1828800"/>
            <a:ext cx="167580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1874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18741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2971800" y="1828080"/>
            <a:ext cx="319968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2971800" y="1370520"/>
            <a:ext cx="320004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7057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705763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5105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86400" y="1676520"/>
            <a:ext cx="762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1371600"/>
            <a:ext cx="13716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289548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1752480"/>
            <a:ext cx="8380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267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038480" y="464832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91120" y="4876920"/>
            <a:ext cx="38088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572000" y="1219320"/>
            <a:ext cx="0" cy="48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57480" y="34322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3200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48769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323856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9720" y="1219320"/>
            <a:ext cx="304560" cy="38088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38480" y="1752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z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86400" y="365760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3341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00600" y="2286000"/>
            <a:ext cx="10666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cesidad d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81480" y="42670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57400" y="4267080"/>
            <a:ext cx="1371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57400" y="1905120"/>
            <a:ext cx="1371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4808160"/>
            <a:ext cx="3200400" cy="1465560"/>
          </a:xfrm>
          <a:prstGeom prst="borderCallout1">
            <a:avLst>
              <a:gd name="adj1" fmla="val 18750"/>
              <a:gd name="adj2" fmla="val -8333"/>
              <a:gd name="adj3" fmla="val -232560"/>
              <a:gd name="adj4" fmla="val -353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finaliza el código junto a las 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 este momento se pasa el control del sistema al grupo de operaciones y so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gramación basada en riesg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so de prototipos para explorar y reducir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ioridades basadas en riesgos técn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o incluye un acuerdo con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fechas parciales anteriores no “congelan” el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pués de ellas, los cambios son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equipo de desarrollo busca proactivamente y desde el principio los puntos de ries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nzamientos escalonados del cód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 de Ciclo de Vid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las etapas por las que pasa un proyecto desde su concepción hasta su cier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íntimamente ligado al concepto de Metodología, aunque no es l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ambia de proyecto a proyecto, aunque puede adaptarse a las diferencias naturales de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spiral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Lanzamiento por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versiones existen no sólo para producto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bién para desarrollos in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SW es visto como un proceso de mejora continua y no como un sistema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que las funcionalidades no incluidas en una versión se dejen para la(s) siguient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3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7" idx="3"/>
            <a:endCxn id="44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42" idx="2"/>
            <a:endCxn id="44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9" idx="3"/>
            <a:endCxn id="44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2" idx="3"/>
            <a:endCxn id="43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38" idx="3"/>
            <a:endCxn id="44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0" idx="3"/>
            <a:endCxn id="43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stCxn id="438" idx="2"/>
            <a:endCxn id="44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stCxn id="438" idx="2"/>
            <a:endCxn id="43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>
            <a:stCxn id="458" idx="0"/>
            <a:endCxn id="453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3" idx="3"/>
            <a:endCxn id="457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56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2" name=""/>
          <p:cNvCxnSpPr>
            <a:stCxn id="455" idx="3"/>
            <a:endCxn id="457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3" name=""/>
          <p:cNvCxnSpPr>
            <a:stCxn id="458" idx="3"/>
            <a:endCxn id="454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4" name=""/>
          <p:cNvCxnSpPr>
            <a:stCxn id="454" idx="3"/>
            <a:endCxn id="457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5" name=""/>
          <p:cNvCxnSpPr>
            <a:stCxn id="456" idx="3"/>
            <a:endCxn id="455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4" idx="2"/>
            <a:endCxn id="456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stCxn id="454" idx="2"/>
            <a:endCxn id="455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8" name=""/>
          <p:cNvSpPr/>
          <p:nvPr/>
        </p:nvSpPr>
        <p:spPr>
          <a:xfrm>
            <a:off x="3973680" y="5092560"/>
            <a:ext cx="4724280" cy="1465560"/>
          </a:xfrm>
          <a:prstGeom prst="borderCallout1">
            <a:avLst>
              <a:gd name="adj1" fmla="val 18750"/>
              <a:gd name="adj2" fmla="val -8333"/>
              <a:gd name="adj3" fmla="val -102773"/>
              <a:gd name="adj4" fmla="val -4492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tivo d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 de visión (expectativas y presun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ciación con otros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>
            <a:stCxn id="475" idx="0"/>
            <a:endCxn id="470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70" idx="3"/>
            <a:endCxn id="474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5" idx="2"/>
            <a:endCxn id="473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3"/>
            <a:endCxn id="474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5" idx="3"/>
            <a:endCxn id="471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1" name=""/>
          <p:cNvCxnSpPr>
            <a:stCxn id="471" idx="3"/>
            <a:endCxn id="474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2" name=""/>
          <p:cNvCxnSpPr>
            <a:stCxn id="473" idx="3"/>
            <a:endCxn id="472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71" idx="2"/>
            <a:endCxn id="473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4" name=""/>
          <p:cNvCxnSpPr>
            <a:stCxn id="471" idx="2"/>
            <a:endCxn id="472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5" name=""/>
          <p:cNvSpPr/>
          <p:nvPr/>
        </p:nvSpPr>
        <p:spPr>
          <a:xfrm>
            <a:off x="5334120" y="5265360"/>
            <a:ext cx="3363840" cy="1191240"/>
          </a:xfrm>
          <a:prstGeom prst="borderCallout1">
            <a:avLst>
              <a:gd name="adj1" fmla="val 18750"/>
              <a:gd name="adj2" fmla="val -8333"/>
              <a:gd name="adj3" fmla="val -128787"/>
              <a:gd name="adj4" fmla="val -5134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i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ordinación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unicación con otras áreas de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0"/>
            <a:endCxn id="487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7" idx="3"/>
            <a:endCxn id="491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92" idx="2"/>
            <a:endCxn id="490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89" idx="3"/>
            <a:endCxn id="491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92" idx="3"/>
            <a:endCxn id="488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88" idx="3"/>
            <a:endCxn id="491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3"/>
            <a:endCxn id="489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88" idx="2"/>
            <a:endCxn id="490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88" idx="2"/>
            <a:endCxn id="489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553080" y="42714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233513"/>
              <a:gd name="adj4" fmla="val -10393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t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ver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509" idx="0"/>
            <a:endCxn id="504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3"/>
            <a:endCxn id="508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509" idx="2"/>
            <a:endCxn id="507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506" idx="3"/>
            <a:endCxn id="508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09" idx="3"/>
            <a:endCxn id="505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5" idx="3"/>
            <a:endCxn id="508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507" idx="3"/>
            <a:endCxn id="506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5" idx="2"/>
            <a:endCxn id="507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5" idx="2"/>
            <a:endCxn id="506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9" name=""/>
          <p:cNvSpPr/>
          <p:nvPr/>
        </p:nvSpPr>
        <p:spPr>
          <a:xfrm>
            <a:off x="1360440" y="5185800"/>
            <a:ext cx="2297160" cy="916920"/>
          </a:xfrm>
          <a:prstGeom prst="borderCallout1">
            <a:avLst>
              <a:gd name="adj1" fmla="val 18750"/>
              <a:gd name="adj2" fmla="val -8333"/>
              <a:gd name="adj3" fmla="val -182611"/>
              <a:gd name="adj4" fmla="val 22763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 de depuración del cód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7" name=""/>
          <p:cNvCxnSpPr>
            <a:stCxn id="526" idx="0"/>
            <a:endCxn id="521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1" idx="3"/>
            <a:endCxn id="525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6" idx="2"/>
            <a:endCxn id="524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3" idx="3"/>
            <a:endCxn id="525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6" idx="3"/>
            <a:endCxn id="522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2" idx="3"/>
            <a:endCxn id="525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4" idx="3"/>
            <a:endCxn id="523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2" idx="2"/>
            <a:endCxn id="524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2" idx="2"/>
            <a:endCxn id="523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6" name=""/>
          <p:cNvSpPr/>
          <p:nvPr/>
        </p:nvSpPr>
        <p:spPr>
          <a:xfrm>
            <a:off x="5486400" y="1680840"/>
            <a:ext cx="3124080" cy="1191240"/>
          </a:xfrm>
          <a:prstGeom prst="borderCallout1">
            <a:avLst>
              <a:gd name="adj1" fmla="val 18750"/>
              <a:gd name="adj2" fmla="val -8333"/>
              <a:gd name="adj3" fmla="val 248245"/>
              <a:gd name="adj4" fmla="val -74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ación y material didác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ensor del usuario en el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quipo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352680" y="297828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2880" y="4578480"/>
            <a:ext cx="19814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57400" y="457848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712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9782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43" idx="0"/>
            <a:endCxn id="538" idx="1"/>
          </p:cNvCxnSpPr>
          <p:nvPr/>
        </p:nvCxnSpPr>
        <p:spPr>
          <a:xfrm flipH="1" flipV="1" rot="5400000">
            <a:off x="1964160" y="1589400"/>
            <a:ext cx="98676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8" idx="3"/>
            <a:endCxn id="542" idx="0"/>
          </p:cNvCxnSpPr>
          <p:nvPr/>
        </p:nvCxnSpPr>
        <p:spPr>
          <a:xfrm>
            <a:off x="5562360" y="1991880"/>
            <a:ext cx="2019960" cy="986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3" idx="2"/>
            <a:endCxn id="541" idx="1"/>
          </p:cNvCxnSpPr>
          <p:nvPr/>
        </p:nvCxnSpPr>
        <p:spPr>
          <a:xfrm flipH="1" rot="16200000">
            <a:off x="1217520" y="4154040"/>
            <a:ext cx="118512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2"/>
          </p:cNvCxnSpPr>
          <p:nvPr/>
        </p:nvCxnSpPr>
        <p:spPr>
          <a:xfrm flipV="1">
            <a:off x="6933960" y="3809520"/>
            <a:ext cx="648360" cy="1185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3" idx="3"/>
            <a:endCxn id="539" idx="1"/>
          </p:cNvCxnSpPr>
          <p:nvPr/>
        </p:nvCxnSpPr>
        <p:spPr>
          <a:xfrm>
            <a:off x="2666520" y="339372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3"/>
            <a:endCxn id="542" idx="1"/>
          </p:cNvCxnSpPr>
          <p:nvPr/>
        </p:nvCxnSpPr>
        <p:spPr>
          <a:xfrm>
            <a:off x="5562720" y="33937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0" idx="1"/>
          </p:cNvCxnSpPr>
          <p:nvPr/>
        </p:nvCxnSpPr>
        <p:spPr>
          <a:xfrm>
            <a:off x="4038480" y="49939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39" idx="2"/>
            <a:endCxn id="541" idx="0"/>
          </p:cNvCxnSpPr>
          <p:nvPr/>
        </p:nvCxnSpPr>
        <p:spPr>
          <a:xfrm flipH="1">
            <a:off x="3047760" y="3809520"/>
            <a:ext cx="141048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39" idx="2"/>
            <a:endCxn id="540" idx="0"/>
          </p:cNvCxnSpPr>
          <p:nvPr/>
        </p:nvCxnSpPr>
        <p:spPr>
          <a:xfrm>
            <a:off x="4457520" y="3809520"/>
            <a:ext cx="1486440" cy="76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304920" y="1604520"/>
            <a:ext cx="3124080" cy="916920"/>
          </a:xfrm>
          <a:prstGeom prst="borderCallout1">
            <a:avLst>
              <a:gd name="adj1" fmla="val 18750"/>
              <a:gd name="adj2" fmla="val -8333"/>
              <a:gd name="adj3" fmla="val 332101"/>
              <a:gd name="adj4" fmla="val 161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spaso del sistema a oper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l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l equipo mínim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352680" y="175896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52680" y="3268800"/>
            <a:ext cx="28195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952880" y="5629320"/>
            <a:ext cx="198144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7400" y="5629320"/>
            <a:ext cx="1981080" cy="46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77120" y="3724200"/>
            <a:ext cx="220968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994120"/>
            <a:ext cx="259092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55" idx="1"/>
          </p:cNvCxnSpPr>
          <p:nvPr/>
        </p:nvCxnSpPr>
        <p:spPr>
          <a:xfrm flipH="1" flipV="1" rot="5400000">
            <a:off x="1937160" y="1578240"/>
            <a:ext cx="1002600" cy="1829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5" idx="3"/>
            <a:endCxn id="559" idx="0"/>
          </p:cNvCxnSpPr>
          <p:nvPr/>
        </p:nvCxnSpPr>
        <p:spPr>
          <a:xfrm>
            <a:off x="5562360" y="1991880"/>
            <a:ext cx="2019960" cy="1732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60" idx="2"/>
            <a:endCxn id="558" idx="1"/>
          </p:cNvCxnSpPr>
          <p:nvPr/>
        </p:nvCxnSpPr>
        <p:spPr>
          <a:xfrm flipH="1" rot="16200000">
            <a:off x="1319760" y="5124600"/>
            <a:ext cx="94212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4" name=""/>
          <p:cNvCxnSpPr>
            <a:stCxn id="557" idx="3"/>
            <a:endCxn id="559" idx="2"/>
          </p:cNvCxnSpPr>
          <p:nvPr/>
        </p:nvCxnSpPr>
        <p:spPr>
          <a:xfrm flipV="1">
            <a:off x="6933960" y="4190400"/>
            <a:ext cx="648360" cy="1672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60" idx="3"/>
            <a:endCxn id="556" idx="1"/>
          </p:cNvCxnSpPr>
          <p:nvPr/>
        </p:nvCxnSpPr>
        <p:spPr>
          <a:xfrm>
            <a:off x="2819160" y="3957120"/>
            <a:ext cx="5338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6" idx="3"/>
            <a:endCxn id="559" idx="1"/>
          </p:cNvCxnSpPr>
          <p:nvPr/>
        </p:nvCxnSpPr>
        <p:spPr>
          <a:xfrm flipV="1">
            <a:off x="6171840" y="3956760"/>
            <a:ext cx="3056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3"/>
            <a:endCxn id="557" idx="1"/>
          </p:cNvCxnSpPr>
          <p:nvPr/>
        </p:nvCxnSpPr>
        <p:spPr>
          <a:xfrm>
            <a:off x="4038480" y="586224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56" idx="2"/>
            <a:endCxn id="558" idx="0"/>
          </p:cNvCxnSpPr>
          <p:nvPr/>
        </p:nvCxnSpPr>
        <p:spPr>
          <a:xfrm flipH="1">
            <a:off x="3047760" y="4647960"/>
            <a:ext cx="171504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56" idx="2"/>
            <a:endCxn id="557" idx="0"/>
          </p:cNvCxnSpPr>
          <p:nvPr/>
        </p:nvCxnSpPr>
        <p:spPr>
          <a:xfrm>
            <a:off x="4762080" y="4647960"/>
            <a:ext cx="11818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3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echas parciales y equip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de 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ecificación fu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del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digo comp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ción de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zamiento d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ño log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Vida v/s Metodologí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iclo de vida es más general, describe la forma en que se enfrentan los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una guía para resolver los problemas, basado en las directrices del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incluye ayudas directas al desarroll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illas y otros formatos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para realizar estim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muchas empresas estos conceptos se funden en uno só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o porque manejan una sola metodología y no tiene sentido hacer grandes definiciones y 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mparación de model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y sólido en su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para soluciones ya maduras, como Administ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útil para soluciones con mucha posibilidad de variación (aplicaciones nue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til cuando los requerimientos no son claros o no pueden articularse clar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ne el peligro de quedarse siempre en prototipos iterativos, sin converger a un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i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ite ver el desarrollo como fases o entregas sucesivas, lo que hace que no se tenga un desarrollo muy grande al princip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be tenerse claro el problema global para que las primeras fases ya consideren las complejidades que se agregan al incorporar nuevas funciona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s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SO 9000 y CM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écnicas para asegurar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raz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nceptos de calidad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Productos masiv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producto es de calidad cuando cumple sistemáticamente los estándares defin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jemplo tolerancia de dimensiones, ingredientes, ambiente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embargo, la calidad así definida no garantiza que satisface las necesidades del compr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n definiciones tales como “deleitar al usuario” o “sorprender al usu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se define entonces como la capacidad de satisfacer una necesidad en forma consistente y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anterior es válido para productos que se producen en forma masiva y se pueden analizar cada u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, ¿qué pasa con los proyectos, que se desarrollan una vez y nunca má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osto de los error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914400" y="175212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571500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600" y="1295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9608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90720" y="2286000"/>
            <a:ext cx="6476760" cy="3352680"/>
          </a:xfrm>
          <a:custGeom>
            <a:avLst/>
            <a:gdLst/>
            <a:ahLst/>
            <a:rect l="l" t="t" r="r" b="b"/>
            <a:pathLst>
              <a:path w="4080" h="2112">
                <a:moveTo>
                  <a:pt x="0" y="2112"/>
                </a:moveTo>
                <a:cubicBezTo>
                  <a:pt x="1172" y="1976"/>
                  <a:pt x="2344" y="1840"/>
                  <a:pt x="3024" y="1488"/>
                </a:cubicBezTo>
                <a:cubicBezTo>
                  <a:pt x="3704" y="1136"/>
                  <a:pt x="3892" y="568"/>
                  <a:pt x="40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lidad en proyecto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calidad en los proyectos (de cualquier índole, no sólo TIC) se logra “haciéndolo bi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esto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ner ciclo de vida y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ándares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general, la calidad de proyectos se explícita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lanificar el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as estim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 lo que se d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cumentar lo que hi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scar proactivamente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alizar los aciertos y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rregir los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 y 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9000 es un estándar general, no sólo para TIC (de hecho está diseñado primeramente para manufactu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M es solamente para el desarrollo de SW (no para otras T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SO 9000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stándar “todo o nada”; es decir, se cumple o no se cu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ampliamente reconocido y acep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ne una versión específica para S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e en su defin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s extremadamente exig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MM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 un modelo de madurez, no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mide cuán bien lo hace la empresa en diversas dim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ulsado por el D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ne 5 nive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nivel 2 es comparable a ISO 9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niveles superiores son muy exi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 revisado y está vigente la versión 2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Otros modelo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inc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T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o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etodología v/s Plan de Proyect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etodología es única, no depende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lan de Proyecto es la forma en que la metodología se concreta en un proyecto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iempos y responsabilidades específicos por actividad (la metodología puede tenerlas en forma más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as actividades que se realizar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eliminar actividades de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ede agregar actividades a la metod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ce explícito el equipo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 los riesgos del proyecto, así como cualquier otra variable rele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Prince2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 un estándar para desarroll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ació en Inglaterra para S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Hoy se utilizar en general para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stión del riesgo (M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lidad en el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ministración de la config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rol de camb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 un gran control sobre el desarrollo del proyecto, gestionando tiempo, costo y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ITIL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ientado a todo la Gerencia de Tecnología, no sólo al desarrollo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o tiene un foco en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o si ve al área como un servicio hacia el resto de la organización que evoluciona constante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grupa las “mejores prácticas” en librer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Strate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Desig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Tran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e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ntinual Service Impro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tante experiencia a nivel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22gr-the-core-framework_2142_w2" descr="The Core Framework"/>
          <p:cNvPicPr/>
          <p:nvPr/>
        </p:nvPicPr>
        <p:blipFill>
          <a:blip r:embed="rId1"/>
          <a:stretch/>
        </p:blipFill>
        <p:spPr>
          <a:xfrm>
            <a:off x="6095880" y="1752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99"/>
                </a:solidFill>
                <a:latin typeface="Times New Roman"/>
              </a:rPr>
              <a:t>CobiT 4.1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usca la “gobernabilidad” del área de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der predecir y controlar los recursos requeridos para generar los resultados espe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ción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 un Framework orientado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Alineado con el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T facilita (permite) el negocio y maximiza sus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ecursos de IT son usados responsab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Los riesgos de IT son administ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nco áreas princip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lineamiento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ntregando / generando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dministración de los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Gestión del ries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Mediciones de produ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ncluye modelos de madurez para comparaciones y para definir los puntos que deben ser mej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553080" y="1219320"/>
            <a:ext cx="2590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Algunas técnicas de ca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ón constante del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ción d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los errores y sus cau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álisis de todos los aspectos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o de metodologías y gu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iere a que en cada etapa del desarrollo, las decisiones o definiciones se pueden asociar a un requerimiento 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decir, es posible “trazar” cómo un requerimiento se va resolviendo en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s los requerimientos deben estar en cada eta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o además, “cada palabra escrita” está asociada a un requerimiento (o má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o no está asociado a un requerimiento es du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imes New Roman"/>
              </a:rPr>
              <a:t>Trazabilida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requerimiento debe tener un identificador (número ún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mente, en cada punto del diseño, construcción, plan de pruebas, etc. se hace referencia a estos identific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 traza se superpone a otra que normalmente se coloca para asociar una etapa con la sigu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Necesidad de desarrollo continuo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requerimientos están constantemente cambi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usuarios siempre quieren algo nu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ios leg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s en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Mantención y nuevas version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s sistemas se le debe hacer mantención contin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emente mejorar alguna cos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controlar las ver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ere una política de distribución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jo con la docu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o muchas veces los cambios son may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an una nueva 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de reemplazar o complementar el sistema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conveniente analizar las mejoras a los procesos de la empresa que pueden implementarse (al igual que en cualquier desarrol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¿Quién mantiene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equipo especi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á especi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ere una transferencia de conocimientos comp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propio equipo de 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onoce b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distrae de su nuevo desarrollo de otra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o es lo que sucede en la prác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3" idx="3"/>
            <a:endCxn id="9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4" idx="3"/>
            <a:endCxn id="9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9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6" idx="3"/>
            <a:endCxn id="9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8" idx="3"/>
            <a:endCxn id="9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7" idx="3"/>
            <a:endCxn id="9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9" idx="3"/>
            <a:endCxn id="10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de desarrollo de proyectos TIC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os de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dad en proyectos 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09" idx="3"/>
            <a:endCxn id="110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0" idx="3"/>
            <a:endCxn id="111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3"/>
            <a:endCxn id="112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3"/>
            <a:endCxn id="113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3"/>
            <a:endCxn id="115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3" idx="3"/>
            <a:endCxn id="114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2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990720" y="4701960"/>
            <a:ext cx="2514600" cy="1465560"/>
          </a:xfrm>
          <a:prstGeom prst="borderCallout1">
            <a:avLst>
              <a:gd name="adj1" fmla="val 18750"/>
              <a:gd name="adj2" fmla="val -8333"/>
              <a:gd name="adj3" fmla="val -173523"/>
              <a:gd name="adj4" fmla="val -2378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reconoce que existe un problema y que las TIC pueden ayu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valúa positivamente el desarrollar 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6" idx="3"/>
            <a:endCxn id="127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3"/>
            <a:endCxn id="128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8" idx="3"/>
            <a:endCxn id="129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9" idx="3"/>
            <a:endCxn id="130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3"/>
            <a:endCxn id="132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0" idx="3"/>
            <a:endCxn id="131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2" idx="3"/>
            <a:endCxn id="139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2362320" y="4272120"/>
            <a:ext cx="3276360" cy="2288520"/>
          </a:xfrm>
          <a:prstGeom prst="borderCallout1">
            <a:avLst>
              <a:gd name="adj1" fmla="val 18750"/>
              <a:gd name="adj2" fmla="val -8333"/>
              <a:gd name="adj3" fmla="val -60124"/>
              <a:gd name="adj4" fmla="val -929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identifican detalladamente todos los requerimientos (necesidades) de los usu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priorizan y clasifi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ún no se piensa en su 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 etapa es clave, ya que describe claramente el problema a solucio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iclo 1: Modelo en cascad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Descripció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161604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ción del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36232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requer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1240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ló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0400" y="3886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160020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ción (codific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4796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ue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3276720"/>
            <a:ext cx="175284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3"/>
            <a:endCxn id="144" idx="0"/>
          </p:cNvCxnSpPr>
          <p:nvPr/>
        </p:nvCxnSpPr>
        <p:spPr>
          <a:xfrm>
            <a:off x="1828440" y="1941120"/>
            <a:ext cx="191160" cy="421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45" idx="0"/>
          </p:cNvCxnSpPr>
          <p:nvPr/>
        </p:nvCxnSpPr>
        <p:spPr>
          <a:xfrm>
            <a:off x="2895480" y="2687760"/>
            <a:ext cx="11520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5" idx="3"/>
            <a:endCxn id="146" idx="0"/>
          </p:cNvCxnSpPr>
          <p:nvPr/>
        </p:nvCxnSpPr>
        <p:spPr>
          <a:xfrm>
            <a:off x="3885840" y="3449160"/>
            <a:ext cx="191160" cy="4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6" idx="3"/>
            <a:endCxn id="147" idx="1"/>
          </p:cNvCxnSpPr>
          <p:nvPr/>
        </p:nvCxnSpPr>
        <p:spPr>
          <a:xfrm flipH="1" flipV="1">
            <a:off x="4190760" y="1925280"/>
            <a:ext cx="762480" cy="2286720"/>
          </a:xfrm>
          <a:prstGeom prst="bentConnector5">
            <a:avLst>
              <a:gd name="adj1" fmla="val -6849"/>
              <a:gd name="adj2" fmla="val 49992"/>
              <a:gd name="adj3" fmla="val 12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8" idx="3"/>
            <a:endCxn id="149" idx="0"/>
          </p:cNvCxnSpPr>
          <p:nvPr/>
        </p:nvCxnSpPr>
        <p:spPr>
          <a:xfrm>
            <a:off x="7010280" y="2805120"/>
            <a:ext cx="191520" cy="472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7" idx="3"/>
            <a:endCxn id="148" idx="0"/>
          </p:cNvCxnSpPr>
          <p:nvPr/>
        </p:nvCxnSpPr>
        <p:spPr>
          <a:xfrm>
            <a:off x="5943240" y="1925280"/>
            <a:ext cx="1911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391520" y="4038480"/>
            <a:ext cx="1752480" cy="65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49" idx="3"/>
            <a:endCxn id="156" idx="0"/>
          </p:cNvCxnSpPr>
          <p:nvPr/>
        </p:nvCxnSpPr>
        <p:spPr>
          <a:xfrm>
            <a:off x="8076960" y="3602160"/>
            <a:ext cx="191160" cy="43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971800" y="4638600"/>
            <a:ext cx="3276720" cy="2014200"/>
          </a:xfrm>
          <a:prstGeom prst="borderCallout1">
            <a:avLst>
              <a:gd name="adj1" fmla="val 18750"/>
              <a:gd name="adj2" fmla="val -8333"/>
              <a:gd name="adj3" fmla="val -52300"/>
              <a:gd name="adj4" fmla="val -1196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analizan diferentes alternativas para solucionar el problema (satisfacer los requerimient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 elige la solución defini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 equivalente a la Ingeniería Bá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3:56Z</dcterms:created>
  <dc:creator>IBM_User</dc:creator>
  <dc:description/>
  <dc:language>en-US</dc:language>
  <cp:lastModifiedBy>adibiase</cp:lastModifiedBy>
  <dcterms:modified xsi:type="dcterms:W3CDTF">2007-08-06T18:11:20Z</dcterms:modified>
  <cp:revision>36</cp:revision>
  <dc:subject/>
  <dc:title>Diseño de Sistemas basados en Tecnologías de la Información y Comunicaciones</dc:title>
</cp:coreProperties>
</file>