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CD8B5D07-1606-4ECE-AD23-F870BC5A24FF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Terc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elo Entidad – Relación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ent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r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os los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norm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para las 5 entidades más importantes, completar el diseño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uart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la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ntall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greso de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reas pendientes del despachador (llamadas a clientes, coordinación de retiro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resión de la orden de ret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gorit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idación de un pe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cio del env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Quint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r la pantalla que recibe un pe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cluy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idaciones requer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álculo d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bien pro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profesor intentará encontrar los err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11-07T19:36:23Z</dcterms:modified>
  <cp:revision>33</cp:revision>
  <dc:subject/>
  <dc:title>Diseño de Sistemas basados en Tecnologías de la Información y Comunicaciones</dc:title>
</cp:coreProperties>
</file>