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981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69D17C41-2EBE-4C73-ACF4-3258A97ED60D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302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gund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ga miércoles 26 de septiembre: Presentación y docu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ción: Descripción del problema y de la solución imple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 que no se implementa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ión de la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ntes de información para levantar los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Terc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se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odelo Entidad – Relación comple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as las ent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as las rel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os los atrib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be estar norm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 menos para las 5 entidades más importantes, completar el diseño fí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Cuart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seño de la 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ntall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greso de o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reas pendientes del despachador (llamadas a clientes, coordinación de retiro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resión de la orden de ret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goritm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alidación de un pe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ecio del enví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Quint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gramar la pantalla que recibe un ped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cluy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alidaciones requer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álculo del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be estar bien prob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profesor intentará encontrar los err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Justific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Diseño de Sistemas basados en TIC aún no se ha desarrollado tot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ún tiene componentes de “arte” y de “cie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spera que esto siga así durante algún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ego, se requiere experiencia práctica (real) para conocer mejor las metodolo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berá realizar un sistema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ye Diseño y Con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nstrucción se requiere dado que es la forma de “medir” la calidad d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alcance del diseño y la construcción dependerán del sistema selec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ntregas serán en et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 la base de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ción y prue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rganiz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bajo en 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ones de 20 minutos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de documentación esc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valu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scripción del sistema no tiene n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una de las entregas tiene un porcentaje de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resentación oral y el documento escrito valen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valuación es del grupo, no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valúa forma y fo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sistem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ocupar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utilizar almacenamiento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menos los parámetro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tener entrada / salida de información con usuario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l tema seleccionado, se definirá el alcance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tema - Consej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leccionen un sistema que les se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 altura que están de la carrera es bueno pensar en focalizarse en un á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menos les sirve para el tema de la Mem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necesariamente será hacia donde se tenga su desarrollo profesional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trabajo de este curso es un paso en este desarrollo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im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8 de agosto: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22 de agosto: Documento con la 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ye las observaciones de l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as de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ción de alter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zos (carta Gan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cios y costos espe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ntitativos y cual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11-07T19:36:23Z</dcterms:modified>
  <cp:revision>33</cp:revision>
  <dc:subject/>
  <dc:title>Diseño de Sistemas basados en Tecnologías de la Información y Comunicaciones</dc:title>
</cp:coreProperties>
</file>