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2EA3ACF4-AC5C-4997-9014-990CE35566B2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Terc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elo Entidad – Relación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ent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r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os los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norm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para las 5 entidades más importantes, completar el diseño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10-08T13:59:06Z</dcterms:modified>
  <cp:revision>31</cp:revision>
  <dc:subject/>
  <dc:title>Diseño de Sistemas basados en Tecnologías de la Información y Comunicaciones</dc:title>
</cp:coreProperties>
</file>