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0FF0BF72-C636-43EF-8251-B512450AE09E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nd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 miércoles 26 de septiembre: Presentación y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ción: Descripción del problema y de la solución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 que no se implement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ón de la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información para levantar los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Terc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odelo Entidad – Relación comple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ent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re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os los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estar norm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para las 5 entidades más importantes, completar el diseño fí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10-08T13:59:06Z</dcterms:modified>
  <cp:revision>31</cp:revision>
  <dc:subject/>
  <dc:title>Diseño de Sistemas basados en Tecnologías de la Información y Comunicaciones</dc:title>
</cp:coreProperties>
</file>