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705720" y="6248520"/>
            <a:ext cx="2438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Diseño de Sistemas basado en 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Logo%20U" descr=""/>
          <p:cNvPicPr/>
          <p:nvPr/>
        </p:nvPicPr>
        <p:blipFill>
          <a:blip r:embed="rId2"/>
          <a:stretch/>
        </p:blipFill>
        <p:spPr>
          <a:xfrm>
            <a:off x="0" y="0"/>
            <a:ext cx="1676520" cy="1117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228600" y="6324480"/>
            <a:ext cx="1981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Aldo Di Biase Fried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Página N° </a:t>
            </a:r>
            <a:fld id="{4981F8A5-98DD-4052-BEE1-716F6AEAE2E4}" type="slidenum"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14600" y="6397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Diseño de Sistemas basado en 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Logo%20U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1879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28600" y="63025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Aldo Di Biase Fried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jercicio práctic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838080" y="38862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Segunda entreg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erimientos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rega miércoles 26 de septiembre: Presentación y docu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en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oducción: Descripción del problema y de la solución implemen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a ordenada de requerim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a ordenada de requerimientos que no se implementar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isión de la plan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entes de información para levantar los requerim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99"/>
                </a:solidFill>
                <a:latin typeface="Times New Roman"/>
              </a:rPr>
              <a:t>Tercera entreg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Base de da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odelo Entidad – Relación comple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odas las ent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odas las rel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odos los atribu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ebe estar normaliz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l menos para las 5 entidades más importantes, completar el diseño fís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jercicio práctic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838080" y="38862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Justifica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Diseño de Sistemas basados en TIC aún no se ha desarrollado totalm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ún tiene componentes de “arte” y de “cienci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espera que esto siga así durante algún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uego, se requiere experiencia práctica (real) para conocer mejor las metodolog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deberá realizar un sistema comple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ye Diseño y Constr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construcción se requiere dado que es la forma de “medir” la calidad del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alcance del diseño y la construcción dependerán del sistema seleccion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 entregas serán en etap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pción del probl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erimi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ño de la base de da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ño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ción y prueb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Organiza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bajo en gru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aciones de 20 minutos de cada entr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ega de documentación escr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valua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descripción del sistema no tiene no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da una de las entregas tiene un porcentaje de 2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presentación oral y el documento escrito valen lo m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evaluación es del grupo, no individ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evalúa forma y fo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Selección del sistem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b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be ocupar 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be utilizar almacenamiento de da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 menos los parámetros de 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be tener entrada / salida de información con usuario hum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acuerdo al tema seleccionado, se definirá el alcance de cada entr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Selección del tema - Consej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leccionen un sistema que les sea út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 la altura que están de la carrera es bueno pensar en focalizarse en un á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l menos les sirve para el tema de la Memo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 necesariamente será hacia donde se tenga su desarrollo profesional 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trabajo de este curso es un paso en este desarrollo profes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Primera entreg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ción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ércoles 8 de agosto: Pres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ércoles 22 de agosto: Documento con la descripción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ye las observaciones de la pres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cripción del probl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ternativas de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ción de altern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cripción de la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zos (carta Gant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cios y costos esper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antitativos y cualita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20:53:56Z</dcterms:created>
  <dc:creator>IBM_User</dc:creator>
  <dc:description/>
  <dc:language>en-US</dc:language>
  <cp:lastModifiedBy>adibiase</cp:lastModifiedBy>
  <dcterms:modified xsi:type="dcterms:W3CDTF">2007-10-08T13:59:06Z</dcterms:modified>
  <cp:revision>31</cp:revision>
  <dc:subject/>
  <dc:title>Diseño de Sistemas basados en Tecnologías de la Información y Comunicaciones</dc:title>
</cp:coreProperties>
</file>