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8A9120BF-5664-4D8E-8CED-61A5E5283A93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Terc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elo Entidad – Relación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os lo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norm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para las 5 entidades más importantes, completar el diseñ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10-08T13:59:06Z</dcterms:modified>
  <cp:revision>31</cp:revision>
  <dc:subject/>
  <dc:title>Diseño de Sistemas basados en Tecnologías de la Información y Comunicaciones</dc:title>
</cp:coreProperties>
</file>