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2133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267EE092-7BBB-411E-8563-168CEBA05666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3025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Base de Da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1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empresa importa automóviles y los vende a través de dea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los dealers se les entrega el vehículo en consignación, pero al ejecutarse la venta se vende al dealer y éste al comprador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mantener información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inventario de vehículos en bodega central y en dea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s rea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clientes y sus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garantía de los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2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empresa de transmisión de electricidad tiene un sistema SCADA para monitorear el estado de la red de alta ten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1 minutos actualiza toda la información; pero en forma escalonada en diversos pu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produce una anomalía se gatilla una alarma, que es despejada por un oper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sea almacenar al información de la operación normal y de las alar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3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truir el modelo para U-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ejemplo en Access no consid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el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. Cte. de alum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rt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ibliografía y Bibliote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4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ir el modelo para una empresa que administra el servicio técnico de computadores personales, incluyendo las garantías pertin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ar que un PC tiene múltiples partes, incluyendo HW y S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Base de Da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IBM_User</cp:lastModifiedBy>
  <dcterms:modified xsi:type="dcterms:W3CDTF">2004-09-21T17:21:02Z</dcterms:modified>
  <cp:revision>56</cp:revision>
  <dc:subject/>
  <dc:title>Diseño de Sistemas basados en Tecnologías de la Información y Comunicaciones</dc:title>
</cp:coreProperties>
</file>