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FAD6BAEA-D5DA-4CEB-8328-A7E65DACA69F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mpresa importa automóviles y los vende a través de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os dealers se les entrega el vehículo en consignación, pero al ejecutarse la venta se vende al dealer y éste al comprador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mantener información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inventario de vehículos en bodega central y en 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y su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arantía de lo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mpresa de transmisión de electricidad tiene un sistema SCADA para monitorear el estado de la red de alta 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1 minutos actualiza toda la información; pero en forma escalonada en diversos p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roduce una anomalía se gatilla una alarma, que es despejada por un oper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sea almacenar al información de la operación normal y de las ala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3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ruir el modelo para U-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jemplo en Access no consid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el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. Cte. de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bliografía y Bibliot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4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ir el modelo para una empresa que administra el servicio técnico de computadores personales, incluyendo las garantías perti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r que un PC tiene múltiples partes, incluyendo HW y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IBM_User</cp:lastModifiedBy>
  <dcterms:modified xsi:type="dcterms:W3CDTF">2004-09-21T17:21:02Z</dcterms:modified>
  <cp:revision>56</cp:revision>
  <dc:subject/>
  <dc:title>Diseño de Sistemas basados en Tecnologías de la Información y Comunicaciones</dc:title>
</cp:coreProperties>
</file>