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05720" y="6248520"/>
            <a:ext cx="2438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117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" y="6324480"/>
            <a:ext cx="2133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ldo Di Biase Fried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Página N° </a:t>
            </a:r>
            <a:fld id="{5305C3D7-8575-42EC-9AD9-A3FEF621B31B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639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879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630252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ldo Di Biase Fried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Base de Dat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1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empresa importa automóviles y los vende a través de dea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los dealers se les entrega el vehículo en consignación, pero al ejecutarse la venta se vende al dealer y éste al comprador 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desea mantener información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inventario de vehículos en bodega central y en dea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ventas realiz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clientes y sus veh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garantía de los veh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2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 empresa de transmisión de electricidad tiene un sistema SCADA para monitorear el estado de la red de alta ten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da 1 minutos actualiza toda la información; pero en forma escalonada en diversos pu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se produce una anomalía se gatilla una alarma, que es despejada por un oper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desea almacenar al información de la operación normal y de las alar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3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struir el modelo para U-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ejemplo en Access no consid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el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ta. Cte. de alum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ertifi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ibliografía y Bibliote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4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ir el modelo para una empresa que administra el servicio técnico de computadores personales, incluyendo las garantías pertin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ar que un PC tiene múltiples partes, incluyendo HW y S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Base de Dat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0:53:56Z</dcterms:created>
  <dc:creator>IBM_User</dc:creator>
  <dc:description/>
  <dc:language>en-US</dc:language>
  <cp:lastModifiedBy>IBM_User</cp:lastModifiedBy>
  <dcterms:modified xsi:type="dcterms:W3CDTF">2004-09-21T17:21:02Z</dcterms:modified>
  <cp:revision>56</cp:revision>
  <dc:subject/>
  <dc:title>Diseño de Sistemas basados en Tecnologías de la Información y Comunicaciones</dc:title>
</cp:coreProperties>
</file>