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98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08109531-1DD9-4BDE-BB94-9F1C5701B39E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gund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ga miércoles 26 de septiembre: Presentación y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ción: Descripción del problema y de la solución imple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 que no se implement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ón de la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s de información para levantar los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Justific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Diseño de Sistemas basados en TIC aún no se ha desarrollado tot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ún tiene componentes de “arte” y de “cie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spera que esto siga así durante algún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ego, se requiere experiencia práctica (real) para conocer mejor las metod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rá realizar un sistema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Diseño y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strucción se requiere dado que es la forma de “medir” la calidad d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alcance del diseño y la construcción dependerán del sistema selec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ntregas serán en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 la base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ción y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jo en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ones de 20 minutos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de documentación 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valu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scripción del sistema no tiene n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a de las entregas tiene un porcentaje de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esentación oral y el documento escrito valen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es del grupo, n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 forma y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sistem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ocupar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utilizar almacen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menos los parámetro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tener entrada / salida de información con usuari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l tema seleccionado, se definirá el alcance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tema - Consej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 un sistema que les se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altura que están de la carrera es bueno pensar en focalizarse en un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menos les sirve para el tema de la 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necesariamente será hacia donde se tenga su desarrollo profesional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rabajo de este curso es un paso en este desarrollo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im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8 de agosto: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22 de agosto: Documento con la 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ye las observaciones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as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ción de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zos (carta Gan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 y costos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titativos y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9-10T21:25:43Z</dcterms:modified>
  <cp:revision>30</cp:revision>
  <dc:subject/>
  <dc:title>Diseño de Sistemas basados en Tecnologías de la Información y Comunicaciones</dc:title>
</cp:coreProperties>
</file>