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C911343F-BB7B-4604-A326-9B843D8CE839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nd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ga miércoles 26 de septiembre: Presentación y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ción: Descripción del problema y de la solución imple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a ordenada de requerimientos que no se implement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ón de la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de información para levantar los requer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9-10T21:25:43Z</dcterms:modified>
  <cp:revision>30</cp:revision>
  <dc:subject/>
  <dc:title>Diseño de Sistemas basados en Tecnologías de la Información y Comunicaciones</dc:title>
</cp:coreProperties>
</file>