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052EA317-F651-4093-B098-30403B8D7182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3"/>
            <a:endCxn id="161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3"/>
            <a:endCxn id="162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3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4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5" idx="3"/>
            <a:endCxn id="166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3"/>
            <a:endCxn id="165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6" idx="3"/>
            <a:endCxn id="173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038480" y="4592520"/>
            <a:ext cx="4496040" cy="2014200"/>
          </a:xfrm>
          <a:prstGeom prst="borderCallout1">
            <a:avLst>
              <a:gd name="adj1" fmla="val 18750"/>
              <a:gd name="adj2" fmla="val -8333"/>
              <a:gd name="adj3" fmla="val -17976"/>
              <a:gd name="adj4" fmla="val -14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detalla completament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caso necesario se realizan pruebas de los conceptos apl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teoría es independiente de la herramienta, pero en la práctica se hace para el conjunto de herramientas a uti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Ingeniería de Deta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7" idx="3"/>
            <a:endCxn id="178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8" idx="3"/>
            <a:endCxn id="179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9" idx="3"/>
            <a:endCxn id="180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3"/>
            <a:endCxn id="181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3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1" idx="3"/>
            <a:endCxn id="182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3" idx="3"/>
            <a:endCxn id="190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04920" y="53586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499550"/>
              <a:gd name="adj4" fmla="val 1214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odifica toda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mplementa el SW y HW d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4" idx="3"/>
            <a:endCxn id="195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3"/>
            <a:endCxn id="196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3"/>
            <a:endCxn id="197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3"/>
            <a:endCxn id="200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9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0" idx="3"/>
            <a:endCxn id="207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914400" y="472896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105171"/>
              <a:gd name="adj4" fmla="val 11305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alizan todas las pruebas pertinentes (unitarias, sistema, integración, performance, error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pretende encontrar defectos, no que el sistema esté bu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ara el diseño (lógico) con lo const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3"/>
            <a:endCxn id="212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3"/>
            <a:endCxn id="213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3" idx="3"/>
            <a:endCxn id="214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3"/>
            <a:endCxn id="215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7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5" idx="3"/>
            <a:endCxn id="216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914400" y="473220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53430"/>
              <a:gd name="adj4" fmla="val 124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aliza la prueba de aceptación (por el usu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apacita a todos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 inicial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a blanca (ambiente control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esta en régi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7" idx="3"/>
            <a:endCxn id="22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8" idx="3"/>
            <a:endCxn id="22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3"/>
            <a:endCxn id="23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0" idx="3"/>
            <a:endCxn id="23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1" idx="3"/>
            <a:endCxn id="23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3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914400" y="52092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99606"/>
              <a:gd name="adj4" fmla="val 14759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mantiene el sistema a fin de resolver los nuevos requerimientos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4" idx="3"/>
            <a:endCxn id="24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un modelo monolítico,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relación favorable al desarrollador, al congelar las decisiones “rápidam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pasa a la actividad siguiente sin haber aprobado la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 esfuerzo de abstracción muy alto al 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a la naturaleza cambiante de los requisitos y el costo de cambios a medida que se avanza en el desarrollo, este modelo está dejando de ser usado en su forma p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ún es válido para implementación de sistemas empaquetados, pero en su mayoría se adaptan mejor al modelo de prototipos que veremos a 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257800"/>
            <a:ext cx="8610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émicamente es el mejor, ya que permite estudiar cada fase en forma ais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que usaremos en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Estructur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es un equipo de trabajo j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Jefe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s Encargados de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da área un grupo de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llegar a tener varios niveles, dependiendo de la complejidad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niveles superiores de la jerarquía no tienen responsabilidad técnica, si no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Ro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típicas en este tipo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a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actúan con 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écnic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eño detallado y 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yecto no es muy grande, se mezcl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ingenieros con más experiencia (capacidad) participan en las primeras fases princip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ués se van incorporando ingenieros y técnicos de menos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2" idx="3"/>
            <a:endCxn id="253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4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4" idx="3"/>
            <a:endCxn id="255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3"/>
            <a:endCxn id="256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6" idx="3"/>
            <a:endCxn id="257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3"/>
            <a:endCxn id="26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8" idx="3"/>
            <a:endCxn id="26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3"/>
            <a:endCxn id="27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1" idx="3"/>
            <a:endCxn id="27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3"/>
            <a:endCxn id="27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2" idx="3"/>
            <a:endCxn id="27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3"/>
            <a:endCxn id="281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990720" y="2286000"/>
            <a:ext cx="4190760" cy="243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028840"/>
            <a:ext cx="5867280" cy="916920"/>
          </a:xfrm>
          <a:prstGeom prst="borderCallout1">
            <a:avLst>
              <a:gd name="adj1" fmla="val 18750"/>
              <a:gd name="adj2" fmla="val -8333"/>
              <a:gd name="adj3" fmla="val -74212"/>
              <a:gd name="adj4" fmla="val -245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análisis de requerimientos y el diseño se realiza mediante una técnica especial: La construcción de proto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Prototipo es una simulación del sistem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d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s altern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os de cad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la participación activa del usuario, al revisar cada 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una herramienta de desarrollo que permita construir prototipos rá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gran ventaja es que el usuario está estrechamente ligado al desarrollo, construyéndose un sistema que realmente le es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la “tentación” de usar el prototipo como la solu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uidado en este caso, puede ser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l prototipo normalmente se pasan por alto muchas consideraciones que deben ser agregadas posterio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rototipo, al ser iterativo, puede ir incorporando situaciones para su rápido desarrollo, no para ser solu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similar al de cas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incorpora desde el principio personas con capacidad para desarrollar el prot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ción directa de los usuarios en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mos el modelo de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ye no sólo la definición de las etapas, sino todas las funciones del desarrol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variables cr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ila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has provisionales (por etap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definida y respons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ción basada en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por 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5366520"/>
            <a:ext cx="2438280" cy="642600"/>
          </a:xfrm>
          <a:prstGeom prst="borderCallout1">
            <a:avLst>
              <a:gd name="adj1" fmla="val 18750"/>
              <a:gd name="adj2" fmla="val -8333"/>
              <a:gd name="adj3" fmla="val -311810"/>
              <a:gd name="adj4" fmla="val 18436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ción del objetivo y alcanc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073120"/>
            <a:ext cx="2819160" cy="1191240"/>
          </a:xfrm>
          <a:prstGeom prst="borderCallout1">
            <a:avLst>
              <a:gd name="adj1" fmla="val 18750"/>
              <a:gd name="adj2" fmla="val -8333"/>
              <a:gd name="adj3" fmla="val -1115"/>
              <a:gd name="adj4" fmla="val 1436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lle suficiente para la 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visan los compromisos, recursos y tiem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480528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93046"/>
              <a:gd name="adj4" fmla="val -8570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 el código está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 que no está hecho es para una siguiente 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hace un análisis del sistema y de las fase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480816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232560"/>
              <a:gd name="adj4" fmla="val -353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finaliza el código junto a las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ste momento se pasa el control del sistema al grupo de operaciones y so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gramación basada en riesg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de prototipos para explorar y reducir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oridades basadas en riesgo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incluye un acuerdo con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echas parciales anteriores no “congelan”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pués de ellas, los cambios son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quipo de desarrollo busca proactivamente y desde el principio los puntos de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zamientos escalonados del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 de Ciclo de Vi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as etapas por las que pasa un proyecto desde su concepción hasta su ci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íntimamente ligado al concepto de Metodología, aunque no es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ambia de proyecto a proyecto, aunque puede adaptarse a las diferencias naturales de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anzamiento por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ersiones existen no sólo para product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bién para desarroll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W es visto como un proceso de mejora continua y no como un sistema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s funcionalidades no incluidas en una versión se dejen para la(s) siguient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3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7" idx="3"/>
            <a:endCxn id="44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42" idx="2"/>
            <a:endCxn id="44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9" idx="3"/>
            <a:endCxn id="44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2" idx="3"/>
            <a:endCxn id="43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8" idx="3"/>
            <a:endCxn id="44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0" idx="3"/>
            <a:endCxn id="43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38" idx="2"/>
            <a:endCxn id="44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38" idx="2"/>
            <a:endCxn id="43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0"/>
            <a:endCxn id="453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3" idx="3"/>
            <a:endCxn id="457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56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55" idx="3"/>
            <a:endCxn id="457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58" idx="3"/>
            <a:endCxn id="454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54" idx="3"/>
            <a:endCxn id="457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5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4" idx="2"/>
            <a:endCxn id="456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4" idx="2"/>
            <a:endCxn id="455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3973680" y="5092560"/>
            <a:ext cx="4724280" cy="1465560"/>
          </a:xfrm>
          <a:prstGeom prst="borderCallout1">
            <a:avLst>
              <a:gd name="adj1" fmla="val 18750"/>
              <a:gd name="adj2" fmla="val -8333"/>
              <a:gd name="adj3" fmla="val -102773"/>
              <a:gd name="adj4" fmla="val -4492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ivo d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 de visión (expectativas y presun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ciación con otros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0"/>
            <a:endCxn id="470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3"/>
            <a:endCxn id="474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2"/>
            <a:endCxn id="473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3"/>
            <a:endCxn id="474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5" idx="3"/>
            <a:endCxn id="471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1" idx="3"/>
            <a:endCxn id="474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73" idx="3"/>
            <a:endCxn id="472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1" idx="2"/>
            <a:endCxn id="473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1" idx="2"/>
            <a:endCxn id="472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5334120" y="5265360"/>
            <a:ext cx="3363840" cy="1191240"/>
          </a:xfrm>
          <a:prstGeom prst="borderCallout1">
            <a:avLst>
              <a:gd name="adj1" fmla="val 18750"/>
              <a:gd name="adj2" fmla="val -8333"/>
              <a:gd name="adj3" fmla="val -128787"/>
              <a:gd name="adj4" fmla="val -5134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ción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unicación con otras áreas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0"/>
            <a:endCxn id="48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7" idx="3"/>
            <a:endCxn id="49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92" idx="2"/>
            <a:endCxn id="49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89" idx="3"/>
            <a:endCxn id="49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92" idx="3"/>
            <a:endCxn id="48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88" idx="3"/>
            <a:endCxn id="49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3"/>
            <a:endCxn id="48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88" idx="2"/>
            <a:endCxn id="49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88" idx="2"/>
            <a:endCxn id="48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553080" y="42714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233513"/>
              <a:gd name="adj4" fmla="val -10393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t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509" idx="0"/>
            <a:endCxn id="504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3"/>
            <a:endCxn id="508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9" idx="2"/>
            <a:endCxn id="507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6" idx="3"/>
            <a:endCxn id="508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9" idx="3"/>
            <a:endCxn id="505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5" idx="3"/>
            <a:endCxn id="508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07" idx="3"/>
            <a:endCxn id="506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2"/>
            <a:endCxn id="507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5" idx="2"/>
            <a:endCxn id="506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1360440" y="51858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182611"/>
              <a:gd name="adj4" fmla="val 22763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 de depuración del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6" idx="0"/>
            <a:endCxn id="521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1" idx="3"/>
            <a:endCxn id="525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6" idx="2"/>
            <a:endCxn id="524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3" idx="3"/>
            <a:endCxn id="525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6" idx="3"/>
            <a:endCxn id="522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3"/>
            <a:endCxn id="525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4" idx="3"/>
            <a:endCxn id="523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2" idx="2"/>
            <a:endCxn id="524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2" idx="2"/>
            <a:endCxn id="523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5486400" y="1680840"/>
            <a:ext cx="3124080" cy="1191240"/>
          </a:xfrm>
          <a:prstGeom prst="borderCallout1">
            <a:avLst>
              <a:gd name="adj1" fmla="val 18750"/>
              <a:gd name="adj2" fmla="val -8333"/>
              <a:gd name="adj3" fmla="val 248245"/>
              <a:gd name="adj4" fmla="val -74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ación y material didá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or del usuario en el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0"/>
            <a:endCxn id="538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8" idx="3"/>
            <a:endCxn id="542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3" idx="2"/>
            <a:endCxn id="541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3" idx="3"/>
            <a:endCxn id="539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3"/>
            <a:endCxn id="542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0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9" idx="2"/>
            <a:endCxn id="541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9" idx="2"/>
            <a:endCxn id="540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304920" y="1604520"/>
            <a:ext cx="3124080" cy="916920"/>
          </a:xfrm>
          <a:prstGeom prst="borderCallout1">
            <a:avLst>
              <a:gd name="adj1" fmla="val 18750"/>
              <a:gd name="adj2" fmla="val -8333"/>
              <a:gd name="adj3" fmla="val 332101"/>
              <a:gd name="adj4" fmla="val 161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spaso del sistema a 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equipo mínim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268800"/>
            <a:ext cx="28195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5629320"/>
            <a:ext cx="19814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629320"/>
            <a:ext cx="19810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724200"/>
            <a:ext cx="2209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994120"/>
            <a:ext cx="259092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55" idx="1"/>
          </p:cNvCxnSpPr>
          <p:nvPr/>
        </p:nvCxnSpPr>
        <p:spPr>
          <a:xfrm flipH="1" flipV="1" rot="5400000">
            <a:off x="1937160" y="1578240"/>
            <a:ext cx="100260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3"/>
            <a:endCxn id="559" idx="0"/>
          </p:cNvCxnSpPr>
          <p:nvPr/>
        </p:nvCxnSpPr>
        <p:spPr>
          <a:xfrm>
            <a:off x="5562360" y="1991880"/>
            <a:ext cx="2019960" cy="173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60" idx="2"/>
            <a:endCxn id="558" idx="1"/>
          </p:cNvCxnSpPr>
          <p:nvPr/>
        </p:nvCxnSpPr>
        <p:spPr>
          <a:xfrm flipH="1" rot="16200000">
            <a:off x="1319760" y="5124600"/>
            <a:ext cx="9421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3"/>
            <a:endCxn id="559" idx="2"/>
          </p:cNvCxnSpPr>
          <p:nvPr/>
        </p:nvCxnSpPr>
        <p:spPr>
          <a:xfrm flipV="1">
            <a:off x="6933960" y="4190400"/>
            <a:ext cx="648360" cy="1672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0" idx="3"/>
            <a:endCxn id="556" idx="1"/>
          </p:cNvCxnSpPr>
          <p:nvPr/>
        </p:nvCxnSpPr>
        <p:spPr>
          <a:xfrm>
            <a:off x="2819160" y="3957120"/>
            <a:ext cx="53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3"/>
            <a:endCxn id="559" idx="1"/>
          </p:cNvCxnSpPr>
          <p:nvPr/>
        </p:nvCxnSpPr>
        <p:spPr>
          <a:xfrm flipV="1">
            <a:off x="6171840" y="395676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3"/>
            <a:endCxn id="557" idx="1"/>
          </p:cNvCxnSpPr>
          <p:nvPr/>
        </p:nvCxnSpPr>
        <p:spPr>
          <a:xfrm>
            <a:off x="4038480" y="58622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56" idx="2"/>
            <a:endCxn id="558" idx="0"/>
          </p:cNvCxnSpPr>
          <p:nvPr/>
        </p:nvCxnSpPr>
        <p:spPr>
          <a:xfrm flipH="1">
            <a:off x="3047760" y="4647960"/>
            <a:ext cx="171504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6" idx="2"/>
            <a:endCxn id="557" idx="0"/>
          </p:cNvCxnSpPr>
          <p:nvPr/>
        </p:nvCxnSpPr>
        <p:spPr>
          <a:xfrm>
            <a:off x="4762080" y="4647960"/>
            <a:ext cx="11818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arciales y equip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zamiento d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v/s Metodologí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iclo de vida es más general, describe la forma en que se enfrentan lo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una guía para resolver los problemas, basado en las directrices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incluye ayudas directas al desarroll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llas y otros formato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para realizar est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uchas empresas estos conceptos se funden en uno só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porque manejan una sola metodología y no tiene sentido hacer grandes definiciones y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aración de model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y sólido en su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para soluciones ya maduras, como Administ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útil para soluciones con mucha posibilidad de variación (aplicaciones nue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cuando los requerimientos no son claros o no pueden articularse cla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ne el peligro de quedarse siempre en prototipos iterativos, sin converger a un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ver el desarrollo como fases o entregas sucesivas, lo que hace que no se tenga un desarrollo muy grande al 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laro el problema global para que las primeras fases ya consideren las complejidades que se agregan al incorporar nuevas funcion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O 9000 y C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écnicas para asegurar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z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s de calidad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ductos masiv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ducto es de calidad cuando cumple sistemáticamente los estándares defi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 tolerancia de dimensiones, ingredientes, ambiente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embargo, la calidad así definida no garantiza que satisface las necesidades del comp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n definiciones tales como “deleitar al usuario” o “sorprender al usu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se define entonces como la capacidad de satisfacer una necesidad en forma consistente y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anterior es válido para productos que se producen en forma masiva y se pueden analizar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¿qué pasa con los proyectos, que se desarrollan una vez y nunca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sto de los err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914400" y="17521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57150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90720" y="2286000"/>
            <a:ext cx="6476760" cy="3352680"/>
          </a:xfrm>
          <a:custGeom>
            <a:avLst/>
            <a:gdLst/>
            <a:ahLst/>
            <a:rect l="l" t="t" r="r" b="b"/>
            <a:pathLst>
              <a:path w="4080" h="2112">
                <a:moveTo>
                  <a:pt x="0" y="2112"/>
                </a:moveTo>
                <a:cubicBezTo>
                  <a:pt x="1172" y="1976"/>
                  <a:pt x="2344" y="1840"/>
                  <a:pt x="3024" y="1488"/>
                </a:cubicBezTo>
                <a:cubicBezTo>
                  <a:pt x="3704" y="1136"/>
                  <a:pt x="3892" y="568"/>
                  <a:pt x="4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lidad en los proyectos (de cualquier índole, no sólo TIC) se logra “haciéndolo bi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sto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ner ciclo de vida y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es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general, la calidad de proyectos se explícit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as estim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 lo que se d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o que hi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car proactivamente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os aciertos y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rregir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 y 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9000 es un estándar general, no sólo para TIC (de hecho está diseñado primeramente para manufact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es solamente para el desarrollo de SW (no para otras 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stándar “todo o nada”; es decir, se cumple o no se cu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mpliamente reconocido y acep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a versión específica para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e en su 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extremadamente ex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modelo de madurez, no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mide cuán bien lo hace la empresa en diversas dim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lsado por el 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5 niv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nivel 2 es comparable a ISO 9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niveles superiores son muy exi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 revisado y está vigente la versión 2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os modelo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nc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todología v/s Plan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única, no depende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lan de Proyecto es la forma en que la metodología se concreta en un proyec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iempos y responsabilidades específicos por actividad (la metodología puede tenerlas en forma más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as actividades que se realiz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eliminar actividades de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agregar actividades a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 explícito el equi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os riesgos del proyecto, así como cualquier otra variable rele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Prince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estándar para desarroll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ció en Inglaterra para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y se utilizar en general para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stión del riesgo (M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lidad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ministración de la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 de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 un gran control sobre el desarrollo del proyecto, gestionando tiempo,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ITI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entado a todo la Gerencia de Tecnología, no sólo al desarrollo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iene un foco en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o si ve al área como un servicio hacia el resto de la organización que evoluciona consta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grupa las “mejores prácticas” en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Strate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inual Service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tante experiencia a nivel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22gr-the-core-framework_2142_w2" descr="The Core Framework"/>
          <p:cNvPicPr/>
          <p:nvPr/>
        </p:nvPicPr>
        <p:blipFill>
          <a:blip r:embed="rId1"/>
          <a:stretch/>
        </p:blipFill>
        <p:spPr>
          <a:xfrm>
            <a:off x="6095880" y="1752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obiT 4.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ca la “gobernabilidad” del área de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der predecir y controlar los recursos requeridos para generar los resultados espe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ción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un Framework orientado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Alineado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facilita (permite) el negocio y maximiza su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ecursos de IT son usados responsab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iesgos de IT son administ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nco área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regando / generando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ción de 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estión d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diciones de 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luye modelos de madurez para comparaciones y para definir los puntos que deben ser mej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lgunas técnica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ón constante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ción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los errores y sus 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todos los aspectos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todologías y g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iere a que en cada etapa del desarrollo, las decisiones o definiciones se pueden asociar a un requerimiento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es posible “trazar” cómo un requerimiento se va resolviendo en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los requerimientos deben estar en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demás, “cada palabra escrita” está asociada a un requerimiento (o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o no está asociado a un requerimiento es du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requerimiento debe tener un identificador (número ú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mente, en cada punto del diseño, construcción, plan de pruebas, etc. se hace referencia a estos ident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traza se superpone a otra que normalmente se coloca para asociar una etapa con la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cesidad de 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requerimientos están constantemente camb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usuarios siempre quieren algo nu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ios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antención y nuevas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sistemas se le debe hacer mantención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emente mejorar alguna co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controlar las 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a política de distribución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 con la doc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muchas veces los cambios son may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n una nueva 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reemplazar o complementar el sistem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conveniente analizar las mejoras a los procesos de la empresa que pueden implementarse (al igual que en cualquier desarro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¿Quién mantien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equipo especi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á especi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una transferencia de conocimientos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pio equipo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onoce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istrae de su nuevo desarrollo de otr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es lo que sucede en la pr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3"/>
            <a:endCxn id="9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9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3"/>
            <a:endCxn id="9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8" idx="3"/>
            <a:endCxn id="9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3"/>
            <a:endCxn id="9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10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9" idx="3"/>
            <a:endCxn id="110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3"/>
            <a:endCxn id="111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3"/>
            <a:endCxn id="112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3"/>
            <a:endCxn id="113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3"/>
            <a:endCxn id="115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3"/>
            <a:endCxn id="114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90720" y="4701960"/>
            <a:ext cx="2514600" cy="1465560"/>
          </a:xfrm>
          <a:prstGeom prst="borderCallout1">
            <a:avLst>
              <a:gd name="adj1" fmla="val 18750"/>
              <a:gd name="adj2" fmla="val -8333"/>
              <a:gd name="adj3" fmla="val -173523"/>
              <a:gd name="adj4" fmla="val -23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conoce que existe un problema y que las TIC pueden ayu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valúa positivamente el desarrollar 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6" idx="3"/>
            <a:endCxn id="127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3"/>
            <a:endCxn id="128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8" idx="3"/>
            <a:endCxn id="129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9" idx="3"/>
            <a:endCxn id="130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32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3"/>
            <a:endCxn id="131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2" idx="3"/>
            <a:endCxn id="139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362320" y="4272120"/>
            <a:ext cx="3276360" cy="2288520"/>
          </a:xfrm>
          <a:prstGeom prst="borderCallout1">
            <a:avLst>
              <a:gd name="adj1" fmla="val 18750"/>
              <a:gd name="adj2" fmla="val -8333"/>
              <a:gd name="adj3" fmla="val -60124"/>
              <a:gd name="adj4" fmla="val -929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dentifican detalladamente todos los requerimientos (necesidades)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riorizan y clasif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ún no se piensa en su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 etapa es clave, ya que describe claramente el problema a soluc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3"/>
            <a:endCxn id="14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4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3"/>
            <a:endCxn id="14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3"/>
            <a:endCxn id="14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971800" y="4638600"/>
            <a:ext cx="3276720" cy="2014200"/>
          </a:xfrm>
          <a:prstGeom prst="borderCallout1">
            <a:avLst>
              <a:gd name="adj1" fmla="val 18750"/>
              <a:gd name="adj2" fmla="val -8333"/>
              <a:gd name="adj3" fmla="val -52300"/>
              <a:gd name="adj4" fmla="val -119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analizan diferentes alternativas para solucionar el problema (satisfacer los requer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lige la solución defin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la Ingenier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8-06T18:11:20Z</dcterms:modified>
  <cp:revision>36</cp:revision>
  <dc:subject/>
  <dc:title>Diseño de Sistemas basados en Tecnologías de la Información y Comunicaciones</dc:title>
</cp:coreProperties>
</file>