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05720" y="6248520"/>
            <a:ext cx="2438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117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" y="6324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Página N° </a:t>
            </a:r>
            <a:fld id="{5509060C-E78D-490E-83FB-694042FFB0F7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639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879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de desarrollo de proyectos TIC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clo de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pos de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idad en proyectos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continu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0" idx="3"/>
            <a:endCxn id="161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1" idx="3"/>
            <a:endCxn id="162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2" idx="3"/>
            <a:endCxn id="163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3" idx="3"/>
            <a:endCxn id="164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5" idx="3"/>
            <a:endCxn id="166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4" idx="3"/>
            <a:endCxn id="165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66" idx="3"/>
            <a:endCxn id="173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4038480" y="4592520"/>
            <a:ext cx="4496040" cy="2014200"/>
          </a:xfrm>
          <a:prstGeom prst="borderCallout1">
            <a:avLst>
              <a:gd name="adj1" fmla="val 18750"/>
              <a:gd name="adj2" fmla="val -8333"/>
              <a:gd name="adj3" fmla="val -17976"/>
              <a:gd name="adj4" fmla="val -14504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detalla completamente la 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 caso necesario se realizan pruebas de los conceptos aplic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 teoría es independiente de la herramienta, pero en la práctica se hace para el conjunto de herramientas a utili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 equivalente a Ingeniería de Detal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77" idx="3"/>
            <a:endCxn id="178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78" idx="3"/>
            <a:endCxn id="179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79" idx="3"/>
            <a:endCxn id="180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80" idx="3"/>
            <a:endCxn id="181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2" idx="3"/>
            <a:endCxn id="183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81" idx="3"/>
            <a:endCxn id="182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3" idx="3"/>
            <a:endCxn id="190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304920" y="5358600"/>
            <a:ext cx="4495680" cy="642600"/>
          </a:xfrm>
          <a:prstGeom prst="borderCallout1">
            <a:avLst>
              <a:gd name="adj1" fmla="val 18750"/>
              <a:gd name="adj2" fmla="val -8333"/>
              <a:gd name="adj3" fmla="val -499550"/>
              <a:gd name="adj4" fmla="val 12146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codifica toda la 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implementa el SW y HW de la 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94" idx="3"/>
            <a:endCxn id="195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95" idx="3"/>
            <a:endCxn id="196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6" idx="3"/>
            <a:endCxn id="197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7" idx="3"/>
            <a:endCxn id="198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9" idx="3"/>
            <a:endCxn id="200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9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"/>
          <p:cNvCxnSpPr>
            <a:stCxn id="200" idx="3"/>
            <a:endCxn id="207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"/>
          <p:cNvSpPr/>
          <p:nvPr/>
        </p:nvSpPr>
        <p:spPr>
          <a:xfrm>
            <a:off x="914400" y="4728960"/>
            <a:ext cx="4495680" cy="1739880"/>
          </a:xfrm>
          <a:prstGeom prst="borderCallout1">
            <a:avLst>
              <a:gd name="adj1" fmla="val 18750"/>
              <a:gd name="adj2" fmla="val -8333"/>
              <a:gd name="adj3" fmla="val -105171"/>
              <a:gd name="adj4" fmla="val 11305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 realizan todas las pruebas pertinentes (unitarias, sistema, integración, performance, errores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 pretende encontrar defectos, no que el sistema esté bu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mpara el diseño (lógico) con lo constru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11" idx="3"/>
            <a:endCxn id="212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12" idx="3"/>
            <a:endCxn id="213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213" idx="3"/>
            <a:endCxn id="214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4" idx="3"/>
            <a:endCxn id="215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6" idx="3"/>
            <a:endCxn id="217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15" idx="3"/>
            <a:endCxn id="216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914400" y="4732200"/>
            <a:ext cx="4495680" cy="1739880"/>
          </a:xfrm>
          <a:prstGeom prst="borderCallout1">
            <a:avLst>
              <a:gd name="adj1" fmla="val 18750"/>
              <a:gd name="adj2" fmla="val -8333"/>
              <a:gd name="adj3" fmla="val -53430"/>
              <a:gd name="adj4" fmla="val 12467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realiza la prueba de aceptación (por el usu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capacita a todos los usu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ga inicial del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ha blanca (ambiente control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esta en régi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17" idx="3"/>
            <a:endCxn id="225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8" idx="3"/>
            <a:endCxn id="229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29" idx="3"/>
            <a:endCxn id="230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0" idx="3"/>
            <a:endCxn id="231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31" idx="3"/>
            <a:endCxn id="232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3" idx="3"/>
            <a:endCxn id="234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33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914400" y="5209200"/>
            <a:ext cx="4495680" cy="642600"/>
          </a:xfrm>
          <a:prstGeom prst="borderCallout1">
            <a:avLst>
              <a:gd name="adj1" fmla="val 18750"/>
              <a:gd name="adj2" fmla="val -8333"/>
              <a:gd name="adj3" fmla="val -99606"/>
              <a:gd name="adj4" fmla="val 14759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mantiene el sistema a fin de resolver los nuevos requerimientos de los usu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34" idx="3"/>
            <a:endCxn id="242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racterística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un modelo monolítico,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 una relación favorable al desarrollador, al congelar las decisiones “rápidament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 pasa a la actividad siguiente sin haber aprobado la an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ere un esfuerzo de abstracción muy alto al princi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da la naturaleza cambiante de los requisitos y el costo de cambios a medida que se avanza en el desarrollo, este modelo está dejando de ser usado en su forma p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ún es válido para implementación de sistemas empaquetados, pero en su mayoría se adaptan mejor al modelo de prototipos que veremos a contin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5257800"/>
            <a:ext cx="86104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adémicamente es el mejor, ya que permite estudiar cada fase en forma ais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l que usaremos en el cu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 - Estructur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mente es un equipo de trabajo jerárqu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Jefe de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os Encargados de Á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cada área un grupo de perso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ede llegar a tener varios niveles, dependiendo de la complejidad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niveles superiores de la jerarquía no tienen responsabilidad técnica, si no administr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 - Ro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Áreas típicas en este tipo de mode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ional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eractúan con el 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écnico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seño detallado y cod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el proyecto no es muy grande, se mezclan 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ingenieros con más experiencia (capacidad) participan en las primeras fases princip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ués se van incorporando ingenieros y técnicos de menos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2: Modelo de prototipos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2" idx="3"/>
            <a:endCxn id="253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53" idx="3"/>
            <a:endCxn id="254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54" idx="3"/>
            <a:endCxn id="255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" name=""/>
          <p:cNvCxnSpPr>
            <a:stCxn id="255" idx="3"/>
            <a:endCxn id="256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"/>
          <p:cNvCxnSpPr>
            <a:stCxn id="257" idx="3"/>
            <a:endCxn id="258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56" idx="3"/>
            <a:endCxn id="257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3"/>
            <a:endCxn id="265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2: Modelo de prototipos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68" idx="3"/>
            <a:endCxn id="269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69" idx="3"/>
            <a:endCxn id="270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0" idx="3"/>
            <a:endCxn id="271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71" idx="3"/>
            <a:endCxn id="272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3" idx="3"/>
            <a:endCxn id="274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2" idx="3"/>
            <a:endCxn id="273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74" idx="3"/>
            <a:endCxn id="281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3" name=""/>
          <p:cNvSpPr/>
          <p:nvPr/>
        </p:nvSpPr>
        <p:spPr>
          <a:xfrm>
            <a:off x="990720" y="2286000"/>
            <a:ext cx="4190760" cy="2438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19520" y="5028840"/>
            <a:ext cx="5867280" cy="916920"/>
          </a:xfrm>
          <a:prstGeom prst="borderCallout1">
            <a:avLst>
              <a:gd name="adj1" fmla="val 18750"/>
              <a:gd name="adj2" fmla="val -8333"/>
              <a:gd name="adj3" fmla="val -74212"/>
              <a:gd name="adj4" fmla="val -2458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 análisis de requerimientos y el diseño se realiza mediante una técnica especial: La construcción de prototi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 Prototipo es una simulación del sistema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de vida de proyect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os altern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pos de cada mod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2: Modelo de prototipos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racterística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ere de la participación activa del usuario, al revisar cada proto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ere de una herramienta de desarrollo que permita construir prototipos rápid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gran ventaja es que el usuario está estrechamente ligado al desarrollo, construyéndose un sistema que realmente le es ú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e la “tentación” de usar el prototipo como la solución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be tenerse cuidado en este caso, puede ser ú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el prototipo normalmente se pasan por alto muchas consideraciones que deben ser agregadas posterior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 prototipo, al ser iterativo, puede ir incorporando situaciones para su rápido desarrollo, no para ser solución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2: Modelo de prototipos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y similar al de casc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o incorpora desde el principio personas con capacidad para desarrollar el proto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rporación directa de los usuarios en el desar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mos el modelo de Microso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ye no sólo la definición de las etapas, sino todas las funciones del desarrol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ción de variables crí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pos de desarro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ilar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chas provisionales (por etap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iedad definida y respons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ación basada en ries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ega por ver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Fechas provision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4280" y="2895480"/>
            <a:ext cx="1675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3733200" y="1828800"/>
            <a:ext cx="167580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1874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1874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 flipV="1">
            <a:off x="2971800" y="1828080"/>
            <a:ext cx="319968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971800" y="1370520"/>
            <a:ext cx="32000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7057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70576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0" y="510552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1676520"/>
            <a:ext cx="762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0" y="1371600"/>
            <a:ext cx="1371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34120" y="2895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733920" y="1752480"/>
            <a:ext cx="838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9880" y="4267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38480" y="46483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91120" y="4876920"/>
            <a:ext cx="3808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572000" y="12193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57480" y="34322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57800" y="3200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19720" y="48769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19520" y="323856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19720" y="12193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1752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z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8640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29000" y="5334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95280" y="3429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00600" y="2286000"/>
            <a:ext cx="1066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cesidad d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81480" y="42670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57400" y="42670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57400" y="1905120"/>
            <a:ext cx="1371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Fechas provision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34280" y="2895480"/>
            <a:ext cx="1675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733200" y="1828800"/>
            <a:ext cx="167580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1874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1874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2971800" y="1828080"/>
            <a:ext cx="319968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971800" y="1370520"/>
            <a:ext cx="32000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7057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70576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510552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86400" y="1676520"/>
            <a:ext cx="762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1371600"/>
            <a:ext cx="1371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4120" y="2895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33920" y="1752480"/>
            <a:ext cx="838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9880" y="4267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38480" y="46483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91120" y="4876920"/>
            <a:ext cx="3808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4572000" y="12193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57480" y="34322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57800" y="3200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19720" y="48769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19520" y="323856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19720" y="12193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038480" y="1752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z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29000" y="5334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95280" y="3429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00600" y="2286000"/>
            <a:ext cx="1066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cesidad d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81480" y="42670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057400" y="42670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057400" y="1905120"/>
            <a:ext cx="1371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5366520"/>
            <a:ext cx="2438280" cy="642600"/>
          </a:xfrm>
          <a:prstGeom prst="borderCallout1">
            <a:avLst>
              <a:gd name="adj1" fmla="val 18750"/>
              <a:gd name="adj2" fmla="val -8333"/>
              <a:gd name="adj3" fmla="val -311810"/>
              <a:gd name="adj4" fmla="val 18436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ción del objetivo y alcance del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Fechas provision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34280" y="2895480"/>
            <a:ext cx="1675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733200" y="1828800"/>
            <a:ext cx="167580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1874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1874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2971800" y="1828080"/>
            <a:ext cx="319968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971800" y="1370520"/>
            <a:ext cx="32000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7057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70576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0" y="510552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486400" y="1676520"/>
            <a:ext cx="762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0" y="1371600"/>
            <a:ext cx="1371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34120" y="2895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3920" y="1752480"/>
            <a:ext cx="838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9880" y="4267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038480" y="46483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191120" y="4876920"/>
            <a:ext cx="3808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4572000" y="12193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57480" y="34322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7800" y="3200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19720" y="48769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819520" y="323856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19720" y="12193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038480" y="1752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z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8640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29000" y="5334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295280" y="3429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800600" y="2286000"/>
            <a:ext cx="1066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cesidad d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81480" y="42670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57400" y="42670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057400" y="1905120"/>
            <a:ext cx="1371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520" y="5073120"/>
            <a:ext cx="2819160" cy="1191240"/>
          </a:xfrm>
          <a:prstGeom prst="borderCallout1">
            <a:avLst>
              <a:gd name="adj1" fmla="val 18750"/>
              <a:gd name="adj2" fmla="val -8333"/>
              <a:gd name="adj3" fmla="val -1115"/>
              <a:gd name="adj4" fmla="val 14362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alle suficiente para la constr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revisan los compromisos, recursos y tiem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Fechas provision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34280" y="2895480"/>
            <a:ext cx="1675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3733200" y="1828800"/>
            <a:ext cx="167580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1874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1874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2971800" y="1828080"/>
            <a:ext cx="319968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971800" y="1370520"/>
            <a:ext cx="32000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7057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70576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510552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86400" y="1676520"/>
            <a:ext cx="762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1371600"/>
            <a:ext cx="1371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34120" y="2895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33920" y="1752480"/>
            <a:ext cx="838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9880" y="4267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038480" y="46483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191120" y="4876920"/>
            <a:ext cx="3808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4572000" y="12193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257480" y="34322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57800" y="3200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419720" y="48769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819520" y="323856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19720" y="12193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038480" y="1752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z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48640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429000" y="5334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3429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00600" y="2286000"/>
            <a:ext cx="1066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cesidad d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81480" y="42670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57400" y="42670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057400" y="1905120"/>
            <a:ext cx="1371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15000" y="4805280"/>
            <a:ext cx="3200400" cy="1465560"/>
          </a:xfrm>
          <a:prstGeom prst="borderCallout1">
            <a:avLst>
              <a:gd name="adj1" fmla="val 18750"/>
              <a:gd name="adj2" fmla="val -8333"/>
              <a:gd name="adj3" fmla="val -93046"/>
              <a:gd name="adj4" fmla="val -85703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do el código está comp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 que no está hecho es para una siguiente ver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hace un análisis del sistema y de las fases de entr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Fechas provision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734280" y="2895480"/>
            <a:ext cx="1675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3733200" y="1828800"/>
            <a:ext cx="167580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1874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1874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2971800" y="1828080"/>
            <a:ext cx="319968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2971800" y="1370520"/>
            <a:ext cx="32000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7057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70576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0" y="510552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486400" y="1676520"/>
            <a:ext cx="762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1371600"/>
            <a:ext cx="1371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4120" y="2895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733920" y="1752480"/>
            <a:ext cx="838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09880" y="4267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038480" y="46483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191120" y="4876920"/>
            <a:ext cx="3808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572000" y="12193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57480" y="34322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257800" y="3200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19720" y="48769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819520" y="323856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419720" y="12193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038480" y="1752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z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8640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429000" y="5334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3429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00600" y="2286000"/>
            <a:ext cx="1066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cesidad d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81480" y="42670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57400" y="42670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57400" y="1905120"/>
            <a:ext cx="1371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715000" y="4808160"/>
            <a:ext cx="3200400" cy="1465560"/>
          </a:xfrm>
          <a:prstGeom prst="borderCallout1">
            <a:avLst>
              <a:gd name="adj1" fmla="val 18750"/>
              <a:gd name="adj2" fmla="val -8333"/>
              <a:gd name="adj3" fmla="val -232560"/>
              <a:gd name="adj4" fmla="val -35361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finaliza el código junto a las 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 este momento se pasa el control del sistema al grupo de operaciones y so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rogramación basada en riesg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so de prototipos para explorar y reducir ries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ioridades basadas en riesgos técn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o incluye un acuerdo con lo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fechas parciales anteriores no “congelan” el desar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spués de ellas, los cambios son control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equipo de desarrollo busca proactivamente y desde el principio los puntos de ries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nzamientos escalonados del códi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ncepto de Ciclo de Vid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 las etapas por las que pasa un proyecto desde su concepción hasta su cier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á íntimamente ligado al concepto de Metodología, aunque no es l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ambia de proyecto a proyecto, aunque puede adaptarse a las diferencias naturales de cada u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Lanzamiento por version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versiones existen no sólo para productos comer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mbién para desarrollos in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SW es visto como un proceso de mejora continua y no como un sistema está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e que las funcionalidades no incluidas en una versión se dejen para la(s) siguiente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42" idx="0"/>
            <a:endCxn id="437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4" name=""/>
          <p:cNvCxnSpPr>
            <a:stCxn id="437" idx="3"/>
            <a:endCxn id="441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5" name=""/>
          <p:cNvCxnSpPr>
            <a:stCxn id="442" idx="2"/>
            <a:endCxn id="440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6" name=""/>
          <p:cNvCxnSpPr>
            <a:stCxn id="439" idx="3"/>
            <a:endCxn id="441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7" name=""/>
          <p:cNvCxnSpPr>
            <a:stCxn id="442" idx="3"/>
            <a:endCxn id="438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8" name=""/>
          <p:cNvCxnSpPr>
            <a:stCxn id="438" idx="3"/>
            <a:endCxn id="441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9" name=""/>
          <p:cNvCxnSpPr>
            <a:stCxn id="440" idx="3"/>
            <a:endCxn id="439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0" name=""/>
          <p:cNvCxnSpPr>
            <a:stCxn id="438" idx="2"/>
            <a:endCxn id="440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1" name=""/>
          <p:cNvCxnSpPr>
            <a:stCxn id="438" idx="2"/>
            <a:endCxn id="439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9" name=""/>
          <p:cNvCxnSpPr>
            <a:stCxn id="458" idx="0"/>
            <a:endCxn id="453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0" name=""/>
          <p:cNvCxnSpPr>
            <a:stCxn id="453" idx="3"/>
            <a:endCxn id="457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56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2" name=""/>
          <p:cNvCxnSpPr>
            <a:stCxn id="455" idx="3"/>
            <a:endCxn id="457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3" name=""/>
          <p:cNvCxnSpPr>
            <a:stCxn id="458" idx="3"/>
            <a:endCxn id="454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4" name=""/>
          <p:cNvCxnSpPr>
            <a:stCxn id="454" idx="3"/>
            <a:endCxn id="457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5" name=""/>
          <p:cNvCxnSpPr>
            <a:stCxn id="456" idx="3"/>
            <a:endCxn id="455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6" name=""/>
          <p:cNvCxnSpPr>
            <a:stCxn id="454" idx="2"/>
            <a:endCxn id="456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7" name=""/>
          <p:cNvCxnSpPr>
            <a:stCxn id="454" idx="2"/>
            <a:endCxn id="455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8" name=""/>
          <p:cNvSpPr/>
          <p:nvPr/>
        </p:nvSpPr>
        <p:spPr>
          <a:xfrm>
            <a:off x="3973680" y="5092560"/>
            <a:ext cx="4724280" cy="1465560"/>
          </a:xfrm>
          <a:prstGeom prst="borderCallout1">
            <a:avLst>
              <a:gd name="adj1" fmla="val 18750"/>
              <a:gd name="adj2" fmla="val -8333"/>
              <a:gd name="adj3" fmla="val -102773"/>
              <a:gd name="adj4" fmla="val -44921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tivo d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or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ado de visión (expectativas y presunc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ursos y co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gociación con otros equi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5" idx="0"/>
            <a:endCxn id="470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70" idx="3"/>
            <a:endCxn id="474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5" idx="2"/>
            <a:endCxn id="473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9" name=""/>
          <p:cNvCxnSpPr>
            <a:stCxn id="472" idx="3"/>
            <a:endCxn id="474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0" name=""/>
          <p:cNvCxnSpPr>
            <a:stCxn id="475" idx="3"/>
            <a:endCxn id="471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1" name=""/>
          <p:cNvCxnSpPr>
            <a:stCxn id="471" idx="3"/>
            <a:endCxn id="474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2" name=""/>
          <p:cNvCxnSpPr>
            <a:stCxn id="473" idx="3"/>
            <a:endCxn id="472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71" idx="2"/>
            <a:endCxn id="473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4" name=""/>
          <p:cNvCxnSpPr>
            <a:stCxn id="471" idx="2"/>
            <a:endCxn id="472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5" name=""/>
          <p:cNvSpPr/>
          <p:nvPr/>
        </p:nvSpPr>
        <p:spPr>
          <a:xfrm>
            <a:off x="5334120" y="5265360"/>
            <a:ext cx="3363840" cy="1191240"/>
          </a:xfrm>
          <a:prstGeom prst="borderCallout1">
            <a:avLst>
              <a:gd name="adj1" fmla="val 18750"/>
              <a:gd name="adj2" fmla="val -8333"/>
              <a:gd name="adj3" fmla="val -128787"/>
              <a:gd name="adj4" fmla="val -5134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ion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rdinación inte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unicación con otras áreas de la e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2" idx="0"/>
            <a:endCxn id="487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87" idx="3"/>
            <a:endCxn id="491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5" name=""/>
          <p:cNvCxnSpPr>
            <a:stCxn id="492" idx="2"/>
            <a:endCxn id="490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6" name=""/>
          <p:cNvCxnSpPr>
            <a:stCxn id="489" idx="3"/>
            <a:endCxn id="491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7" name=""/>
          <p:cNvCxnSpPr>
            <a:stCxn id="492" idx="3"/>
            <a:endCxn id="488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8" name=""/>
          <p:cNvCxnSpPr>
            <a:stCxn id="488" idx="3"/>
            <a:endCxn id="491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9" name=""/>
          <p:cNvCxnSpPr>
            <a:stCxn id="490" idx="3"/>
            <a:endCxn id="489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0" name=""/>
          <p:cNvCxnSpPr>
            <a:stCxn id="488" idx="2"/>
            <a:endCxn id="490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88" idx="2"/>
            <a:endCxn id="489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553080" y="4271400"/>
            <a:ext cx="2297160" cy="916920"/>
          </a:xfrm>
          <a:prstGeom prst="borderCallout1">
            <a:avLst>
              <a:gd name="adj1" fmla="val 18750"/>
              <a:gd name="adj2" fmla="val -8333"/>
              <a:gd name="adj3" fmla="val -233513"/>
              <a:gd name="adj4" fmla="val -10393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oti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dif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 de ver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509" idx="0"/>
            <a:endCxn id="504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"/>
          <p:cNvCxnSpPr>
            <a:stCxn id="504" idx="3"/>
            <a:endCxn id="508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2" name=""/>
          <p:cNvCxnSpPr>
            <a:stCxn id="509" idx="2"/>
            <a:endCxn id="507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3" name=""/>
          <p:cNvCxnSpPr>
            <a:stCxn id="506" idx="3"/>
            <a:endCxn id="508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09" idx="3"/>
            <a:endCxn id="505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5" name=""/>
          <p:cNvCxnSpPr>
            <a:stCxn id="505" idx="3"/>
            <a:endCxn id="508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6" name=""/>
          <p:cNvCxnSpPr>
            <a:stCxn id="507" idx="3"/>
            <a:endCxn id="506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7" name=""/>
          <p:cNvCxnSpPr>
            <a:stCxn id="505" idx="2"/>
            <a:endCxn id="507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8" name=""/>
          <p:cNvCxnSpPr>
            <a:stCxn id="505" idx="2"/>
            <a:endCxn id="506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9" name=""/>
          <p:cNvSpPr/>
          <p:nvPr/>
        </p:nvSpPr>
        <p:spPr>
          <a:xfrm>
            <a:off x="1360440" y="5185800"/>
            <a:ext cx="2297160" cy="916920"/>
          </a:xfrm>
          <a:prstGeom prst="borderCallout1">
            <a:avLst>
              <a:gd name="adj1" fmla="val 18750"/>
              <a:gd name="adj2" fmla="val -8333"/>
              <a:gd name="adj3" fmla="val -182611"/>
              <a:gd name="adj4" fmla="val 227638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es de prue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o de depuración del códi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"/>
          <p:cNvCxnSpPr>
            <a:stCxn id="526" idx="0"/>
            <a:endCxn id="521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8" name=""/>
          <p:cNvCxnSpPr>
            <a:stCxn id="521" idx="3"/>
            <a:endCxn id="525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9" name=""/>
          <p:cNvCxnSpPr>
            <a:stCxn id="526" idx="2"/>
            <a:endCxn id="524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0" name=""/>
          <p:cNvCxnSpPr>
            <a:stCxn id="523" idx="3"/>
            <a:endCxn id="525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1" name=""/>
          <p:cNvCxnSpPr>
            <a:stCxn id="526" idx="3"/>
            <a:endCxn id="522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22" idx="3"/>
            <a:endCxn id="525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3" name=""/>
          <p:cNvCxnSpPr>
            <a:stCxn id="524" idx="3"/>
            <a:endCxn id="523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4" name=""/>
          <p:cNvCxnSpPr>
            <a:stCxn id="522" idx="2"/>
            <a:endCxn id="524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5" name=""/>
          <p:cNvCxnSpPr>
            <a:stCxn id="522" idx="2"/>
            <a:endCxn id="523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6" name=""/>
          <p:cNvSpPr/>
          <p:nvPr/>
        </p:nvSpPr>
        <p:spPr>
          <a:xfrm>
            <a:off x="5486400" y="1680840"/>
            <a:ext cx="3124080" cy="1191240"/>
          </a:xfrm>
          <a:prstGeom prst="borderCallout1">
            <a:avLst>
              <a:gd name="adj1" fmla="val 18750"/>
              <a:gd name="adj2" fmla="val -8333"/>
              <a:gd name="adj3" fmla="val 248245"/>
              <a:gd name="adj4" fmla="val -7478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umentación y material didác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ensor del usuario en el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543" idx="0"/>
            <a:endCxn id="538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5" name=""/>
          <p:cNvCxnSpPr>
            <a:stCxn id="538" idx="3"/>
            <a:endCxn id="542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6" name=""/>
          <p:cNvCxnSpPr>
            <a:stCxn id="543" idx="2"/>
            <a:endCxn id="541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40" idx="3"/>
            <a:endCxn id="542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8" name=""/>
          <p:cNvCxnSpPr>
            <a:stCxn id="543" idx="3"/>
            <a:endCxn id="539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9" idx="3"/>
            <a:endCxn id="542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41" idx="3"/>
            <a:endCxn id="540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39" idx="2"/>
            <a:endCxn id="541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2" name=""/>
          <p:cNvCxnSpPr>
            <a:stCxn id="539" idx="2"/>
            <a:endCxn id="540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3" name=""/>
          <p:cNvSpPr/>
          <p:nvPr/>
        </p:nvSpPr>
        <p:spPr>
          <a:xfrm>
            <a:off x="304920" y="1604520"/>
            <a:ext cx="3124080" cy="916920"/>
          </a:xfrm>
          <a:prstGeom prst="borderCallout1">
            <a:avLst>
              <a:gd name="adj1" fmla="val 18750"/>
              <a:gd name="adj2" fmla="val -8333"/>
              <a:gd name="adj3" fmla="val 332101"/>
              <a:gd name="adj4" fmla="val 16167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spaso del sistema a oper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alación del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l equipo mínim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352680" y="3268800"/>
            <a:ext cx="2819520" cy="138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952880" y="5629320"/>
            <a:ext cx="198144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057400" y="5629320"/>
            <a:ext cx="198108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477120" y="3724200"/>
            <a:ext cx="2209680" cy="4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28600" y="2994120"/>
            <a:ext cx="2590920" cy="193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0" idx="0"/>
            <a:endCxn id="555" idx="1"/>
          </p:cNvCxnSpPr>
          <p:nvPr/>
        </p:nvCxnSpPr>
        <p:spPr>
          <a:xfrm flipH="1" flipV="1" rot="5400000">
            <a:off x="1937160" y="1578240"/>
            <a:ext cx="1002600" cy="1829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2" name=""/>
          <p:cNvCxnSpPr>
            <a:stCxn id="555" idx="3"/>
            <a:endCxn id="559" idx="0"/>
          </p:cNvCxnSpPr>
          <p:nvPr/>
        </p:nvCxnSpPr>
        <p:spPr>
          <a:xfrm>
            <a:off x="5562360" y="1991880"/>
            <a:ext cx="2019960" cy="1732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3" name=""/>
          <p:cNvCxnSpPr>
            <a:stCxn id="560" idx="2"/>
            <a:endCxn id="558" idx="1"/>
          </p:cNvCxnSpPr>
          <p:nvPr/>
        </p:nvCxnSpPr>
        <p:spPr>
          <a:xfrm flipH="1" rot="16200000">
            <a:off x="1319760" y="5124600"/>
            <a:ext cx="94212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4" name=""/>
          <p:cNvCxnSpPr>
            <a:stCxn id="557" idx="3"/>
            <a:endCxn id="559" idx="2"/>
          </p:cNvCxnSpPr>
          <p:nvPr/>
        </p:nvCxnSpPr>
        <p:spPr>
          <a:xfrm flipV="1">
            <a:off x="6933960" y="4190400"/>
            <a:ext cx="648360" cy="1672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5" name=""/>
          <p:cNvCxnSpPr>
            <a:stCxn id="560" idx="3"/>
            <a:endCxn id="556" idx="1"/>
          </p:cNvCxnSpPr>
          <p:nvPr/>
        </p:nvCxnSpPr>
        <p:spPr>
          <a:xfrm>
            <a:off x="2819160" y="3957120"/>
            <a:ext cx="5338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6" name=""/>
          <p:cNvCxnSpPr>
            <a:stCxn id="556" idx="3"/>
            <a:endCxn id="559" idx="1"/>
          </p:cNvCxnSpPr>
          <p:nvPr/>
        </p:nvCxnSpPr>
        <p:spPr>
          <a:xfrm flipV="1">
            <a:off x="6171840" y="3956760"/>
            <a:ext cx="3056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7" name=""/>
          <p:cNvCxnSpPr>
            <a:stCxn id="558" idx="3"/>
            <a:endCxn id="557" idx="1"/>
          </p:cNvCxnSpPr>
          <p:nvPr/>
        </p:nvCxnSpPr>
        <p:spPr>
          <a:xfrm>
            <a:off x="4038480" y="586224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8" name=""/>
          <p:cNvCxnSpPr>
            <a:stCxn id="556" idx="2"/>
            <a:endCxn id="558" idx="0"/>
          </p:cNvCxnSpPr>
          <p:nvPr/>
        </p:nvCxnSpPr>
        <p:spPr>
          <a:xfrm flipH="1">
            <a:off x="3047760" y="4647960"/>
            <a:ext cx="1715040" cy="981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9" name=""/>
          <p:cNvCxnSpPr>
            <a:stCxn id="556" idx="2"/>
            <a:endCxn id="557" idx="0"/>
          </p:cNvCxnSpPr>
          <p:nvPr/>
        </p:nvCxnSpPr>
        <p:spPr>
          <a:xfrm>
            <a:off x="4762080" y="4647960"/>
            <a:ext cx="1181880" cy="981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Fechas parciales y equip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zamiento del prod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de Vida v/s Metodologí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iclo de vida es más general, describe la forma en que se enfrentan los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metodología es una guía para resolver los problemas, basado en las directrices del Cic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metodología incluye ayudas directas al desarrollad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illas y otros formatos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para realizar estim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muchas empresas estos conceptos se funden en uno só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o porque manejan una sola metodología y no tiene sentido hacer grandes definiciones y di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mparación de model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y sólido en su cic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Útil para soluciones ya maduras, como Administr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útil para soluciones con mucha posibilidad de variación (aplicaciones nuev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Útil cuando los requerimientos no son claros o no pueden articularse clar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ne el peligro de quedarse siempre en prototipos iterativos, sin converger a un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i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mite ver el desarrollo como fases o entregas sucesivas, lo que hace que no se tenga un desarrollo muy grande al princi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be tenerse claro el problema global para que las primeras fases ya consideren las complejidades que se agregan al incorporar nuevas funcion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lidad en proyectos TIC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ceptos de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SO 9000 y C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écnicas para asegurar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raz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nceptos de calidad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roductos masiv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producto es de calidad cuando cumple sistemáticamente los estándares defin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 ejemplo tolerancia de dimensiones, ingredientes, ambiente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 embargo, la calidad así definida no garantiza que satisface las necesidades del compr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n definiciones tales como “deleitar al usuario” o “sorprender al usuari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idad se define entonces como la capacidad de satisfacer una necesidad en forma consistente y compl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lidad en proyect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 anterior es válido para productos que se producen en forma masiva y se pueden analizar cada u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o, ¿qué pasa con los proyectos, que se desarrollan una vez y nunca má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sto de los error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914400" y="175212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914400" y="5715000"/>
            <a:ext cx="6705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28600" y="1295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696080" y="5562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990720" y="2286000"/>
            <a:ext cx="6476760" cy="3352680"/>
          </a:xfrm>
          <a:custGeom>
            <a:avLst/>
            <a:gdLst/>
            <a:ahLst/>
            <a:rect l="l" t="t" r="r" b="b"/>
            <a:pathLst>
              <a:path w="4080" h="2112">
                <a:moveTo>
                  <a:pt x="0" y="2112"/>
                </a:moveTo>
                <a:cubicBezTo>
                  <a:pt x="1172" y="1976"/>
                  <a:pt x="2344" y="1840"/>
                  <a:pt x="3024" y="1488"/>
                </a:cubicBezTo>
                <a:cubicBezTo>
                  <a:pt x="3704" y="1136"/>
                  <a:pt x="3892" y="568"/>
                  <a:pt x="408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lidad en proyect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calidad en los proyectos (de cualquier índole, no sólo TIC) se logra “haciéndolo bie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 esto es im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ner ciclo de vida y metod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ándares de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general, la calidad de proyectos se explícita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ificar el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ocumentar las estim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cer lo que se d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ocumentar lo que hi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scar proactivamente los err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alizar los aciertos y err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rregir los err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SO 9000 y CMM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 9000 es un estándar general, no sólo para TIC (de hecho está diseñado primeramente para manufactu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M es solamente para el desarrollo de SW (no para otras TI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SO 9000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un estándar “todo o nada”; es decir, se cumple o no se cu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ampliamente reconocido y acep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ne una versión específica para S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e en su defin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es extremadamente exig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MM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un modelo de madurez, no de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ecir, mide cuán bien lo hace la empresa en diversas dimen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mpulsado por el D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iene 5 nive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nivel 2 es comparable a ISO 9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niveles superiores son muy exig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ha revisado y está vigente la versión 2 del mod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Otros modelos de calida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inc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Metodología v/s Plan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Metodología es única, no depende del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lan de Proyecto es la forma en que la metodología se concreta en un proyecto específ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tiempos y responsabilidades específicos por actividad (la metodología puede tenerlas en forma más gene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ca las actividades que se realizar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ede eliminar actividades de la metod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ede agregar actividades a la metod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ce explícito el equipo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ca los riesgos del proyecto, así como cualquier otra variable relev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Prince2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 un estándar para desarroll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ació en Inglaterra para S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Hoy se utilizar en general para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pon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usiness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Organ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estión del riesgo (M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lidad en el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dministración de la config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trol de camb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enera un gran control sobre el desarrollo del proyecto, gestionando tiempo, costo y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ITIL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579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rientado a todo la Gerencia de Tecnología, no sólo al desarrollo de 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o tiene un foco en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ero si ve al área como un servicio hacia el resto de la organización que evoluciona constant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grupa las “mejores prácticas” en librer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e Strate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e Desig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e Transi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e 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tinual Service Impro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tante experiencia a nivel mund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22gr-the-core-framework_2142_w2" descr="The Core Framework"/>
          <p:cNvPicPr/>
          <p:nvPr/>
        </p:nvPicPr>
        <p:blipFill>
          <a:blip r:embed="rId1"/>
          <a:stretch/>
        </p:blipFill>
        <p:spPr>
          <a:xfrm>
            <a:off x="6095880" y="17524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CobiT 4.1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usca la “gobernabilidad” del área de Tecnolog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oder predecir y controlar los recursos requeridos para generar los resultados esper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lineación con el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 un Framework orientado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T Alineado con el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T facilita (permite) el negocio y maximiza sus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os recursos de IT son usados responsable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os riesgos de IT son administr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inco áreas princip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lineamiento estraté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ntregando / generando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dministración de los 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Gestión del ries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Mediciones de produ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cluye modelos de madurez para comparaciones y para definir los puntos que deben ser mejo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6553080" y="1219320"/>
            <a:ext cx="2590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lgunas técnicas de calida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ión constante del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ipación del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álisis de los errores y sus cau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álisis de todos los aspectos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metodologías y gu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Trazabilida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refiere a que en cada etapa del desarrollo, las decisiones o definiciones se pueden asociar a un requerimiento 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decir, es posible “trazar” cómo un requerimiento se va resolviendo en cada et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os los requerimientos deben estar en cada eta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o además, “cada palabra escrita” está asociada a un requerimiento (o má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algo no está asociado a un requerimiento es dud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Trazabilida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requerimiento debe tener un identificador (número únic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eriormente, en cada punto del diseño, construcción, plan de pruebas, etc. se hace referencia a estos identific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 traza se superpone a otra que normalmente se coloca para asociar una etapa con la sigu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arrollo continu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Necesidad de desarrollo continu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requerimientos están constantemente cambi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usuarios siempre quieren algo nue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bios leg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joras en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joras en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Mantención y nuevas version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os sistemas se le debe hacer mantención contin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emente mejorar alguna cos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ere controlar las ver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ere una política de distribución de 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jo con la docu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o muchas veces los cambios son may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n una nueva 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de reemplazar o complementar el sistema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conveniente analizar las mejoras a los procesos de la empresa que pueden implementarse (al igual que en cualquier desarrol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¿Quién mantiene?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equipo especia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á especia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ere una transferencia de conocimientos compl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ropio equipo de desar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 conoce b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distrae de su nuevo desarrollo de otra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o es lo que sucede en la prác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3" idx="3"/>
            <a:endCxn id="94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4" idx="3"/>
            <a:endCxn id="95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3"/>
            <a:endCxn id="96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6" idx="3"/>
            <a:endCxn id="97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8" idx="3"/>
            <a:endCxn id="99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7" idx="3"/>
            <a:endCxn id="98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99" idx="3"/>
            <a:endCxn id="106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de desarrollo de proyectos TIC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clo de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pos de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idad en proyectos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continu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09" idx="3"/>
            <a:endCxn id="110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0" idx="3"/>
            <a:endCxn id="111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1" idx="3"/>
            <a:endCxn id="112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2" idx="3"/>
            <a:endCxn id="113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3"/>
            <a:endCxn id="115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3" idx="3"/>
            <a:endCxn id="114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5" idx="3"/>
            <a:endCxn id="122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990720" y="4701960"/>
            <a:ext cx="2514600" cy="1465560"/>
          </a:xfrm>
          <a:prstGeom prst="borderCallout1">
            <a:avLst>
              <a:gd name="adj1" fmla="val 18750"/>
              <a:gd name="adj2" fmla="val -8333"/>
              <a:gd name="adj3" fmla="val -173523"/>
              <a:gd name="adj4" fmla="val -2378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reconoce que existe un problema y que las TIC pueden ayu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evalúa positivamente el desarrollar 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26" idx="3"/>
            <a:endCxn id="127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7" idx="3"/>
            <a:endCxn id="128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8" idx="3"/>
            <a:endCxn id="129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29" idx="3"/>
            <a:endCxn id="130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1" idx="3"/>
            <a:endCxn id="132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0" idx="3"/>
            <a:endCxn id="131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2" idx="3"/>
            <a:endCxn id="139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2362320" y="4272120"/>
            <a:ext cx="3276360" cy="2288520"/>
          </a:xfrm>
          <a:prstGeom prst="borderCallout1">
            <a:avLst>
              <a:gd name="adj1" fmla="val 18750"/>
              <a:gd name="adj2" fmla="val -8333"/>
              <a:gd name="adj3" fmla="val -60124"/>
              <a:gd name="adj4" fmla="val -9291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identifican detalladamente todos los requerimientos (necesidades) de los usu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priorizan y clasifi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ún no se piensa en su 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a etapa es clave, ya que describe claramente el problema a solucio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3" idx="3"/>
            <a:endCxn id="144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4" idx="3"/>
            <a:endCxn id="145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5" idx="3"/>
            <a:endCxn id="146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6" idx="3"/>
            <a:endCxn id="147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8" idx="3"/>
            <a:endCxn id="149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7" idx="3"/>
            <a:endCxn id="148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49" idx="3"/>
            <a:endCxn id="156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2971800" y="4638600"/>
            <a:ext cx="3276720" cy="2014200"/>
          </a:xfrm>
          <a:prstGeom prst="borderCallout1">
            <a:avLst>
              <a:gd name="adj1" fmla="val 18750"/>
              <a:gd name="adj2" fmla="val -8333"/>
              <a:gd name="adj3" fmla="val -52300"/>
              <a:gd name="adj4" fmla="val -1196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analizan diferentes alternativas para solucionar el problema (satisfacer los requerimien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elige la solución defini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 equivalente a la Ingeniería Bás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0:53:56Z</dcterms:created>
  <dc:creator>IBM_User</dc:creator>
  <dc:description/>
  <dc:language>en-US</dc:language>
  <cp:lastModifiedBy>adibiase</cp:lastModifiedBy>
  <dcterms:modified xsi:type="dcterms:W3CDTF">2007-08-06T18:11:20Z</dcterms:modified>
  <cp:revision>36</cp:revision>
  <dc:subject/>
  <dc:title>Diseño de Sistemas basados en Tecnologías de la Información y Comunicaciones</dc:title>
</cp:coreProperties>
</file>