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D50B798F-4125-499F-BA2F-D8583CE0B38D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desarrollo de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dad en proyecto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3"/>
            <a:endCxn id="161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1" idx="3"/>
            <a:endCxn id="162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2" idx="3"/>
            <a:endCxn id="163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3" idx="3"/>
            <a:endCxn id="164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5" idx="3"/>
            <a:endCxn id="166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4" idx="3"/>
            <a:endCxn id="165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6" idx="3"/>
            <a:endCxn id="173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4038480" y="4592520"/>
            <a:ext cx="4496040" cy="2014200"/>
          </a:xfrm>
          <a:prstGeom prst="borderCallout1">
            <a:avLst>
              <a:gd name="adj1" fmla="val 18750"/>
              <a:gd name="adj2" fmla="val -8333"/>
              <a:gd name="adj3" fmla="val -17976"/>
              <a:gd name="adj4" fmla="val -1450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detalla completamente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caso necesario se realizan pruebas de los conceptos apli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teoría es independiente de la herramienta, pero en la práctica se hace para el conjunto de herramientas a utili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equivalente a Ingeniería de Deta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7" idx="3"/>
            <a:endCxn id="178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8" idx="3"/>
            <a:endCxn id="179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9" idx="3"/>
            <a:endCxn id="180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0" idx="3"/>
            <a:endCxn id="181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2" idx="3"/>
            <a:endCxn id="183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1" idx="3"/>
            <a:endCxn id="182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3" idx="3"/>
            <a:endCxn id="190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04920" y="5358600"/>
            <a:ext cx="4495680" cy="642600"/>
          </a:xfrm>
          <a:prstGeom prst="borderCallout1">
            <a:avLst>
              <a:gd name="adj1" fmla="val 18750"/>
              <a:gd name="adj2" fmla="val -8333"/>
              <a:gd name="adj3" fmla="val -499550"/>
              <a:gd name="adj4" fmla="val 12146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odifica toda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implementa el SW y HW de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4" idx="3"/>
            <a:endCxn id="195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5" idx="3"/>
            <a:endCxn id="196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6" idx="3"/>
            <a:endCxn id="197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7" idx="3"/>
            <a:endCxn id="198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3"/>
            <a:endCxn id="200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9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0" idx="3"/>
            <a:endCxn id="207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914400" y="4728960"/>
            <a:ext cx="4495680" cy="1739880"/>
          </a:xfrm>
          <a:prstGeom prst="borderCallout1">
            <a:avLst>
              <a:gd name="adj1" fmla="val 18750"/>
              <a:gd name="adj2" fmla="val -8333"/>
              <a:gd name="adj3" fmla="val -105171"/>
              <a:gd name="adj4" fmla="val 11305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realizan todas las pruebas pertinentes (unitarias, sistema, integración, performance, errore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pretende encontrar defectos, no que el sistema esté bu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ara el diseño (lógico) con lo constru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1" idx="3"/>
            <a:endCxn id="212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2" idx="3"/>
            <a:endCxn id="213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3" idx="3"/>
            <a:endCxn id="214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4" idx="3"/>
            <a:endCxn id="215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6" idx="3"/>
            <a:endCxn id="217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5" idx="3"/>
            <a:endCxn id="216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914400" y="4732200"/>
            <a:ext cx="4495680" cy="1739880"/>
          </a:xfrm>
          <a:prstGeom prst="borderCallout1">
            <a:avLst>
              <a:gd name="adj1" fmla="val 18750"/>
              <a:gd name="adj2" fmla="val -8333"/>
              <a:gd name="adj3" fmla="val -53430"/>
              <a:gd name="adj4" fmla="val 124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aliza la prueba de aceptación (por el usu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apacita a todos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 inicial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a blanca (ambiente control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esta en régi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17" idx="3"/>
            <a:endCxn id="225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8" idx="3"/>
            <a:endCxn id="229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9" idx="3"/>
            <a:endCxn id="230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0" idx="3"/>
            <a:endCxn id="231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1" idx="3"/>
            <a:endCxn id="232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3" idx="3"/>
            <a:endCxn id="234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33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914400" y="5209200"/>
            <a:ext cx="4495680" cy="642600"/>
          </a:xfrm>
          <a:prstGeom prst="borderCallout1">
            <a:avLst>
              <a:gd name="adj1" fmla="val 18750"/>
              <a:gd name="adj2" fmla="val -8333"/>
              <a:gd name="adj3" fmla="val -99606"/>
              <a:gd name="adj4" fmla="val 14759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mantiene el sistema a fin de resolver los nuevos requerimientos de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34" idx="3"/>
            <a:endCxn id="242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racterístic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un modelo monolítico,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 una relación favorable al desarrollador, al congelar las decisiones “rápidament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pasa a la actividad siguiente sin haber aprobado la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un esfuerzo de abstracción muy alto al 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a la naturaleza cambiante de los requisitos y el costo de cambios a medida que se avanza en el desarrollo, este modelo está dejando de ser usado en su forma p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ún es válido para implementación de sistemas empaquetados, pero en su mayoría se adaptan mejor al modelo de prototipos que veremos a conti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257800"/>
            <a:ext cx="8610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émicamente es el mejor, ya que permite estudiar cada fase en forma ais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que usaremos en el cu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 - Estructur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mente es un equipo de trabajo jerárqu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Jefe de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s Encargados de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ada área un grupo de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llegar a tener varios niveles, dependiendo de la complejidad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niveles superiores de la jerarquía no tienen responsabilidad técnica, si no administ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 - Ro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reas típicas en este tipo d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ional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actúan con el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écnic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eño detallado y 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proyecto no es muy grande, se mezclan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ingenieros con más experiencia (capacidad) participan en las primeras fases princip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ués se van incorporando ingenieros y técnicos de menos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2" idx="3"/>
            <a:endCxn id="253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3" idx="3"/>
            <a:endCxn id="254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4" idx="3"/>
            <a:endCxn id="255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5" idx="3"/>
            <a:endCxn id="256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7" idx="3"/>
            <a:endCxn id="258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6" idx="3"/>
            <a:endCxn id="257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3"/>
            <a:endCxn id="265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8" idx="3"/>
            <a:endCxn id="269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9" idx="3"/>
            <a:endCxn id="270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0" idx="3"/>
            <a:endCxn id="271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1" idx="3"/>
            <a:endCxn id="272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3" idx="3"/>
            <a:endCxn id="274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2" idx="3"/>
            <a:endCxn id="273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4" idx="3"/>
            <a:endCxn id="281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990720" y="2286000"/>
            <a:ext cx="4190760" cy="243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028840"/>
            <a:ext cx="5867280" cy="916920"/>
          </a:xfrm>
          <a:prstGeom prst="borderCallout1">
            <a:avLst>
              <a:gd name="adj1" fmla="val 18750"/>
              <a:gd name="adj2" fmla="val -8333"/>
              <a:gd name="adj3" fmla="val -74212"/>
              <a:gd name="adj4" fmla="val -245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análisis de requerimientos y el diseño se realiza mediante una técnica especial: La construcción de proto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Prototipo es una simulación del sistem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vida de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os altern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os de cad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racterístic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de la participación activa del usuario, al revisar cada prot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de una herramienta de desarrollo que permita construir prototipos rápi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gran ventaja es que el usuario está estrechamente ligado al desarrollo, construyéndose un sistema que realmente le es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 la “tentación” de usar el prototipo como la solución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 tenerse cuidado en este caso, puede ser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el prototipo normalmente se pasan por alto muchas consideraciones que deben ser agregadas posterio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prototipo, al ser iterativo, puede ir incorporando situaciones para su rápido desarrollo, no para ser solu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y similar al de casc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incorpora desde el principio personas con capacidad para desarrollar el prot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ción directa de los usuarios en el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mos el modelo de 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ye no sólo la definición de las etapas, sino todas las funciones del desarrol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de variables cr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os de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ila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chas provisionales (por etap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iedad definida y respons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ción basada en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por 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5366520"/>
            <a:ext cx="2438280" cy="642600"/>
          </a:xfrm>
          <a:prstGeom prst="borderCallout1">
            <a:avLst>
              <a:gd name="adj1" fmla="val 18750"/>
              <a:gd name="adj2" fmla="val -8333"/>
              <a:gd name="adj3" fmla="val -311810"/>
              <a:gd name="adj4" fmla="val 18436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ción del objetivo y alcance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5073120"/>
            <a:ext cx="2819160" cy="1191240"/>
          </a:xfrm>
          <a:prstGeom prst="borderCallout1">
            <a:avLst>
              <a:gd name="adj1" fmla="val 18750"/>
              <a:gd name="adj2" fmla="val -8333"/>
              <a:gd name="adj3" fmla="val -1115"/>
              <a:gd name="adj4" fmla="val 14362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alle suficiente para la 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visan los compromisos, recursos y tiem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15000" y="4805280"/>
            <a:ext cx="3200400" cy="1465560"/>
          </a:xfrm>
          <a:prstGeom prst="borderCallout1">
            <a:avLst>
              <a:gd name="adj1" fmla="val 18750"/>
              <a:gd name="adj2" fmla="val -8333"/>
              <a:gd name="adj3" fmla="val -93046"/>
              <a:gd name="adj4" fmla="val -8570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o el código está 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 que no está hecho es para una siguiente 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hace un análisis del sistema y de las fases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4808160"/>
            <a:ext cx="3200400" cy="1465560"/>
          </a:xfrm>
          <a:prstGeom prst="borderCallout1">
            <a:avLst>
              <a:gd name="adj1" fmla="val 18750"/>
              <a:gd name="adj2" fmla="val -8333"/>
              <a:gd name="adj3" fmla="val -232560"/>
              <a:gd name="adj4" fmla="val -3536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finaliza el código junto a las 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este momento se pasa el control del sistema al grupo de operaciones y so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gramación basada en riesg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de prototipos para explorar y reducir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oridades basadas en riesgos téc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o incluye un acuerdo con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fechas parciales anteriores no “congelan” el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pués de ellas, los cambios son contro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quipo de desarrollo busca proactivamente y desde el principio los puntos de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nzamientos escalonados del cód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cepto de Ciclo de Vid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las etapas por las que pasa un proyecto desde su concepción hasta su cier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á íntimamente ligado al concepto de Metodología, aunque no es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ambia de proyecto a proyecto, aunque puede adaptarse a las diferencias naturales de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anzamiento por version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versiones existen no sólo para producto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bién para desarrollos in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W es visto como un proceso de mejora continua y no como un sistema est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las funcionalidades no incluidas en una versión se dejen para la(s) siguiente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2" idx="0"/>
            <a:endCxn id="437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stCxn id="437" idx="3"/>
            <a:endCxn id="441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"/>
          <p:cNvCxnSpPr>
            <a:stCxn id="442" idx="2"/>
            <a:endCxn id="440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39" idx="3"/>
            <a:endCxn id="441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2" idx="3"/>
            <a:endCxn id="438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8" idx="3"/>
            <a:endCxn id="441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9" name=""/>
          <p:cNvCxnSpPr>
            <a:stCxn id="440" idx="3"/>
            <a:endCxn id="439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stCxn id="438" idx="2"/>
            <a:endCxn id="440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1" name=""/>
          <p:cNvCxnSpPr>
            <a:stCxn id="438" idx="2"/>
            <a:endCxn id="439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0"/>
            <a:endCxn id="453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3" idx="3"/>
            <a:endCxn id="457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56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55" idx="3"/>
            <a:endCxn id="457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3" name=""/>
          <p:cNvCxnSpPr>
            <a:stCxn id="458" idx="3"/>
            <a:endCxn id="454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4" name=""/>
          <p:cNvCxnSpPr>
            <a:stCxn id="454" idx="3"/>
            <a:endCxn id="457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56" idx="3"/>
            <a:endCxn id="455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54" idx="2"/>
            <a:endCxn id="456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7" name=""/>
          <p:cNvCxnSpPr>
            <a:stCxn id="454" idx="2"/>
            <a:endCxn id="455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8" name=""/>
          <p:cNvSpPr/>
          <p:nvPr/>
        </p:nvSpPr>
        <p:spPr>
          <a:xfrm>
            <a:off x="3973680" y="5092560"/>
            <a:ext cx="4724280" cy="1465560"/>
          </a:xfrm>
          <a:prstGeom prst="borderCallout1">
            <a:avLst>
              <a:gd name="adj1" fmla="val 18750"/>
              <a:gd name="adj2" fmla="val -8333"/>
              <a:gd name="adj3" fmla="val -102773"/>
              <a:gd name="adj4" fmla="val -4492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tivo d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do de visión (expectativas y presun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ursos y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ociación con otros equ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0"/>
            <a:endCxn id="470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0" idx="3"/>
            <a:endCxn id="474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5" idx="2"/>
            <a:endCxn id="473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2" idx="3"/>
            <a:endCxn id="474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0" name=""/>
          <p:cNvCxnSpPr>
            <a:stCxn id="475" idx="3"/>
            <a:endCxn id="471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1" idx="3"/>
            <a:endCxn id="474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2" name=""/>
          <p:cNvCxnSpPr>
            <a:stCxn id="473" idx="3"/>
            <a:endCxn id="472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71" idx="2"/>
            <a:endCxn id="473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4" name=""/>
          <p:cNvCxnSpPr>
            <a:stCxn id="471" idx="2"/>
            <a:endCxn id="472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5334120" y="5265360"/>
            <a:ext cx="3363840" cy="1191240"/>
          </a:xfrm>
          <a:prstGeom prst="borderCallout1">
            <a:avLst>
              <a:gd name="adj1" fmla="val 18750"/>
              <a:gd name="adj2" fmla="val -8333"/>
              <a:gd name="adj3" fmla="val -128787"/>
              <a:gd name="adj4" fmla="val -5134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i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ción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unicación con otras áreas de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0"/>
            <a:endCxn id="487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7" idx="3"/>
            <a:endCxn id="491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92" idx="2"/>
            <a:endCxn id="490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89" idx="3"/>
            <a:endCxn id="491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92" idx="3"/>
            <a:endCxn id="488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88" idx="3"/>
            <a:endCxn id="491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90" idx="3"/>
            <a:endCxn id="489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88" idx="2"/>
            <a:endCxn id="490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88" idx="2"/>
            <a:endCxn id="489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553080" y="4271400"/>
            <a:ext cx="2297160" cy="916920"/>
          </a:xfrm>
          <a:prstGeom prst="borderCallout1">
            <a:avLst>
              <a:gd name="adj1" fmla="val 18750"/>
              <a:gd name="adj2" fmla="val -8333"/>
              <a:gd name="adj3" fmla="val -233513"/>
              <a:gd name="adj4" fmla="val -10393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ot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de ver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509" idx="0"/>
            <a:endCxn id="504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3"/>
            <a:endCxn id="508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509" idx="2"/>
            <a:endCxn id="507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stCxn id="506" idx="3"/>
            <a:endCxn id="508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09" idx="3"/>
            <a:endCxn id="505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505" idx="3"/>
            <a:endCxn id="508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507" idx="3"/>
            <a:endCxn id="506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05" idx="2"/>
            <a:endCxn id="507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05" idx="2"/>
            <a:endCxn id="506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9" name=""/>
          <p:cNvSpPr/>
          <p:nvPr/>
        </p:nvSpPr>
        <p:spPr>
          <a:xfrm>
            <a:off x="1360440" y="5185800"/>
            <a:ext cx="2297160" cy="916920"/>
          </a:xfrm>
          <a:prstGeom prst="borderCallout1">
            <a:avLst>
              <a:gd name="adj1" fmla="val 18750"/>
              <a:gd name="adj2" fmla="val -8333"/>
              <a:gd name="adj3" fmla="val -182611"/>
              <a:gd name="adj4" fmla="val 227638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 de depuración del có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26" idx="0"/>
            <a:endCxn id="521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21" idx="3"/>
            <a:endCxn id="525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9" name=""/>
          <p:cNvCxnSpPr>
            <a:stCxn id="526" idx="2"/>
            <a:endCxn id="524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0" name=""/>
          <p:cNvCxnSpPr>
            <a:stCxn id="523" idx="3"/>
            <a:endCxn id="525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stCxn id="526" idx="3"/>
            <a:endCxn id="522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2" idx="3"/>
            <a:endCxn id="525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4" idx="3"/>
            <a:endCxn id="523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2" idx="2"/>
            <a:endCxn id="524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2" idx="2"/>
            <a:endCxn id="523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6" name=""/>
          <p:cNvSpPr/>
          <p:nvPr/>
        </p:nvSpPr>
        <p:spPr>
          <a:xfrm>
            <a:off x="5486400" y="1680840"/>
            <a:ext cx="3124080" cy="1191240"/>
          </a:xfrm>
          <a:prstGeom prst="borderCallout1">
            <a:avLst>
              <a:gd name="adj1" fmla="val 18750"/>
              <a:gd name="adj2" fmla="val -8333"/>
              <a:gd name="adj3" fmla="val 248245"/>
              <a:gd name="adj4" fmla="val -747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ación y material didá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sor del usuario en el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43" idx="0"/>
            <a:endCxn id="538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8" idx="3"/>
            <a:endCxn id="542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3" idx="2"/>
            <a:endCxn id="541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3" idx="3"/>
            <a:endCxn id="539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3"/>
            <a:endCxn id="542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0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39" idx="2"/>
            <a:endCxn id="541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539" idx="2"/>
            <a:endCxn id="540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3" name=""/>
          <p:cNvSpPr/>
          <p:nvPr/>
        </p:nvSpPr>
        <p:spPr>
          <a:xfrm>
            <a:off x="304920" y="1604520"/>
            <a:ext cx="3124080" cy="916920"/>
          </a:xfrm>
          <a:prstGeom prst="borderCallout1">
            <a:avLst>
              <a:gd name="adj1" fmla="val 18750"/>
              <a:gd name="adj2" fmla="val -8333"/>
              <a:gd name="adj3" fmla="val 332101"/>
              <a:gd name="adj4" fmla="val 161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spaso del sistema a 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lación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equipo mínim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52680" y="3268800"/>
            <a:ext cx="281952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2880" y="5629320"/>
            <a:ext cx="198144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5629320"/>
            <a:ext cx="19810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3724200"/>
            <a:ext cx="22096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2994120"/>
            <a:ext cx="259092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0" idx="0"/>
            <a:endCxn id="555" idx="1"/>
          </p:cNvCxnSpPr>
          <p:nvPr/>
        </p:nvCxnSpPr>
        <p:spPr>
          <a:xfrm flipH="1" flipV="1" rot="5400000">
            <a:off x="1937160" y="1578240"/>
            <a:ext cx="1002600" cy="1829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5" idx="3"/>
            <a:endCxn id="559" idx="0"/>
          </p:cNvCxnSpPr>
          <p:nvPr/>
        </p:nvCxnSpPr>
        <p:spPr>
          <a:xfrm>
            <a:off x="5562360" y="1991880"/>
            <a:ext cx="2019960" cy="1732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60" idx="2"/>
            <a:endCxn id="558" idx="1"/>
          </p:cNvCxnSpPr>
          <p:nvPr/>
        </p:nvCxnSpPr>
        <p:spPr>
          <a:xfrm flipH="1" rot="16200000">
            <a:off x="1319760" y="5124600"/>
            <a:ext cx="94212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57" idx="3"/>
            <a:endCxn id="559" idx="2"/>
          </p:cNvCxnSpPr>
          <p:nvPr/>
        </p:nvCxnSpPr>
        <p:spPr>
          <a:xfrm flipV="1">
            <a:off x="6933960" y="4190400"/>
            <a:ext cx="648360" cy="1672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60" idx="3"/>
            <a:endCxn id="556" idx="1"/>
          </p:cNvCxnSpPr>
          <p:nvPr/>
        </p:nvCxnSpPr>
        <p:spPr>
          <a:xfrm>
            <a:off x="2819160" y="3957120"/>
            <a:ext cx="533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6" idx="3"/>
            <a:endCxn id="559" idx="1"/>
          </p:cNvCxnSpPr>
          <p:nvPr/>
        </p:nvCxnSpPr>
        <p:spPr>
          <a:xfrm flipV="1">
            <a:off x="6171840" y="3956760"/>
            <a:ext cx="305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58" idx="3"/>
            <a:endCxn id="557" idx="1"/>
          </p:cNvCxnSpPr>
          <p:nvPr/>
        </p:nvCxnSpPr>
        <p:spPr>
          <a:xfrm>
            <a:off x="4038480" y="586224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56" idx="2"/>
            <a:endCxn id="558" idx="0"/>
          </p:cNvCxnSpPr>
          <p:nvPr/>
        </p:nvCxnSpPr>
        <p:spPr>
          <a:xfrm flipH="1">
            <a:off x="3047760" y="4647960"/>
            <a:ext cx="171504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56" idx="2"/>
            <a:endCxn id="557" idx="0"/>
          </p:cNvCxnSpPr>
          <p:nvPr/>
        </p:nvCxnSpPr>
        <p:spPr>
          <a:xfrm>
            <a:off x="4762080" y="4647960"/>
            <a:ext cx="11818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echas parciales y equip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zamiento d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Vida v/s Metodologí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iclo de vida es más general, describe la forma en que se enfrentan los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es una guía para resolver los problemas, basado en las directrices del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incluye ayudas directas al desarroll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illas y otros formatos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para realizar estim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muchas empresas estos conceptos se funden en uno só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 porque manejan una sola metodología y no tiene sentido hacer grandes definiciones y 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aración de model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y sólido en su 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til para soluciones ya maduras, como Administ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útil para soluciones con mucha posibilidad de variación (aplicaciones nue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til cuando los requerimientos no son claros o no pueden articularse clar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ne el peligro de quedarse siempre en prototipos iterativos, sin converger a un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i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ite ver el desarrollo como fases o entregas sucesivas, lo que hace que no se tenga un desarrollo muy grande al 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 tenerse claro el problema global para que las primeras fases ya consideren las complejidades que se agregan al incorporar nuevas funcion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s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SO 9000 y C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écnicas para asegurar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z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ceptos de calidad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ductos masiv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ducto es de calidad cuando cumple sistemáticamente los estándares defi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jemplo tolerancia de dimensiones, ingredientes, ambiente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 embargo, la calidad así definida no garantiza que satisface las necesidades del compr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n definiciones tales como “deleitar al usuario” o “sorprender al usuari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dad se define entonces como la capacidad de satisfacer una necesidad en forma consistente y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anterior es válido para productos que se producen en forma masiva y se pueden analizar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, ¿qué pasa con los proyectos, que se desarrollan una vez y nunca má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sto de los err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914400" y="175212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571500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8600" y="1295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96080" y="5562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90720" y="2286000"/>
            <a:ext cx="6476760" cy="3352680"/>
          </a:xfrm>
          <a:custGeom>
            <a:avLst/>
            <a:gdLst/>
            <a:ahLst/>
            <a:rect l="l" t="t" r="r" b="b"/>
            <a:pathLst>
              <a:path w="4080" h="2112">
                <a:moveTo>
                  <a:pt x="0" y="2112"/>
                </a:moveTo>
                <a:cubicBezTo>
                  <a:pt x="1172" y="1976"/>
                  <a:pt x="2344" y="1840"/>
                  <a:pt x="3024" y="1488"/>
                </a:cubicBezTo>
                <a:cubicBezTo>
                  <a:pt x="3704" y="1136"/>
                  <a:pt x="3892" y="568"/>
                  <a:pt x="40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lidad en los proyectos (de cualquier índole, no sólo TIC) se logra “haciéndolo bi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esto es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ner ciclo de vida y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ándares de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general, la calidad de proyectos se explícit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ificar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r las estim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cer lo que se d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r lo que hi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scar proactivamente los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alizar los aciertos y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rregir los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SO 9000 y CM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 9000 es un estándar general, no sólo para TIC (de hecho está diseñado primeramente para manufactu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M es solamente para el desarrollo de SW (no para otras T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SO 9000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estándar “todo o nada”; es decir, se cumple o no se cu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ampliamente reconocido y acep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ne una versión específica para S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e en su defin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s extremadamente ex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M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modelo de madurez, no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cir, mide cuán bien lo hace la empresa en diversas dimen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mpulsado por el D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 5 nive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nivel 2 es comparable a ISO 9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niveles superiores son muy exi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ha revisado y está vigente la versión 2 del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Otros modelos de ca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nc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etodología v/s Plan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es única, no depende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lan de Proyecto es la forma en que la metodología se concreta en un proyecto espec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iempos y responsabilidades específicos por actividad (la metodología puede tenerlas en forma más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 las actividades que se realiz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eliminar actividades de la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agregar actividades a la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e explícito el equip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 los riesgos del proyecto, así como cualquier otra variable rele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Prince2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un estándar para desarroll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ció en Inglaterra para S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oy se utilizar en general para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estión del riesgo (M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lidad en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dministración de la config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ol de cam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 un gran control sobre el desarrollo del proyecto, gestionando tiempo, costo y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ITIL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ientado a todo la Gerencia de Tecnología, no sólo al desarrollo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tiene un foco en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o si ve al área como un servicio hacia el resto de la organización que evoluciona constant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grupa las “mejores prácticas” en libre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Strate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Des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Tran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inual Service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tante experiencia a nivel 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22gr-the-core-framework_2142_w2" descr="The Core Framework"/>
          <p:cNvPicPr/>
          <p:nvPr/>
        </p:nvPicPr>
        <p:blipFill>
          <a:blip r:embed="rId1"/>
          <a:stretch/>
        </p:blipFill>
        <p:spPr>
          <a:xfrm>
            <a:off x="6095880" y="17524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CobiT 4.1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sca la “gobernabilidad” del área de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oder predecir y controlar los recursos requeridos para generar los resultados espe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ineación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 un Framework orientado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T Alineado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T facilita (permite) el negocio y maximiza sus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ecursos de IT son usados responsable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iesgos de IT son administ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nco áreas princip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ineamiento 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tregando / generando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dministración de los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estión del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ediciones de pro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luye modelos de madurez para comparaciones y para definir los puntos que deben ser mejo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553080" y="1219320"/>
            <a:ext cx="2590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lgunas técnicas de ca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ón constante del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ción d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los errores y sus cau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todos los aspectos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etodologías y gu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Trazabi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fiere a que en cada etapa del desarrollo, las decisiones o definiciones se pueden asociar a un requerimiento 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cir, es posible “trazar” cómo un requerimiento se va resolviendo en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s los requerimientos deben estar en cada eta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además, “cada palabra escrita” está asociada a un requerimiento (o m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go no está asociado a un requerimiento es dud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Trazabi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requerimiento debe tener un identificador (número ún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mente, en cada punto del diseño, construcción, plan de pruebas, etc. se hace referencia a estos identific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 traza se superpone a otra que normalmente se coloca para asociar una etapa con la sigu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arrollo continu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ecesidad de desarrollo continu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requerimientos están constantemente cambi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usuarios siempre quieren algo nu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ios leg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 en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 en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antención y nuevas version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sistemas se le debe hacer mantención 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emente mejorar alguna co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controlar las 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una política de distribución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jo con la docu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muchas veces los cambios son may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n una nueva 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 reemplazar o complementar el sistem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conveniente analizar las mejoras a los procesos de la empresa que pueden implementarse (al igual que en cualquier desarrol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¿Quién mantiene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equipo especi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á especi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ere una transferencia de conocimientos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pio equipo de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conoce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istrae de su nuevo desarrollo de otr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es lo que sucede en la pr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3" idx="3"/>
            <a:endCxn id="94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4" idx="3"/>
            <a:endCxn id="95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3"/>
            <a:endCxn id="96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6" idx="3"/>
            <a:endCxn id="97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8" idx="3"/>
            <a:endCxn id="99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3"/>
            <a:endCxn id="98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99" idx="3"/>
            <a:endCxn id="106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desarrollo de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dad en proyecto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9" idx="3"/>
            <a:endCxn id="110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0" idx="3"/>
            <a:endCxn id="111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3"/>
            <a:endCxn id="112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2" idx="3"/>
            <a:endCxn id="113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3"/>
            <a:endCxn id="115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3" idx="3"/>
            <a:endCxn id="114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2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990720" y="4701960"/>
            <a:ext cx="2514600" cy="1465560"/>
          </a:xfrm>
          <a:prstGeom prst="borderCallout1">
            <a:avLst>
              <a:gd name="adj1" fmla="val 18750"/>
              <a:gd name="adj2" fmla="val -8333"/>
              <a:gd name="adj3" fmla="val -173523"/>
              <a:gd name="adj4" fmla="val -237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conoce que existe un problema y que las TIC pueden ayu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evalúa positivamente el desarrollar 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6" idx="3"/>
            <a:endCxn id="127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3"/>
            <a:endCxn id="128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8" idx="3"/>
            <a:endCxn id="129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9" idx="3"/>
            <a:endCxn id="130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3"/>
            <a:endCxn id="132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0" idx="3"/>
            <a:endCxn id="131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2" idx="3"/>
            <a:endCxn id="139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2362320" y="4272120"/>
            <a:ext cx="3276360" cy="2288520"/>
          </a:xfrm>
          <a:prstGeom prst="borderCallout1">
            <a:avLst>
              <a:gd name="adj1" fmla="val 18750"/>
              <a:gd name="adj2" fmla="val -8333"/>
              <a:gd name="adj3" fmla="val -60124"/>
              <a:gd name="adj4" fmla="val -929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identifican detalladamente todos los requerimientos (necesidades) de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priorizan y clasif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ún no se piensa en su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 etapa es clave, ya que describe claramente el problema a soluci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3" idx="3"/>
            <a:endCxn id="144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4" idx="3"/>
            <a:endCxn id="145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5" idx="3"/>
            <a:endCxn id="146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6" idx="3"/>
            <a:endCxn id="147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3"/>
            <a:endCxn id="149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7" idx="3"/>
            <a:endCxn id="148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6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971800" y="4638600"/>
            <a:ext cx="3276720" cy="2014200"/>
          </a:xfrm>
          <a:prstGeom prst="borderCallout1">
            <a:avLst>
              <a:gd name="adj1" fmla="val 18750"/>
              <a:gd name="adj2" fmla="val -8333"/>
              <a:gd name="adj3" fmla="val -52300"/>
              <a:gd name="adj4" fmla="val -1196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analizan diferentes alternativas para solucionar el problema (satisfacer los requerimien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elige la solución defin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equivalente a la Ingeniería Bá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8-06T18:11:20Z</dcterms:modified>
  <cp:revision>36</cp:revision>
  <dc:subject/>
  <dc:title>Diseño de Sistemas basados en Tecnologías de la Información y Comunicaciones</dc:title>
</cp:coreProperties>
</file>