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54405E4B-B50E-4A3E-A0DA-5ED27BDCA1C3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troduc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TIC y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Estratégico Infor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a de sistemas o desarrollo pro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lan Estratég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documento que describe la forma en que se lograrán los objetivos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iná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mpar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afi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fac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med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idera etapa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 del Plan Estratég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ón, Misión, Posi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s a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álisis F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álisis del mercado y compet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ategia general de cada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es / proyectos concr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ntt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cha por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nálisis FOD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ale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án en mejor situación que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ort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no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n ayudar a la empresa a lograr su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án en peor situación que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a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no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n dificultar a la empresa a lograr su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mplo: Análisis FODA Universidad de Chi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tale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ort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ena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nálisis de mercado y compet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isten varias técnicas (complement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 Fuerzas de Po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lementadores y compet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5 fuerzas de Porte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447920"/>
            <a:ext cx="1905120" cy="1008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oder de negociación de los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029200"/>
            <a:ext cx="1905120" cy="1008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oder de negociación de los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327480"/>
            <a:ext cx="190512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mpetidores 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327480"/>
            <a:ext cx="19047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menazas de 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124080"/>
            <a:ext cx="190512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mpetidore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1905120"/>
            <a:ext cx="190512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4114800"/>
            <a:ext cx="2057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562720" y="4114440"/>
            <a:ext cx="1828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828800"/>
            <a:ext cx="1905120" cy="144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5146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267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3657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447920"/>
            <a:ext cx="175248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13587"/>
              <a:gd name="adj5" fmla="val 254999"/>
              <a:gd name="adj6" fmla="val 123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menaza de nuevos competi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Barreras de 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4648320"/>
            <a:ext cx="175248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52175"/>
              <a:gd name="adj5" fmla="val 153750"/>
              <a:gd name="adj6" fmla="val -101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oder de nego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2209680"/>
            <a:ext cx="1752480" cy="38124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15578"/>
              <a:gd name="adj5" fmla="val 355833"/>
              <a:gd name="adj6" fmla="val -271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menazas de sustit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371600"/>
            <a:ext cx="175248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50814"/>
              <a:gd name="adj5" fmla="val 142916"/>
              <a:gd name="adj6" fmla="val -98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oder de nego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562720"/>
            <a:ext cx="1600200" cy="525240"/>
          </a:xfrm>
          <a:prstGeom prst="borderCallout2">
            <a:avLst>
              <a:gd name="adj1" fmla="val 18750"/>
              <a:gd name="adj2" fmla="val -8333"/>
              <a:gd name="adj3" fmla="val 21750"/>
              <a:gd name="adj4" fmla="val 159722"/>
              <a:gd name="adj5" fmla="val -354379"/>
              <a:gd name="adj6" fmla="val 216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Riva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Barreas de 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5 fuerzas de Porter</a:t>
            </a:r>
            <a:br>
              <a:rPr sz="4000"/>
            </a:b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etidores pot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etidores ac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Complementadores y compet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men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lquier empresa que puede ayudar a lograr l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s y proveedores en la cadena de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i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ociaciones grem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s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stitutos de normas y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lquier empresa que dificulta el logro de l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stitutos de normas y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Complementadores y competidores</a:t>
            </a:r>
            <a:br>
              <a:rPr sz="4000"/>
            </a:b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lemen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icha de cada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ta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sitos para desarroll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cha de inicio y térm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eedores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 responsable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ón / costos nece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bajo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bio cultural o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ng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ang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lación entre TIC y estrategia de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mportant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lan Estratégico es una guía para el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presenta el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sencialmente diná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incorporar la flexibilidad neces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be “amarrar” a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TIC y 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IC soportan la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n el logro de los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n permitir la flexibilidad para cambiar la estrate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mplo de relación TIC - 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ciones de casas comerciales y super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untos” en las casas comerciales y supermercad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ias empresas (Jumbo, Falabella, Ripley, Líder) ofrecen puntos por sus comp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n diferentes formatos para cobrar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empresas no ofrecen puntos en sus tarj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otivos para no tener pun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e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estructura tecn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muy caro / lento imitar est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una base de datos para capturar y administrar los puntos por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odificar los canales al cliente para informarle sus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un inventario separado (y detallado por tienda) para los 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ceso de “venta” y “post venta” del prem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uego...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trategia de la empresa está limitada por las decisiones anteriores en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cisión de implementar una determinada TIC debe dar a la empresa flexibilidad futura en su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ia del Plan Estratégico Infor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ido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 de elaborar 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trategia de la empresa se traduce en una serie de decisiones en las diversas áreas fun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estas decisiones están coordinadas y apuntan a lograr la Visión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ol de las TIC en la 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IC deben soportar a l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ar el ejemplo de los puntos en las casa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decisiones de TIC amplían o limitan las decisiones estratégicas de las empr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decisiones de TIC deben permitir la flexibilidad para realizar modificaciones (no esperadas) a la estrate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Estratégico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ido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 de elaborar el Plan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Estrategia y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 plan es la forma de implementar la estrategia de la empresa en la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ía las decisiones en esta área, identificando los objetivos para las TIC, así como las principales directrices para la toma de deci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 los aspectos de tecnología, personal, organización y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sólo la tecnología, también la forma en que se implementa, mantiene y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plan a 2 – 5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ser revisado an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generar implicancias para otras áreas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una decisión única del Departamento de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ser acordado con el resto de las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ser coordinado con otros planes fun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reve resumen de la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tuación actual de las TIC en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tuación deseada de las TIC al final del período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rectrices estratégicas para el desarrollo de la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cha de proyectos a desarrol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ción entr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canismos de control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tuación actual de las TIC en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 arquite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ric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evos desarro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ción y 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tuación actual de las TIC en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con otras á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los clientes y su opinión es muy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F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tuación deseada al final del perío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quitectura de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, modelos y capa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quitectura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(s) operativo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es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ramientas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quitectura de 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d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exiones 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unicaciones de 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irectrices princip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es sistemas a uti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control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 de comunicar estos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os de producción, desarrollo,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imiento de paso 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os de mantención de hardware y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aforma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aldo y conting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Ficha de proyectos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de el punto de vista de las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de el punto de vista de las áreas usu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ción estim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todas las fases, desde su generación hasta la puesta en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Ficha de proyectos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i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ex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, softwar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ante el desarrollo, puesta en producción y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del Departamento de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rsos infor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ternos de otros Depart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ros recursos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o de la puesta en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ministración del cambio en el 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s en paralelo (por ejemp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strategia de un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objetivo que pretende lograr, así como las actividades que pretende desarrollar para lograr ese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objetivo se plantea en la forma de Visión y 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actividades se describen el Plan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Ficha de proyectos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neficios esp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tificables y no cuantifi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l Departamento de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otros Depart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proyectos que se deben realizar en forma previa o paral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s de soluciones / proveedores ident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luso puede contener información específica de sus 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lación entre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ntt de los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dentificación de prerequi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yectos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ecanismos de control del Pla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jo de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do por personal de TIC y de áreas usu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ueban el plan y sus mod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can su cumpl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n el Plan Informático con el de otras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revisarse al menos una vez al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onjunto con el Plan Estratégico y las decisiones de cada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orma de elaborar el Pla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tir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documentación de lo actualmente instalado y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lan Estratégico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tener una clara visión de la situación final des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r las directrices básicas para las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los Gap (brechas) entre la situación deseada y l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la forma (proyectos) que se requiere para lograr el estado final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a información relevante de cada 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ganizar lo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mpletamente 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tener su aprobación y apoy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ra de sistemas o desarrollo propi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a de desarrollo pro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dores y segu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actualidad existen soluciones (SW) estándares para la mayoría de las necesidades de cualquier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compran a proveedores especial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instalan con ayuda de estos mismos (u otros) prove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adminitrativos: SAP; PeopleSoft; Fin 700; Solomon; Oracle Financ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lación con clientes: Siebel; People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 de Universidades: SCT; Data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de control automá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de comun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de control de redes eléctr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para solucionar problemas matemá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 - Fortalez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corporar las “best practices” de la 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claros y bien defi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nores discusiones en el proceso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¡No se requiere “reinventar la rueda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tivamente bajo costo y tiempo de impl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pueden estimar me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án probadas y document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minuye el costo de propiedad de las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 - Debilidad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endiendo del nivel de sofisticación, puede no dar espacio a adaptaciones en cad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imina parte de la flexibilidad de desarrollos ad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de ser muy relevante si las mismas herramientas son usadas por 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rmalmente requieren de consultoría externa para implementa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dría ser necesario entregar información confidencial de la estrategia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general son soluciones extranjeras que debe ser adaptadas a la realidad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Visión de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sueño compartido que tien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unas empresas tiene Visión relacionada con la compet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 líderes en nuestr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rotar a nuestro principal compet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ras visiones pretenden “transformar el mundo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cada hogar tenga un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r l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ar una nuev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 - Alternativ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alternativa es el desarrollo ad hoc de una sol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fortalezas y debilidades son las opuestas a las solucione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justifican s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soluciones estándar aún es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xiste una solución estándar (o no tiene respaldo loc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lmente se requiere una flexibilidad no provista por ninguna solución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novadores y segu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n y/o adaptan tempranamente tecnologías nue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n entregar ofertas novedosas a sus clientes (también y a proveedores y otros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 una ventaj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n y/o adaptan solamente tecnologías ma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ores costos de 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ores costos de 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tecnología sobre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nova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n, normalmente, diferentes herramientas integ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ficultan los upgrades y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quieren de más personal para las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siempre la tecnología está madura o sobrev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gasta en proyectos que pueden resultar un frac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el mercado ha estado premiando a los innov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General Electric; Nokia; Wal-Mart; Falab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ofertas a los clientes (proveedores y socios) son menos innovad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n, normalmente, pocas herramientas bien integ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ilitan los upgrades y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quieren de menor personal para las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a estrategia útil en industrias con baja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Distribución de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troduc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TIC y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Estratégico Infor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a de sistemas o desarrollo pro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isión de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el ámbito en que se desarrolla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acterística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mplo: Fabrica de reloj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remos convertirnos en un aliado de cada persona en el uso de su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bricar y vender en Estados Unidos y el mundo, relojes pulsera que sean de amplia aceptación, innovadores, elegantes y a precios accesibles, para personas que valoran su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la Visión y Misión se desprende la estrategia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 Compet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Estraté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Otra forma de establecer la Visión y Mis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dentificar los principales grupos relacionados con la empre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cios /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mpl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amiliares de los empl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unidad (es) relacio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cada uno de estos grupos, se fijan objetivos con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bjetivos generales y por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iterios éticos b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rma de enfrentar la competencia /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7-25T15:41:57Z</dcterms:modified>
  <cp:revision>22</cp:revision>
  <dc:subject/>
  <dc:title>Diseño de Sistemas basados en Tecnologías de la Información y Comunicaciones</dc:title>
</cp:coreProperties>
</file>