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705720" y="6248520"/>
            <a:ext cx="2438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Diseño de Sistemas basado en 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Logo%20U" descr=""/>
          <p:cNvPicPr/>
          <p:nvPr/>
        </p:nvPicPr>
        <p:blipFill>
          <a:blip r:embed="rId2"/>
          <a:stretch/>
        </p:blipFill>
        <p:spPr>
          <a:xfrm>
            <a:off x="0" y="0"/>
            <a:ext cx="1676520" cy="1117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228600" y="632448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Página N° </a:t>
            </a:r>
            <a:fld id="{73FB0D87-C5CF-4400-9D9E-D0F7E5F9E454}" type="slidenum"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14600" y="6397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Diseño de Sistemas basado en 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Logo%20U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1879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Introduc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838080" y="38862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ción entre TIC y estrategia de la empre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 Estratégico Informát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ra de sistemas o desarrollo prop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Plan Estratégic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 un documento que describe la forma en que se lograrán los objetivos de la empre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dinám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compart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desafi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fact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med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sidera etapas y me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ontenido del Plan Estratégic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sión, Misión, Posicion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tuación act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ados anteri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álisis FO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álisis del mercado y competi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rategia general de cada á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idades / proyectos concr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ntt de proye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cha por proye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Análisis FOD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talez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 que la empresa puede contr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án en mejor situación que la compe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ortun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 que la empresa no puede contr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eden ayudar a la empresa a lograr sus 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bil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 que la empresa puede contr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án en peor situación que la compe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enaz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 que la empresa no puede contr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eden dificultar a la empresa a lograr sus 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jemplo: Análisis FODA Universidad de Chile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ortalez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portun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bil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menaz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Análisis de mercado y competidor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xisten varias técnicas (complementab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5 Fuerzas de Por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mplementadores y competi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t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99"/>
                </a:solidFill>
                <a:latin typeface="Times New Roman"/>
              </a:rPr>
              <a:t>5 fuerzas de Porter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81280" y="1447920"/>
            <a:ext cx="1905120" cy="100872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Poder de negociación de los provee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81280" y="5029200"/>
            <a:ext cx="1905120" cy="100872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Poder de negociación de los cli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3327480"/>
            <a:ext cx="1905120" cy="703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Competidores poten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77120" y="3327480"/>
            <a:ext cx="1904760" cy="703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Amenazas de sustit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81280" y="3124080"/>
            <a:ext cx="1905120" cy="703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Competidores actu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600200" y="1905120"/>
            <a:ext cx="1905120" cy="13716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3880" y="4114800"/>
            <a:ext cx="2057400" cy="15238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562720" y="4114440"/>
            <a:ext cx="1828800" cy="15238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1828800"/>
            <a:ext cx="1905120" cy="1447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5146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426708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365760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562720" y="365760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1447920"/>
            <a:ext cx="1752480" cy="761760"/>
          </a:xfrm>
          <a:prstGeom prst="borderCallout2">
            <a:avLst>
              <a:gd name="adj1" fmla="val 18750"/>
              <a:gd name="adj2" fmla="val -8333"/>
              <a:gd name="adj3" fmla="val 15000"/>
              <a:gd name="adj4" fmla="val 113587"/>
              <a:gd name="adj5" fmla="val 254999"/>
              <a:gd name="adj6" fmla="val 12318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2160" indent="-92160">
              <a:lnSpc>
                <a:spcPct val="90000"/>
              </a:lnSpc>
              <a:spcBef>
                <a:spcPts val="3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Amenaza de nuevos competid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90000"/>
              </a:lnSpc>
              <a:spcBef>
                <a:spcPts val="3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Barreras de entr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162920" y="4648320"/>
            <a:ext cx="1752480" cy="380880"/>
          </a:xfrm>
          <a:prstGeom prst="borderCallout2">
            <a:avLst>
              <a:gd name="adj1" fmla="val 18750"/>
              <a:gd name="adj2" fmla="val -8333"/>
              <a:gd name="adj3" fmla="val 30000"/>
              <a:gd name="adj4" fmla="val -52175"/>
              <a:gd name="adj5" fmla="val 153750"/>
              <a:gd name="adj6" fmla="val -1017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2160" indent="-92160">
              <a:lnSpc>
                <a:spcPct val="90000"/>
              </a:lnSpc>
              <a:spcBef>
                <a:spcPts val="3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Poder de negoci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162920" y="2209680"/>
            <a:ext cx="1752480" cy="381240"/>
          </a:xfrm>
          <a:prstGeom prst="borderCallout2">
            <a:avLst>
              <a:gd name="adj1" fmla="val 18750"/>
              <a:gd name="adj2" fmla="val -8333"/>
              <a:gd name="adj3" fmla="val 30000"/>
              <a:gd name="adj4" fmla="val -15578"/>
              <a:gd name="adj5" fmla="val 355833"/>
              <a:gd name="adj6" fmla="val -2717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2160" indent="-92160">
              <a:lnSpc>
                <a:spcPct val="90000"/>
              </a:lnSpc>
              <a:spcBef>
                <a:spcPts val="3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Amenazas de sustitu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1371600"/>
            <a:ext cx="1752480" cy="380880"/>
          </a:xfrm>
          <a:prstGeom prst="borderCallout2">
            <a:avLst>
              <a:gd name="adj1" fmla="val 18750"/>
              <a:gd name="adj2" fmla="val -8333"/>
              <a:gd name="adj3" fmla="val 30000"/>
              <a:gd name="adj4" fmla="val -50814"/>
              <a:gd name="adj5" fmla="val 142916"/>
              <a:gd name="adj6" fmla="val -987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2160" indent="-92160">
              <a:lnSpc>
                <a:spcPct val="90000"/>
              </a:lnSpc>
              <a:spcBef>
                <a:spcPts val="3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Poder de negoci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5562720"/>
            <a:ext cx="1600200" cy="525240"/>
          </a:xfrm>
          <a:prstGeom prst="borderCallout2">
            <a:avLst>
              <a:gd name="adj1" fmla="val 18750"/>
              <a:gd name="adj2" fmla="val -8333"/>
              <a:gd name="adj3" fmla="val 21750"/>
              <a:gd name="adj4" fmla="val 159722"/>
              <a:gd name="adj5" fmla="val -354379"/>
              <a:gd name="adj6" fmla="val 21666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2160" indent="-92160">
              <a:lnSpc>
                <a:spcPct val="90000"/>
              </a:lnSpc>
              <a:spcBef>
                <a:spcPts val="3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Rival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90000"/>
              </a:lnSpc>
              <a:spcBef>
                <a:spcPts val="3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Barreas de sal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99"/>
                </a:solidFill>
                <a:latin typeface="Times New Roman"/>
              </a:rPr>
              <a:t>5 fuerzas de Porter</a:t>
            </a:r>
            <a:br>
              <a:rPr sz="4000"/>
            </a:br>
            <a:r>
              <a:rPr b="0" lang="es-ES_tradnl" sz="4000" spc="-1" strike="noStrike">
                <a:solidFill>
                  <a:srgbClr val="000099"/>
                </a:solidFill>
                <a:latin typeface="Times New Roman"/>
              </a:rPr>
              <a:t>Universidad de Chile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mpetidores poten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sumi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stitu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vee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mpetidores actu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99"/>
                </a:solidFill>
                <a:latin typeface="Times New Roman"/>
              </a:rPr>
              <a:t>Complementadores y competidor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lement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ualquier empresa que puede ayudar a lograr los obje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lientes y proveedores en la cadena de va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lianz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sociaciones grem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s complement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stitutos de normas y estánd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Gobi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et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ualquier empresa que dificulta el logro de los obje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mpe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ustit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stitutos de normas y estánd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Gobi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99"/>
                </a:solidFill>
                <a:latin typeface="Times New Roman"/>
              </a:rPr>
              <a:t>Complementadores y competidores</a:t>
            </a:r>
            <a:br>
              <a:rPr sz="4000"/>
            </a:br>
            <a:r>
              <a:rPr b="0" lang="es-ES_tradnl" sz="4000" spc="-1" strike="noStrike">
                <a:solidFill>
                  <a:srgbClr val="000099"/>
                </a:solidFill>
                <a:latin typeface="Times New Roman"/>
              </a:rPr>
              <a:t>Universidad de Chile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mplement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mpeti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Ficha de cada proyect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cripción detall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sitos para desarrollar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cha de inicio y térm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eedores del proy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ter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Área responsable del proy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ersión / costos neces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bajo inte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mbio cultural o de proce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ngi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angi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Relación entre TIC y estrategia de la empres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Importante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Plan Estratégico es una guía para el futu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representa el futu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 esencialmente dinám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be incorporar la flexibilidad neces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debe “amarrar” a la emp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TIC y estrategi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 TIC soportan la estrategia de la empre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ilitan el logro de los 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ben permitir la flexibilidad para cambiar la estrate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jemplo de relación TIC - Estrategi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ociones de casas comerciales y supermerc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Puntos” en las casas comerciales y supermercado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arias empresas (Jumbo, Falabella, Ripley, Líder) ofrecen puntos por sus comp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ienen diferentes formatos para cobrar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tras empresas no ofrecen puntos en sus tarje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Motivos para no tener punto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siones comer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raestructura tecnológ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 muy caro / lento imitar esta tecnolo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requiere una base de datos para capturar y administrar los puntos por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requiere modificar los canales al cliente para informarle sus pu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requiere un inventario separado (y detallado por tienda) para los prem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ceso de “venta” y “post venta” del prem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Luego...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estrategia de la empresa está limitada por las decisiones anteriores en 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decisión de implementar una determinada TIC debe dar a la empresa flexibilidad futura en su estrateg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Plan Estratégico Informátic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ontenid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ortancia del Plan Estratégico Informát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nido del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a de elaborar el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estrategia de la empresa se traduce en una serie de decisiones en las diversas áreas funci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s estas decisiones están coordinadas y apuntan a lograr la Visión de la empre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Rol de las TIC en la estrategi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 TIC deben soportar a la estrateg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rdar el ejemplo de los puntos en las casa comer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 decisiones de TIC amplían o limitan las decisiones estratégicas de las empres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 decisiones de TIC deben permitir la flexibilidad para realizar modificaciones (no esperadas) a la estrate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ontenid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rategia de la empre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 Estratégico de la empre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nido del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a de elaborar el Plan Estratég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ción entre Estrategia y 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l Plan Estratégico Informátic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e plan es la forma de implementar la estrategia de la empresa en las 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ía las decisiones en esta área, identificando los objetivos para las TIC, así como las principales directrices para la toma de decis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l Plan Estratégico Informátic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a los aspectos de tecnología, personal, organización y proce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es sólo la tecnología, también la forma en que se implementa, mantiene y u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 un plan a 2 – 5 añ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be ser revisado anual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l Plan Estratégico Informátic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ede generar implicancias para otras áreas de la empre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es una decisión única del Departamento de 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be ser acordado con el resto de las ár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be ser coordinado con otros planes fun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ontenido de un Plan Estratégico Informátic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Breve resumen de la estrategia de la empre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tuación actual de las TIC en la empre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tuación deseada de las TIC al final del período del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irectrices estratégicas para el desarrollo de las 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icha de proyectos a desarrol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lación entre proye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ecanismos de control del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Situación actual de las TIC en la empres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pción de arquitec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unic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rices gene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evos desarro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so hum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t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ción y capac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Situación actual de las TIC en la empres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ción con otras á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n los clientes y su opinión es muy import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álisis FO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Situación deseada al final del períod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rquitectura de hard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s, modelos y capac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rquitectura de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stema(s) operativo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ases de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iddle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erramientas de 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rquitectura de comunic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d in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exiones a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unicaciones de 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irectrices principal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cipales sistemas a utiliz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control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ros específ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 de comunicar estos sist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pos de producción, desarrollo, prueb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imiento de paso a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sos de mantención de hardware y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taforma de desarro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gu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aldo y continge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99"/>
                </a:solidFill>
                <a:latin typeface="Times New Roman"/>
              </a:rPr>
              <a:t>Ficha de proyectos de un Plan Estratégico Informátic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de el punto de vista de las 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de el punto de vista de las áreas usua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p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ración estim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ye todas las fases, desde su generación hasta la puesta en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99"/>
                </a:solidFill>
                <a:latin typeface="Times New Roman"/>
              </a:rPr>
              <a:t>Ficha de proyectos de un Plan Estratégico Informátic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estim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 exte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rdware, software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rante el desarrollo, puesta en producción y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 del Departamento de 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ursos informá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internos de otros Departa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sonal en el desarro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ros recursos en el desarro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to de la puesta en p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paci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ministración del cambio en el pers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os en paralelo (por ejemp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strategia de una empres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 el objetivo que pretende lograr, así como las actividades que pretende desarrollar para lograr ese obje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objetivo se plantea en la forma de Visión y Mi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 actividades se describen el Plan Estratég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99"/>
                </a:solidFill>
                <a:latin typeface="Times New Roman"/>
              </a:rPr>
              <a:t>Ficha de proyectos de un Plan Estratégico Informátic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eneficios esper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uantificables y no cuantific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 el Departamento de Informá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 otros Departa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erequis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proyectos que se deben realizar en forma previa o paral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jemplos de soluciones / proveedores identific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cluso puede contener información específica de sus sol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Relación entre proyecto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antt de los proye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dentificación de prerequisi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yectos relacio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Mecanismos de control del Pla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ejo de 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do por personal de TIC y de áreas usua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rueban el plan y sus modific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ifican su cumpl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inan el Plan Informático con el de otras ár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be revisarse al menos una vez al añ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conjunto con el Plan Estratégico y las decisiones de cada á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Forma de elaborar el Pla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tir c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documentación de lo actualmente instalado y en 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l Plan Estratégico de la empr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btener una clara visión de la situación final dese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finir las directrices básicas para las 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dentificar los Gap (brechas) entre la situación deseada y la ac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dentificar la forma (proyectos) que se requiere para lograr el estado final dese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terminar la información relevante de cada u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rganizar los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cribir completamente el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btener su aprobación y apoy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ompra de sistemas o desarrollo propi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ontenid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as estánd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ernativa de desarrollo prop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novadores y segui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Soluciones estándar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la actualidad existen soluciones (SW) estándares para la mayoría de las necesidades de cualquier empre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compran a proveedores especializ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instalan con ayuda de estos mismos (u otros) provee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Soluciones estándar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jempl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stemas adminitrativos: SAP; PeopleSoft; Fin 700; Solomon; Oracle Financ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lación con clientes: Siebel; PeopleSo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dministración de Universidades: SCT; Datat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stemas de control automát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stemas de comunicac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stemas de control de redes eléctric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stemas para solucionar problemas matemátic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Soluciones estándar - Fortaleza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corporar las “best practices” de la indust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cesos claros y bien defin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enores discusiones en el proceso de implem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¡No se requiere “reinventar la rueda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lativamente bajo costo y tiempo de implem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demás se pueden estimar mej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án probadas y document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isminuye el costo de propiedad de las 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Soluciones estándar - Debilidad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pendiendo del nivel de sofisticación, puede no dar espacio a adaptaciones en cada emp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imina parte de la flexibilidad de desarrollos ad h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uede ser muy relevante si las mismas herramientas son usadas por compet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rmalmente requieren de consultoría externa para implementar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dría ser necesario entregar información confidencial de la estrategia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general son soluciones extranjeras que debe ser adaptadas a la realidad n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Visión de la Empres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 el sueño compartido que tiene la empre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unas empresas tiene Visión relacionada con la competenci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 líderes en nuestro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rotar a nuestro principal competi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ras visiones pretenden “transformar el mundo”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 cada hogar tenga un P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iminar la pobre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arrollar una nueva tecnolo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Soluciones estándar - Alternativa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alternativa es el desarrollo ad hoc de una solu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s fortalezas y debilidades son las opuestas a las soluciones estánd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justifican s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soluciones estándar aún es al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 existe una solución estándar (o no tiene respaldo loc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almente se requiere una flexibilidad no provista por ninguna solución estánd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Innovadores y seguidor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nova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ran y/o adaptan tempranamente tecnologías nue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eden entregar ofertas novedosas a sus clientes (también y a proveedores y otros soci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 una ventaja compet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gui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ran y/o adaptan solamente tecnologías madu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ores costos de imple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ores costos de imple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tecnología sobrev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Innovador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ienen, normalmente, diferentes herramientas integr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ificultan los upgrades y manten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quieren de más personal para las manten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No siempre la tecnología está madura o sobrev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gasta en proyectos que pueden resultar un fraca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n embargo, el mercado ha estado premiando a los innova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j: General Electric; Nokia; Wal-Mart; Falabel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Seguidor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s ofertas a los clientes (proveedores y socios) son menos innovado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ienen, normalmente, pocas herramientas bien integr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acilitan los upgrades y manten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quieren de menor personal para las manten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 una estrategia útil en industrias con baja compet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j: Distribución de ener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Introduc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838080" y="38862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ción entre TIC y estrategia de la empre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 Estratégico Informát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ra de sistemas o desarrollo prop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Misión de la empres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be el ámbito en que se desarrolla la empres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ograf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acterística bás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jemplo: Fabrica de reloj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s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ueremos convertirnos en un aliado de cada persona en el uso de su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abricar y vender en Estados Unidos y el mundo, relojes pulsera que sean de amplia aceptación, innovadores, elegantes y a precios accesibles, para personas que valoran su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la Visión y Misión se desprende la estrategia de la empres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ntaja Competi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 Estraté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99"/>
                </a:solidFill>
                <a:latin typeface="Times New Roman"/>
              </a:rPr>
              <a:t>Otra forma de establecer la Visión y Mis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dentificar los principales grupos relacionados con la empres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ocios / accion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li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mple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vee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Familiares de los emple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munidad (es) relacion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cada uno de estos grupos, se fijan objetivos concr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Objetivos generales y por gru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iterios éticos bás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Forma de enfrentar la competencia /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20:53:56Z</dcterms:created>
  <dc:creator>IBM_User</dc:creator>
  <dc:description/>
  <dc:language>en-US</dc:language>
  <cp:lastModifiedBy>adibiase</cp:lastModifiedBy>
  <dcterms:modified xsi:type="dcterms:W3CDTF">2007-07-25T15:41:57Z</dcterms:modified>
  <cp:revision>22</cp:revision>
  <dc:subject/>
  <dc:title>Diseño de Sistemas basados en Tecnologías de la Información y Comunicaciones</dc:title>
</cp:coreProperties>
</file>