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ACCF1E91-71E8-4ACA-9430-D2275C44AE65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7-25T15:35:09Z</dcterms:modified>
  <cp:revision>29</cp:revision>
  <dc:subject/>
  <dc:title>Diseño de Sistemas basados en Tecnologías de la Información y Comunicaciones</dc:title>
</cp:coreProperties>
</file>